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B943-1617-4244-9268-A8EDAE037B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EF1D-8E04-4BD2-8BBB-7B2905F8D927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5C5-1EDE-4B21-8ED4-6D240D2B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78C-3133-4457-BBB2-90518999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2A9-06F7-4E1D-AB4C-9384AACB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EEF-1E3D-4B92-BF74-4FC183A1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749-4569-467B-9D71-13D2C667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BA8-9B05-4567-9C4B-309218B4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003-438A-4ABC-8218-24520F8B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344-443C-4F4C-9340-079CA3A7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9FE-6288-4563-A2E0-9ADAA0EA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B79-B851-4C15-BDE7-90B99575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69A-18EC-44E4-8253-C189B1BD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6B4-0565-4E51-8E34-D30E949C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9E6B-9023-45E1-B5DB-7366DF3DAE53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AVCPASS: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Rivoluzione Informatica, gestione dei documenti e controllo dei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requisiti nelle gare di appal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Alberto Barbie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La Ripresa degli appalti pubbli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Milano – 25 ottobre 20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li documenti l’AVCPAss fornisce alla S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Mediante l’AVCPass la SA ottiene i documenti comprovanti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la maggior parte dei requisiti di ordine generale (visura Camera Commercio, casellario completo, ecc.)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i requisiti di capacità economica (bilanci, fatturati) e la maggior parte dei requisiti di capacità tecnica (numero dipendenti, ecc.)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4083-FB5C-44B2-95E0-B65F2B1B2B6F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Criticità su alcuni document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Relativamente alle attestazioni bancarie (se richieste come requisito di capacità economica) la deliberazione AVCP n. 111/2012 non fornisce alcuna indicazione in ordine alle modalità di inserimento nell’AVCPass e risulta prevalente la previsione dell’art. 41 del Codice che ne richiede la presentazione in origina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DC19-286A-4074-9ECF-BDAE3A34A65A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Come l’OE accede all’AVCPass/ 1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OE deve registrarsi nel sistema AVCPass (profilazion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accesso al sistema è quindi consentito mediante l’indicazione del CIG relativo alla gara/lotto alla quale l’OE intende partecip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sistema guida l’OE nell’introduzione dei documenti (mediante semplice allegazion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AB30-1441-4BCE-8A2C-4A77CF6643C3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</a:rPr>
              <a:t>Come l’OE accede all’AVCPass/ 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Una volta completate le operazioni di inserimento dei documenti comprovanti i requisiti richiesti, l’OE ottiene dal sistema AVCPass un documento di sintesi, il PASSO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PASSOE deve essere allegato alla documentazione amministrativa connessa all’istanza di partecipazione alla ga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49EC-8C2E-44BC-A705-C801266CDC77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Criticità particolar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inserimento dei documenti da parte dell’OE può avvenire solo sino al termine di scadenza delle offer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a mancata allegazione del PASSOE non è individuata come causa di esclusione nella deliberazione AVCP 111/2012 e nei bandi-tipo dell’AVCP, quindi un’eventuale esclusione può essere oggetto di ricors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D06F-B619-4217-81BD-65A515F7D2A5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ndo la SA utilizza l’AVCPa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a stazione appaltante è tenuta ad utilizzare l’AVCPass per la verifica dei requisiti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in corso di gara, per i controlli ex art. 48 e per i controlli (a campione) delle dichiarazioni ex art. 38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post aggiudicazione, in relazione all’efficacia della stessa e per la stipulazione del contrat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3D5F-E94A-442F-B683-06F2CACF6D99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Possibili problematiche transitori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e la SA necessita di elementi integrativi (ex art. 46, comma 1 Codice) rispetto ai  documenti presentati da OE, deve operare una richiesta che non può essere gestita mediante il sistema AVCPass, ma che sarà gestita mediante comunicazioni via PE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 caso di esclusioni in gara, è probabile che le comunicazioni di esclusione siano inoltrate via PEC (attenzione ad attestazione di ricevuta !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CD4B-19F2-4C93-A413-F97E12DB942E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Problematiche relative all’accesso ai document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Qualora un OE concorrente alla gara intenda acquisire  mediante diritto di accesso “breve” (art. 79) documenti inerenti i requisiti, deve rivolgere l’istanza alla S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 documenti saranno forniti come documenti informatici (copia) o come copie analogiche di documenti informatic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2447-995B-4A65-AE07-A1E16F974F44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Problematiche AVCPAss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l sistema AVCPass non è attualmente utilizzabile per verificare i requisiti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delle procedure di affidamento diretto entro i 40.000 euro;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- delle procedure gestite mediante il MEP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 SA devono essere molto precise nella descrizione dei documenti da presentar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3A08-16D5-4E78-9EBE-4CBCF38F545B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I riferimenti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Codice di contratti pubblici (art. 6-bis e art. 48) prevede ch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il controllo dei requisiti di ordine generale (riscontro dichiarazioni)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il controllo dei requisiti di capacità (economica e tecnica) degli operatori concorrenti alle gare sia effettuato mediante la Banca Dati Nazionale dei Contratti Pubblici (BDNCP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522A-4A4A-45A5-A0D7-824AAABC1F5F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A cosa serve l’AVCP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AVCPass è il sistema (informatico) che consent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alle Stazioni Appaltanti (SA) di accedere alla BDNCP per verificare il possesso dei requisiti da parte degli operatori economici (OE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agli OE di inserire i documenti comprovanti il possesso dei requisit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DD55-D0B2-4B61-9A61-8E78DB98B263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Le regole dell’AVCPas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L’AVCPass è disciplinato dalla deliberazione AVCP n. 111 del 20 dicembre 2012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La deliberazione prevede che inizialmente l’AVCPass sia utilizzato per tutti gli appalti, fatta eccezione per gli affidamenti entro i 40.000 euro e per le procedure mediante MEPA (prefigurando una regolamentazione successiva)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1D5C-DC79-4834-9FCD-81214FE74145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I tempi di operatività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a BDNCP deve essere utilizzata per il controllo di tutti i requisiti a partire dal 23 novembre 2013 (art. 49-ter legge n. 98/2013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AVCP aveva previsto l’operatività effettiva del sistema AVCPASS dal 1° gennaio 2014 (Comunicato Pres. AVCP 12 giugno 2013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d oggi non risulta formalizzata un’interpretazione AVCP di coordinamento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F093-78C1-4979-A2FA-3C14141A5D15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Per quali requisiti serve AVCPa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L’AVCPass non è utilizzabile (secondo quanto previsto dalla deliberazione AVCP 111/2012) per il controllo di tutte le tipologie di requisiti di ordine generale (alcuni documenti devono essere acquisiti autonomamente dalla SA)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Per i requisiti di capacità particolari la SA deve precisare quali documenti l’OE deve inserire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120B-DF5E-4881-9563-A62104471D57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Cosa serve all’OE per entrare nell’AVCPas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OE deve disporre di una casella di posta elettronica certificata (PEC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per l’amministratore/legale rappresentant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- per un operatore delegato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OE deve disporre di una firma digitale, con la quale firmare i documenti da inserire nell’AVCPA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1847-B657-4846-92C0-BF0DF5F8C0B7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li documenti inserire nell’AVCPass /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OE deve inserire nell’AVCPass i documenti relativi ai requisiti “ulteriori” di capacità economica o di capacità tecnico-professional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OE deve analizzare il bando/disciplinare di gara e verificare se questo specifica i documenti da inserire in relazione ai requisiti particolari (chiedendo eventuali chiarimenti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3DA6-198D-49F7-87A0-A4D94822CC40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</a:rPr>
              <a:t>Quali documenti inserire nell’AVCPass / 2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OE deve inserire nell’AVCPass </a:t>
            </a:r>
            <a:r>
              <a:rPr b="0" lang="it-IT" sz="3000" spc="-1" strike="noStrike" u="sng">
                <a:solidFill>
                  <a:srgbClr val="000000"/>
                </a:solidFill>
                <a:uFillTx/>
                <a:latin typeface="Verdana"/>
              </a:rPr>
              <a:t>in via transitoria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 documenti relativi ai servizi o alle forniture precedentemente prestati: attestazioni, certificazioni o, in alternativa, contratto, CIG e fatture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’ opportuno che l’OE richieda chiarimenti sulle modalità di attestazione dei servizi o delle forniture prestati per soggetti privati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Segnaposto data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25/10/201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C3A1-2098-4014-97DD-8E3365622F8B}" type="slidenum">
              <a:rPr b="0" lang="it-I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Verdana"/>
              </a:rPr>
              <a:t>A. Barbiero - Convegno Appalti Roga - Milan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20:00:54Z</dcterms:created>
  <dc:creator>Alberto Barbiero</dc:creator>
  <dc:description/>
  <dc:language>en-US</dc:language>
  <cp:lastModifiedBy>santolini.l</cp:lastModifiedBy>
  <dcterms:modified xsi:type="dcterms:W3CDTF">2014-01-22T08:21:09Z</dcterms:modified>
  <cp:revision>14</cp:revision>
  <dc:subject/>
  <dc:title>AVCPASS: Rivoluzione Informatica, gestione dei documenti e controllo dei requisiti nelle gare di appalto.</dc:title>
</cp:coreProperties>
</file>