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4.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 id="353" r:id="rId130"/>
    <p:sldId id="354" r:id="rId131"/>
    <p:sldId id="355" r:id="rId132"/>
    <p:sldId id="356" r:id="rId133"/>
    <p:sldId id="357" r:id="rId134"/>
    <p:sldId id="358" r:id="rId135"/>
    <p:sldId id="359" r:id="rId136"/>
    <p:sldId id="360" r:id="rId137"/>
    <p:sldId id="361" r:id="rId138"/>
    <p:sldId id="362" r:id="rId139"/>
    <p:sldId id="363" r:id="rId140"/>
    <p:sldId id="364" r:id="rId141"/>
    <p:sldId id="365" r:id="rId142"/>
    <p:sldId id="366" r:id="rId143"/>
    <p:sldId id="367" r:id="rId144"/>
    <p:sldId id="368" r:id="rId145"/>
    <p:sldId id="369" r:id="rId146"/>
    <p:sldId id="370" r:id="rId147"/>
    <p:sldId id="371" r:id="rId148"/>
    <p:sldId id="372" r:id="rId149"/>
    <p:sldId id="373" r:id="rId150"/>
    <p:sldId id="374" r:id="rId151"/>
    <p:sldId id="375" r:id="rId152"/>
    <p:sldId id="376" r:id="rId153"/>
    <p:sldId id="377" r:id="rId154"/>
    <p:sldId id="378" r:id="rId155"/>
    <p:sldId id="379"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slide" Target="slides/slide98.xml"/><Relationship Id="rId131" Type="http://schemas.openxmlformats.org/officeDocument/2006/relationships/slide" Target="slides/slide99.xml"/><Relationship Id="rId132" Type="http://schemas.openxmlformats.org/officeDocument/2006/relationships/slide" Target="slides/slide100.xml"/><Relationship Id="rId133" Type="http://schemas.openxmlformats.org/officeDocument/2006/relationships/slide" Target="slides/slide101.xml"/><Relationship Id="rId134" Type="http://schemas.openxmlformats.org/officeDocument/2006/relationships/slide" Target="slides/slide102.xml"/><Relationship Id="rId135" Type="http://schemas.openxmlformats.org/officeDocument/2006/relationships/slide" Target="slides/slide103.xml"/><Relationship Id="rId136" Type="http://schemas.openxmlformats.org/officeDocument/2006/relationships/slide" Target="slides/slide104.xml"/><Relationship Id="rId137" Type="http://schemas.openxmlformats.org/officeDocument/2006/relationships/slide" Target="slides/slide105.xml"/><Relationship Id="rId138" Type="http://schemas.openxmlformats.org/officeDocument/2006/relationships/slide" Target="slides/slide106.xml"/><Relationship Id="rId139" Type="http://schemas.openxmlformats.org/officeDocument/2006/relationships/slide" Target="slides/slide107.xml"/><Relationship Id="rId140" Type="http://schemas.openxmlformats.org/officeDocument/2006/relationships/slide" Target="slides/slide108.xml"/><Relationship Id="rId141" Type="http://schemas.openxmlformats.org/officeDocument/2006/relationships/slide" Target="slides/slide109.xml"/><Relationship Id="rId142" Type="http://schemas.openxmlformats.org/officeDocument/2006/relationships/slide" Target="slides/slide110.xml"/><Relationship Id="rId143" Type="http://schemas.openxmlformats.org/officeDocument/2006/relationships/slide" Target="slides/slide111.xml"/><Relationship Id="rId144" Type="http://schemas.openxmlformats.org/officeDocument/2006/relationships/slide" Target="slides/slide112.xml"/><Relationship Id="rId145" Type="http://schemas.openxmlformats.org/officeDocument/2006/relationships/slide" Target="slides/slide113.xml"/><Relationship Id="rId146" Type="http://schemas.openxmlformats.org/officeDocument/2006/relationships/slide" Target="slides/slide114.xml"/><Relationship Id="rId147" Type="http://schemas.openxmlformats.org/officeDocument/2006/relationships/slide" Target="slides/slide115.xml"/><Relationship Id="rId148" Type="http://schemas.openxmlformats.org/officeDocument/2006/relationships/slide" Target="slides/slide116.xml"/><Relationship Id="rId149" Type="http://schemas.openxmlformats.org/officeDocument/2006/relationships/slide" Target="slides/slide117.xml"/><Relationship Id="rId150" Type="http://schemas.openxmlformats.org/officeDocument/2006/relationships/slide" Target="slides/slide118.xml"/><Relationship Id="rId151" Type="http://schemas.openxmlformats.org/officeDocument/2006/relationships/slide" Target="slides/slide119.xml"/><Relationship Id="rId152" Type="http://schemas.openxmlformats.org/officeDocument/2006/relationships/slide" Target="slides/slide120.xml"/><Relationship Id="rId153" Type="http://schemas.openxmlformats.org/officeDocument/2006/relationships/slide" Target="slides/slide121.xml"/><Relationship Id="rId154" Type="http://schemas.openxmlformats.org/officeDocument/2006/relationships/slide" Target="slides/slide122.xml"/><Relationship Id="rId155" Type="http://schemas.openxmlformats.org/officeDocument/2006/relationships/slide" Target="slides/slide123.xml"/><Relationship Id="rId156" Type="http://schemas.openxmlformats.org/officeDocument/2006/relationships/slide" Target="slides/slide124.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rial Rounded MT Bold"/>
            </a:endParaRPr>
          </a:p>
        </p:txBody>
      </p:sp>
      <p:sp>
        <p:nvSpPr>
          <p:cNvPr id="131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1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1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2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132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2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323" name="PlaceHolder 3"/>
          <p:cNvSpPr>
            <a:spLocks noGrp="1"/>
          </p:cNvSpPr>
          <p:nvPr>
            <p:ph type="sldNum" idx="6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8E0F4D-2571-4D11-A68E-8E8C6923A13E}" type="slidenum">
              <a:rPr b="0" lang="it-IT" sz="1200" spc="-1" strike="noStrike">
                <a:solidFill>
                  <a:srgbClr val="000000"/>
                </a:solidFill>
                <a:latin typeface="Times New Roman"/>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CD16B-D8A3-48F5-935B-488F4341524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2" name="PlaceHolder 1"/>
          <p:cNvSpPr>
            <a:spLocks noGrp="1"/>
          </p:cNvSpPr>
          <p:nvPr>
            <p:ph type="sldImg"/>
          </p:nvPr>
        </p:nvSpPr>
        <p:spPr>
          <a:xfrm>
            <a:off x="1143000" y="685800"/>
            <a:ext cx="4572000" cy="3429000"/>
          </a:xfrm>
          <a:prstGeom prst="rect">
            <a:avLst/>
          </a:prstGeom>
          <a:ln w="0">
            <a:noFill/>
          </a:ln>
        </p:spPr>
      </p:sp>
      <p:sp>
        <p:nvSpPr>
          <p:cNvPr id="17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0A373-6566-4283-ACA7-02953744B71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71BA8-353A-4C5F-B686-EA65DE81216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BA645-308F-4CA4-9B45-7014CB20969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0F5B9-408E-429C-8504-8CB578429EB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5" name="PlaceHolder 1"/>
          <p:cNvSpPr>
            <a:spLocks noGrp="1"/>
          </p:cNvSpPr>
          <p:nvPr>
            <p:ph type="sldImg"/>
          </p:nvPr>
        </p:nvSpPr>
        <p:spPr>
          <a:xfrm>
            <a:off x="1143000" y="685800"/>
            <a:ext cx="4572000" cy="3429000"/>
          </a:xfrm>
          <a:prstGeom prst="rect">
            <a:avLst/>
          </a:prstGeom>
          <a:ln w="0">
            <a:noFill/>
          </a:ln>
        </p:spPr>
      </p:sp>
      <p:sp>
        <p:nvSpPr>
          <p:cNvPr id="20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00AA5-B097-4A7F-8C6E-B39EF12AEB6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6C4CB-E0CA-4E5F-A551-A6A0422D0D4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1" name="PlaceHolder 1"/>
          <p:cNvSpPr>
            <a:spLocks noGrp="1"/>
          </p:cNvSpPr>
          <p:nvPr>
            <p:ph type="sldImg"/>
          </p:nvPr>
        </p:nvSpPr>
        <p:spPr>
          <a:xfrm>
            <a:off x="1143000" y="685800"/>
            <a:ext cx="4572000" cy="3429000"/>
          </a:xfrm>
          <a:prstGeom prst="rect">
            <a:avLst/>
          </a:prstGeom>
          <a:ln w="0">
            <a:noFill/>
          </a:ln>
        </p:spPr>
      </p:sp>
      <p:sp>
        <p:nvSpPr>
          <p:cNvPr id="20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CDEF85-2449-4628-844E-71D122941B8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C334D-9889-4474-80D1-CC13E40D25B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97" name="PlaceHolder 1"/>
          <p:cNvSpPr>
            <a:spLocks noGrp="1"/>
          </p:cNvSpPr>
          <p:nvPr>
            <p:ph type="sldImg"/>
          </p:nvPr>
        </p:nvSpPr>
        <p:spPr>
          <a:xfrm>
            <a:off x="1143000" y="685800"/>
            <a:ext cx="4572000" cy="3429000"/>
          </a:xfrm>
          <a:prstGeom prst="rect">
            <a:avLst/>
          </a:prstGeom>
          <a:ln w="0">
            <a:noFill/>
          </a:ln>
        </p:spPr>
      </p:sp>
      <p:sp>
        <p:nvSpPr>
          <p:cNvPr id="209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60A40-BB5A-4BE1-AB4B-170E95C685E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38D68-06D1-435B-AD94-C9A9CE8912A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3" name="PlaceHolder 1"/>
          <p:cNvSpPr>
            <a:spLocks noGrp="1"/>
          </p:cNvSpPr>
          <p:nvPr>
            <p:ph type="sldImg"/>
          </p:nvPr>
        </p:nvSpPr>
        <p:spPr>
          <a:xfrm>
            <a:off x="1143000" y="685800"/>
            <a:ext cx="4572000" cy="3429000"/>
          </a:xfrm>
          <a:prstGeom prst="rect">
            <a:avLst/>
          </a:prstGeom>
          <a:ln w="0">
            <a:noFill/>
          </a:ln>
        </p:spPr>
      </p:sp>
      <p:sp>
        <p:nvSpPr>
          <p:cNvPr id="21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A70A4-2956-40E7-9A41-CF6C8A96CFF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2" name="PlaceHolder 1"/>
          <p:cNvSpPr>
            <a:spLocks noGrp="1"/>
          </p:cNvSpPr>
          <p:nvPr>
            <p:ph type="sldImg"/>
          </p:nvPr>
        </p:nvSpPr>
        <p:spPr>
          <a:xfrm>
            <a:off x="1143000" y="685800"/>
            <a:ext cx="4572000" cy="3429000"/>
          </a:xfrm>
          <a:prstGeom prst="rect">
            <a:avLst/>
          </a:prstGeom>
          <a:ln w="0">
            <a:noFill/>
          </a:ln>
        </p:spPr>
      </p:sp>
      <p:sp>
        <p:nvSpPr>
          <p:cNvPr id="18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94462-9BBF-464D-BE21-C8B33D4F185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7717A9-B622-43F1-BEEE-97CEB471982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E13210-60EF-4D5F-8FAA-7B9CA3298DBC}"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87EEF9-EC1D-4E31-9CCD-90A3DB84E33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3" name="PlaceHolder 1"/>
          <p:cNvSpPr>
            <a:spLocks noGrp="1"/>
          </p:cNvSpPr>
          <p:nvPr>
            <p:ph type="sldImg"/>
          </p:nvPr>
        </p:nvSpPr>
        <p:spPr>
          <a:xfrm>
            <a:off x="1143000" y="685800"/>
            <a:ext cx="4572000" cy="3429000"/>
          </a:xfrm>
          <a:prstGeom prst="rect">
            <a:avLst/>
          </a:prstGeom>
          <a:ln w="0">
            <a:noFill/>
          </a:ln>
        </p:spPr>
      </p:sp>
      <p:sp>
        <p:nvSpPr>
          <p:cNvPr id="21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C55AF-447F-48CA-B4F6-9CE54ECA2CC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97382-C8BC-4922-8F98-8BB4EBDE318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19" name="PlaceHolder 1"/>
          <p:cNvSpPr>
            <a:spLocks noGrp="1"/>
          </p:cNvSpPr>
          <p:nvPr>
            <p:ph type="sldImg"/>
          </p:nvPr>
        </p:nvSpPr>
        <p:spPr>
          <a:xfrm>
            <a:off x="1143000" y="685800"/>
            <a:ext cx="4572000" cy="3429000"/>
          </a:xfrm>
          <a:prstGeom prst="rect">
            <a:avLst/>
          </a:prstGeom>
          <a:ln w="0">
            <a:noFill/>
          </a:ln>
        </p:spPr>
      </p:sp>
      <p:sp>
        <p:nvSpPr>
          <p:cNvPr id="21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53142-3AAB-4ECF-8018-430F7AE87BD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0FB28-722C-4B97-8744-B4F9D54FDCA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775FD-6A69-4DCF-8DE3-6FD20035180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28" name="PlaceHolder 1"/>
          <p:cNvSpPr>
            <a:spLocks noGrp="1"/>
          </p:cNvSpPr>
          <p:nvPr>
            <p:ph type="sldImg"/>
          </p:nvPr>
        </p:nvSpPr>
        <p:spPr>
          <a:xfrm>
            <a:off x="1143000" y="685800"/>
            <a:ext cx="457200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13F9BC-0ED6-4324-853E-8698DACCD9E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A9475-B03E-4D04-89B1-20C1CB78477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5D081-4130-4DF5-AE79-F9A50AFC5AD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5C124-A9E7-4077-B228-1A68DA9C807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18A43-7F69-4F70-BCC1-83DC9D63171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C11BD-403C-46B9-8473-E3A4CBDF829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3" name="PlaceHolder 1"/>
          <p:cNvSpPr>
            <a:spLocks noGrp="1"/>
          </p:cNvSpPr>
          <p:nvPr>
            <p:ph type="sldImg"/>
          </p:nvPr>
        </p:nvSpPr>
        <p:spPr>
          <a:xfrm>
            <a:off x="1143000" y="685800"/>
            <a:ext cx="4572000" cy="3429000"/>
          </a:xfrm>
          <a:prstGeom prst="rect">
            <a:avLst/>
          </a:prstGeom>
          <a:ln w="0">
            <a:noFill/>
          </a:ln>
        </p:spPr>
      </p:sp>
      <p:sp>
        <p:nvSpPr>
          <p:cNvPr id="21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69E2F-0322-4075-92F4-01132CB5DAE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A7569-6782-4F88-AF0D-7D4E5F23C41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149" name="PlaceHolder 1"/>
          <p:cNvSpPr>
            <a:spLocks noGrp="1"/>
          </p:cNvSpPr>
          <p:nvPr>
            <p:ph type="sldImg"/>
          </p:nvPr>
        </p:nvSpPr>
        <p:spPr>
          <a:xfrm>
            <a:off x="1143000" y="685800"/>
            <a:ext cx="4572000" cy="3429000"/>
          </a:xfrm>
          <a:prstGeom prst="rect">
            <a:avLst/>
          </a:prstGeom>
          <a:ln w="0">
            <a:noFill/>
          </a:ln>
        </p:spPr>
      </p:sp>
      <p:sp>
        <p:nvSpPr>
          <p:cNvPr id="21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EBEAB-A316-4369-9C33-B43A48C65EC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FDE3B5-FECD-4806-9AAD-BC86E15E25C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1C963-3453-4409-BE09-D0C6FF94401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F32C8-B1F1-41A9-8594-EB3FC55DB45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B8C62-5404-464A-B976-B5E54608879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A9AA4-4369-4850-8DE8-288ED2B9202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F45E0-5108-4735-BC87-A103804FDC4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0AD622-1DD7-40EF-AF41-ABBCF4A4976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7562A-EDFE-45A2-B6E5-ADE65153079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4778DB-7CB0-42F8-A0AF-7D48613FDC3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2" name="PlaceHolder 1"/>
          <p:cNvSpPr>
            <a:spLocks noGrp="1"/>
          </p:cNvSpPr>
          <p:nvPr>
            <p:ph type="sldImg"/>
          </p:nvPr>
        </p:nvSpPr>
        <p:spPr>
          <a:xfrm>
            <a:off x="1143000" y="685800"/>
            <a:ext cx="4572000" cy="3429000"/>
          </a:xfrm>
          <a:prstGeom prst="rect">
            <a:avLst/>
          </a:prstGeom>
          <a:ln w="0">
            <a:noFill/>
          </a:ln>
        </p:spPr>
      </p:sp>
      <p:sp>
        <p:nvSpPr>
          <p:cNvPr id="18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7BBD1-AEFD-40F6-9A50-0612C167F83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4E3A9-333D-4513-BF44-792D4CDC4A9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58" name="PlaceHolder 1"/>
          <p:cNvSpPr>
            <a:spLocks noGrp="1"/>
          </p:cNvSpPr>
          <p:nvPr>
            <p:ph type="sldImg"/>
          </p:nvPr>
        </p:nvSpPr>
        <p:spPr>
          <a:xfrm>
            <a:off x="1143000" y="685800"/>
            <a:ext cx="4572000" cy="3429000"/>
          </a:xfrm>
          <a:prstGeom prst="rect">
            <a:avLst/>
          </a:prstGeom>
          <a:ln w="0">
            <a:noFill/>
          </a:ln>
        </p:spPr>
      </p:sp>
      <p:sp>
        <p:nvSpPr>
          <p:cNvPr id="18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3C7C3-9656-4B10-9E7B-4D8EAACDABC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82301-DB6E-4B17-8DAC-665BB6BB796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4" name="PlaceHolder 1"/>
          <p:cNvSpPr>
            <a:spLocks noGrp="1"/>
          </p:cNvSpPr>
          <p:nvPr>
            <p:ph type="sldImg"/>
          </p:nvPr>
        </p:nvSpPr>
        <p:spPr>
          <a:xfrm>
            <a:off x="1143000" y="685800"/>
            <a:ext cx="4572000" cy="3429000"/>
          </a:xfrm>
          <a:prstGeom prst="rect">
            <a:avLst/>
          </a:prstGeom>
          <a:ln w="0">
            <a:noFill/>
          </a:ln>
        </p:spPr>
      </p:sp>
      <p:sp>
        <p:nvSpPr>
          <p:cNvPr id="18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F2A7A-3016-43DD-846C-D18483D194C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7D340-ACF7-4BF0-A5AF-A325E5C9404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0" name="PlaceHolder 1"/>
          <p:cNvSpPr>
            <a:spLocks noGrp="1"/>
          </p:cNvSpPr>
          <p:nvPr>
            <p:ph type="sldImg"/>
          </p:nvPr>
        </p:nvSpPr>
        <p:spPr>
          <a:xfrm>
            <a:off x="1143000" y="685800"/>
            <a:ext cx="4572000" cy="3429000"/>
          </a:xfrm>
          <a:prstGeom prst="rect">
            <a:avLst/>
          </a:prstGeom>
          <a:ln w="0">
            <a:noFill/>
          </a:ln>
        </p:spPr>
      </p:sp>
      <p:sp>
        <p:nvSpPr>
          <p:cNvPr id="18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FE322-F97E-4884-B780-82C213950EB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10B1D-E81F-4CDC-8C17-FF28FA0E21E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6" name="PlaceHolder 1"/>
          <p:cNvSpPr>
            <a:spLocks noGrp="1"/>
          </p:cNvSpPr>
          <p:nvPr>
            <p:ph type="sldImg"/>
          </p:nvPr>
        </p:nvSpPr>
        <p:spPr>
          <a:xfrm>
            <a:off x="1143000" y="685800"/>
            <a:ext cx="4572000" cy="3429000"/>
          </a:xfrm>
          <a:prstGeom prst="rect">
            <a:avLst/>
          </a:prstGeom>
          <a:ln w="0">
            <a:noFill/>
          </a:ln>
        </p:spPr>
      </p:sp>
      <p:sp>
        <p:nvSpPr>
          <p:cNvPr id="18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D97E0-C54E-4F9B-B4CC-F43AE179686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798" name="PlaceHolder 1"/>
          <p:cNvSpPr>
            <a:spLocks noGrp="1"/>
          </p:cNvSpPr>
          <p:nvPr>
            <p:ph type="sldImg"/>
          </p:nvPr>
        </p:nvSpPr>
        <p:spPr>
          <a:xfrm>
            <a:off x="1143000" y="685800"/>
            <a:ext cx="4572000" cy="3429000"/>
          </a:xfrm>
          <a:prstGeom prst="rect">
            <a:avLst/>
          </a:prstGeom>
          <a:ln w="0">
            <a:noFill/>
          </a:ln>
        </p:spPr>
      </p:sp>
      <p:sp>
        <p:nvSpPr>
          <p:cNvPr id="17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E8F6E-F075-4534-A297-3A99A31CB49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757E2E-7AD9-4C3E-BBE0-B65D5FF7D55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2" name="PlaceHolder 1"/>
          <p:cNvSpPr>
            <a:spLocks noGrp="1"/>
          </p:cNvSpPr>
          <p:nvPr>
            <p:ph type="sldImg"/>
          </p:nvPr>
        </p:nvSpPr>
        <p:spPr>
          <a:xfrm>
            <a:off x="1143000" y="685800"/>
            <a:ext cx="4572000" cy="3429000"/>
          </a:xfrm>
          <a:prstGeom prst="rect">
            <a:avLst/>
          </a:prstGeom>
          <a:ln w="0">
            <a:noFill/>
          </a:ln>
        </p:spPr>
      </p:sp>
      <p:sp>
        <p:nvSpPr>
          <p:cNvPr id="18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5D7B9-51C7-4390-B8E6-84C8789F0A2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B75F4-A982-4761-A20F-0EEB06EB8C2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88" name="PlaceHolder 1"/>
          <p:cNvSpPr>
            <a:spLocks noGrp="1"/>
          </p:cNvSpPr>
          <p:nvPr>
            <p:ph type="sldImg"/>
          </p:nvPr>
        </p:nvSpPr>
        <p:spPr>
          <a:xfrm>
            <a:off x="1143000" y="685800"/>
            <a:ext cx="4572000" cy="3429000"/>
          </a:xfrm>
          <a:prstGeom prst="rect">
            <a:avLst/>
          </a:prstGeom>
          <a:ln w="0">
            <a:noFill/>
          </a:ln>
        </p:spPr>
      </p:sp>
      <p:sp>
        <p:nvSpPr>
          <p:cNvPr id="18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D44955-DB88-421A-98EF-102F09DEEA4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CCA02-74A5-473E-A177-760CE0045EB1}"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75E82D-A652-46F0-8580-D5FF0F61925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62DB6-7324-48B8-8031-92E1412B757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98" name="PlaceHolder 1"/>
          <p:cNvSpPr>
            <a:spLocks noGrp="1"/>
          </p:cNvSpPr>
          <p:nvPr>
            <p:ph type="sldImg"/>
          </p:nvPr>
        </p:nvSpPr>
        <p:spPr>
          <a:xfrm>
            <a:off x="1143000" y="685800"/>
            <a:ext cx="4572000" cy="3429000"/>
          </a:xfrm>
          <a:prstGeom prst="rect">
            <a:avLst/>
          </a:prstGeom>
          <a:ln w="0">
            <a:noFill/>
          </a:ln>
        </p:spPr>
      </p:sp>
      <p:sp>
        <p:nvSpPr>
          <p:cNvPr id="18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BF7984-1835-44F3-B7A2-3B2E5D39E3F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BDB8A-1D7E-4918-8047-8501D9248C3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4" name="PlaceHolder 1"/>
          <p:cNvSpPr>
            <a:spLocks noGrp="1"/>
          </p:cNvSpPr>
          <p:nvPr>
            <p:ph type="sldImg"/>
          </p:nvPr>
        </p:nvSpPr>
        <p:spPr>
          <a:xfrm>
            <a:off x="1143000" y="685800"/>
            <a:ext cx="4572000" cy="3429000"/>
          </a:xfrm>
          <a:prstGeom prst="rect">
            <a:avLst/>
          </a:prstGeom>
          <a:ln w="0">
            <a:noFill/>
          </a:ln>
        </p:spPr>
      </p:sp>
      <p:sp>
        <p:nvSpPr>
          <p:cNvPr id="19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BBDFD8-42B0-49AF-AC03-0311A368001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07" name="PlaceHolder 1"/>
          <p:cNvSpPr>
            <a:spLocks noGrp="1"/>
          </p:cNvSpPr>
          <p:nvPr>
            <p:ph type="sldImg"/>
          </p:nvPr>
        </p:nvSpPr>
        <p:spPr>
          <a:xfrm>
            <a:off x="1143000" y="685800"/>
            <a:ext cx="4572000" cy="3429000"/>
          </a:xfrm>
          <a:prstGeom prst="rect">
            <a:avLst/>
          </a:prstGeom>
          <a:ln w="0">
            <a:noFill/>
          </a:ln>
        </p:spPr>
      </p:sp>
      <p:sp>
        <p:nvSpPr>
          <p:cNvPr id="19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A365D-DAA4-4B27-989F-7DB9BE3C142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463EA-6B24-4D6B-8028-C7E2749310F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0" name="PlaceHolder 1"/>
          <p:cNvSpPr>
            <a:spLocks noGrp="1"/>
          </p:cNvSpPr>
          <p:nvPr>
            <p:ph type="sldImg"/>
          </p:nvPr>
        </p:nvSpPr>
        <p:spPr>
          <a:xfrm>
            <a:off x="1143000" y="685800"/>
            <a:ext cx="4572000" cy="3429000"/>
          </a:xfrm>
          <a:prstGeom prst="rect">
            <a:avLst/>
          </a:prstGeom>
          <a:ln w="0">
            <a:noFill/>
          </a:ln>
        </p:spPr>
      </p:sp>
      <p:sp>
        <p:nvSpPr>
          <p:cNvPr id="19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589FE-CE59-4CC2-A193-FDF9E4933DC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3" name="PlaceHolder 1"/>
          <p:cNvSpPr>
            <a:spLocks noGrp="1"/>
          </p:cNvSpPr>
          <p:nvPr>
            <p:ph type="sldImg"/>
          </p:nvPr>
        </p:nvSpPr>
        <p:spPr>
          <a:xfrm>
            <a:off x="1143000" y="685800"/>
            <a:ext cx="4572000" cy="3429000"/>
          </a:xfrm>
          <a:prstGeom prst="rect">
            <a:avLst/>
          </a:prstGeom>
          <a:ln w="0">
            <a:noFill/>
          </a:ln>
        </p:spPr>
      </p:sp>
      <p:sp>
        <p:nvSpPr>
          <p:cNvPr id="19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D19A2-BE95-45D3-852E-65A31502242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6" name="PlaceHolder 1"/>
          <p:cNvSpPr>
            <a:spLocks noGrp="1"/>
          </p:cNvSpPr>
          <p:nvPr>
            <p:ph type="sldImg"/>
          </p:nvPr>
        </p:nvSpPr>
        <p:spPr>
          <a:xfrm>
            <a:off x="1143000" y="685800"/>
            <a:ext cx="4572000" cy="3429000"/>
          </a:xfrm>
          <a:prstGeom prst="rect">
            <a:avLst/>
          </a:prstGeom>
          <a:ln w="0">
            <a:noFill/>
          </a:ln>
        </p:spPr>
      </p:sp>
      <p:sp>
        <p:nvSpPr>
          <p:cNvPr id="19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D44566-344F-4F03-8989-92550BB3BDD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6F420-67E4-4B4C-837B-428D970AD72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46EF2E-BEBB-4202-8804-C5DB0DE0CC4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59C1B-D50A-4F7E-AC1D-6A10548C4A2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56E43-DE40-4F7A-AC65-6E748D56F55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27D62-6CCA-4846-BECA-BADEEA06261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BBFD9-1B13-41A8-8B8C-2F02EED4D18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B4539-A984-4FBF-A704-C7689D74470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4" name="PlaceHolder 1"/>
          <p:cNvSpPr>
            <a:spLocks noGrp="1"/>
          </p:cNvSpPr>
          <p:nvPr>
            <p:ph type="sldImg"/>
          </p:nvPr>
        </p:nvSpPr>
        <p:spPr>
          <a:xfrm>
            <a:off x="1143000" y="685800"/>
            <a:ext cx="4572000" cy="3429000"/>
          </a:xfrm>
          <a:prstGeom prst="rect">
            <a:avLst/>
          </a:prstGeom>
          <a:ln w="0">
            <a:noFill/>
          </a:ln>
        </p:spPr>
      </p:sp>
      <p:sp>
        <p:nvSpPr>
          <p:cNvPr id="18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C408E5-6301-4502-AD1E-D337AF7302A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F305B3-9CDC-44BC-8696-6AFEB9C552C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2D6A9-4300-4477-9D24-C2780D9C130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A5350-19F5-4295-B732-B76EA77289A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8DBC22-7CB5-47A1-925B-B0948BA95B4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22C35-F6E5-46B1-B8BA-6EDAB3FDAD1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5B6F1-31D2-46D1-8B77-A2FDDE0662C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F9961-0188-454E-9F10-72CB137BAF6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D27755-DFFC-4CF0-85E9-16C72148392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C92B0-3BD1-450E-965C-3E71DE2F45E8}"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26B4C-8563-4A00-87CA-9805FA41766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96D0D-767B-4FC7-A5C7-FE7F36094BC3}"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D6920-5827-4D6B-A45D-E633BC86DEF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5A035-841C-48C1-AF4D-B84EA307233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7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6F8FC-47D9-4CB2-A6F0-97830742CC42}" type="slidenum">
              <a:rPr b="0" lang="it-IT" sz="1200" spc="-1" strike="noStrike">
                <a:solidFill>
                  <a:srgbClr val="ffffff"/>
                </a:solidFill>
                <a:latin typeface="Times New Roman"/>
              </a:rPr>
              <a:t>&lt;number&gt;</a:t>
            </a:fld>
            <a:endParaRPr b="0" lang="en-US" sz="1200" spc="-1" strike="noStrike">
              <a:solidFill>
                <a:srgbClr val="ffffff"/>
              </a:solidFill>
              <a:latin typeface="Arial Rounded MT Bol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93110-44C7-4552-8A24-7DAD47B2545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C11B3-2AA9-4A98-B05D-CE4B8C5E08B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3" name="PlaceHolder 1"/>
          <p:cNvSpPr>
            <a:spLocks noGrp="1"/>
          </p:cNvSpPr>
          <p:nvPr>
            <p:ph type="sldImg"/>
          </p:nvPr>
        </p:nvSpPr>
        <p:spPr>
          <a:xfrm>
            <a:off x="1143000" y="685800"/>
            <a:ext cx="4572000" cy="3429000"/>
          </a:xfrm>
          <a:prstGeom prst="rect">
            <a:avLst/>
          </a:prstGeom>
          <a:ln w="0">
            <a:noFill/>
          </a:ln>
        </p:spPr>
      </p:sp>
      <p:sp>
        <p:nvSpPr>
          <p:cNvPr id="19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02FA3-F7AB-4657-B185-754C4062E60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D9BBF-CD48-4ED7-A2EA-E459EED5414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89" name="PlaceHolder 1"/>
          <p:cNvSpPr>
            <a:spLocks noGrp="1"/>
          </p:cNvSpPr>
          <p:nvPr>
            <p:ph type="sldImg"/>
          </p:nvPr>
        </p:nvSpPr>
        <p:spPr>
          <a:xfrm>
            <a:off x="1143000" y="685800"/>
            <a:ext cx="4572000" cy="3429000"/>
          </a:xfrm>
          <a:prstGeom prst="rect">
            <a:avLst/>
          </a:prstGeom>
          <a:ln w="0">
            <a:noFill/>
          </a:ln>
        </p:spPr>
      </p:sp>
      <p:sp>
        <p:nvSpPr>
          <p:cNvPr id="19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4D1F1D-5F20-4272-A00E-9C7F403B23F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FA383-3E5C-4011-9B1C-ACFA0CCFB62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5" name="PlaceHolder 1"/>
          <p:cNvSpPr>
            <a:spLocks noGrp="1"/>
          </p:cNvSpPr>
          <p:nvPr>
            <p:ph type="sldImg"/>
          </p:nvPr>
        </p:nvSpPr>
        <p:spPr>
          <a:xfrm>
            <a:off x="1143000" y="685800"/>
            <a:ext cx="4572000" cy="3429000"/>
          </a:xfrm>
          <a:prstGeom prst="rect">
            <a:avLst/>
          </a:prstGeom>
          <a:ln w="0">
            <a:noFill/>
          </a:ln>
        </p:spPr>
      </p:sp>
      <p:sp>
        <p:nvSpPr>
          <p:cNvPr id="19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F8730-9E63-4E9E-BD95-35C76A759D2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0" name="PlaceHolder 1"/>
          <p:cNvSpPr>
            <a:spLocks noGrp="1"/>
          </p:cNvSpPr>
          <p:nvPr>
            <p:ph type="sldImg"/>
          </p:nvPr>
        </p:nvSpPr>
        <p:spPr>
          <a:xfrm>
            <a:off x="1143000" y="685800"/>
            <a:ext cx="4572000" cy="3429000"/>
          </a:xfrm>
          <a:prstGeom prst="rect">
            <a:avLst/>
          </a:prstGeom>
          <a:ln w="0">
            <a:noFill/>
          </a:ln>
        </p:spPr>
      </p:sp>
      <p:sp>
        <p:nvSpPr>
          <p:cNvPr id="18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A1686-96B2-4935-A318-A922B7953039}"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998" name="PlaceHolder 1"/>
          <p:cNvSpPr>
            <a:spLocks noGrp="1"/>
          </p:cNvSpPr>
          <p:nvPr>
            <p:ph type="sldImg"/>
          </p:nvPr>
        </p:nvSpPr>
        <p:spPr>
          <a:xfrm>
            <a:off x="1143000" y="685800"/>
            <a:ext cx="4572000" cy="3429000"/>
          </a:xfrm>
          <a:prstGeom prst="rect">
            <a:avLst/>
          </a:prstGeom>
          <a:ln w="0">
            <a:noFill/>
          </a:ln>
        </p:spPr>
      </p:sp>
      <p:sp>
        <p:nvSpPr>
          <p:cNvPr id="19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906D9-6A37-44ED-9644-98ACDC8BE27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1" name="PlaceHolder 1"/>
          <p:cNvSpPr>
            <a:spLocks noGrp="1"/>
          </p:cNvSpPr>
          <p:nvPr>
            <p:ph type="sldImg"/>
          </p:nvPr>
        </p:nvSpPr>
        <p:spPr>
          <a:xfrm>
            <a:off x="1143000" y="685800"/>
            <a:ext cx="4572000" cy="3429000"/>
          </a:xfrm>
          <a:prstGeom prst="rect">
            <a:avLst/>
          </a:prstGeom>
          <a:ln w="0">
            <a:noFill/>
          </a:ln>
        </p:spPr>
      </p:sp>
      <p:sp>
        <p:nvSpPr>
          <p:cNvPr id="20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7F7FA-A6DD-4F2E-A636-6062C9769A6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4" name="PlaceHolder 1"/>
          <p:cNvSpPr>
            <a:spLocks noGrp="1"/>
          </p:cNvSpPr>
          <p:nvPr>
            <p:ph type="sldImg"/>
          </p:nvPr>
        </p:nvSpPr>
        <p:spPr>
          <a:xfrm>
            <a:off x="1143000" y="685800"/>
            <a:ext cx="4572000" cy="3429000"/>
          </a:xfrm>
          <a:prstGeom prst="rect">
            <a:avLst/>
          </a:prstGeom>
          <a:ln w="0">
            <a:noFill/>
          </a:ln>
        </p:spPr>
      </p:sp>
      <p:sp>
        <p:nvSpPr>
          <p:cNvPr id="20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2E766-4819-4310-99E4-08F252FACD5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07" name="PlaceHolder 1"/>
          <p:cNvSpPr>
            <a:spLocks noGrp="1"/>
          </p:cNvSpPr>
          <p:nvPr>
            <p:ph type="sldImg"/>
          </p:nvPr>
        </p:nvSpPr>
        <p:spPr>
          <a:xfrm>
            <a:off x="1143000" y="685800"/>
            <a:ext cx="4572000" cy="3429000"/>
          </a:xfrm>
          <a:prstGeom prst="rect">
            <a:avLst/>
          </a:prstGeom>
          <a:ln w="0">
            <a:noFill/>
          </a:ln>
        </p:spPr>
      </p:sp>
      <p:sp>
        <p:nvSpPr>
          <p:cNvPr id="20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10864-CE57-4683-9B1C-0B86224515E5}"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0" name="PlaceHolder 1"/>
          <p:cNvSpPr>
            <a:spLocks noGrp="1"/>
          </p:cNvSpPr>
          <p:nvPr>
            <p:ph type="sldImg"/>
          </p:nvPr>
        </p:nvSpPr>
        <p:spPr>
          <a:xfrm>
            <a:off x="1143000" y="685800"/>
            <a:ext cx="4572000" cy="3429000"/>
          </a:xfrm>
          <a:prstGeom prst="rect">
            <a:avLst/>
          </a:prstGeom>
          <a:ln w="0">
            <a:noFill/>
          </a:ln>
        </p:spPr>
      </p:sp>
      <p:sp>
        <p:nvSpPr>
          <p:cNvPr id="20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68995-F3B6-4C0B-A6B0-3B1B3EB8D2F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3" name="PlaceHolder 1"/>
          <p:cNvSpPr>
            <a:spLocks noGrp="1"/>
          </p:cNvSpPr>
          <p:nvPr>
            <p:ph type="sldImg"/>
          </p:nvPr>
        </p:nvSpPr>
        <p:spPr>
          <a:xfrm>
            <a:off x="1143000" y="685800"/>
            <a:ext cx="4572000" cy="3429000"/>
          </a:xfrm>
          <a:prstGeom prst="rect">
            <a:avLst/>
          </a:prstGeom>
          <a:ln w="0">
            <a:noFill/>
          </a:ln>
        </p:spPr>
      </p:sp>
      <p:sp>
        <p:nvSpPr>
          <p:cNvPr id="20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B5E84-F228-4C5E-A5E6-8E3C7982519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6" name="PlaceHolder 1"/>
          <p:cNvSpPr>
            <a:spLocks noGrp="1"/>
          </p:cNvSpPr>
          <p:nvPr>
            <p:ph type="sldImg"/>
          </p:nvPr>
        </p:nvSpPr>
        <p:spPr>
          <a:xfrm>
            <a:off x="1143000" y="685800"/>
            <a:ext cx="4572000" cy="3429000"/>
          </a:xfrm>
          <a:prstGeom prst="rect">
            <a:avLst/>
          </a:prstGeom>
          <a:ln w="0">
            <a:noFill/>
          </a:ln>
        </p:spPr>
      </p:sp>
      <p:sp>
        <p:nvSpPr>
          <p:cNvPr id="20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CA25F-10FF-42A0-8BCD-ED504561EF9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19" name="PlaceHolder 1"/>
          <p:cNvSpPr>
            <a:spLocks noGrp="1"/>
          </p:cNvSpPr>
          <p:nvPr>
            <p:ph type="sldImg"/>
          </p:nvPr>
        </p:nvSpPr>
        <p:spPr>
          <a:xfrm>
            <a:off x="1143000" y="685800"/>
            <a:ext cx="4572000" cy="3429000"/>
          </a:xfrm>
          <a:prstGeom prst="rect">
            <a:avLst/>
          </a:prstGeom>
          <a:ln w="0">
            <a:noFill/>
          </a:ln>
        </p:spPr>
      </p:sp>
      <p:sp>
        <p:nvSpPr>
          <p:cNvPr id="20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2701FA-0655-4344-9E40-076EE73A9D1C}"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3" name="PlaceHolder 1"/>
          <p:cNvSpPr>
            <a:spLocks noGrp="1"/>
          </p:cNvSpPr>
          <p:nvPr>
            <p:ph type="sldImg"/>
          </p:nvPr>
        </p:nvSpPr>
        <p:spPr>
          <a:xfrm>
            <a:off x="1143000" y="685800"/>
            <a:ext cx="4572000" cy="3429000"/>
          </a:xfrm>
          <a:prstGeom prst="rect">
            <a:avLst/>
          </a:prstGeom>
          <a:ln w="0">
            <a:noFill/>
          </a:ln>
        </p:spPr>
      </p:sp>
      <p:sp>
        <p:nvSpPr>
          <p:cNvPr id="18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9714F-B635-4BF0-97DE-9E2CA6BBB256}"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2" name="PlaceHolder 1"/>
          <p:cNvSpPr>
            <a:spLocks noGrp="1"/>
          </p:cNvSpPr>
          <p:nvPr>
            <p:ph type="sldImg"/>
          </p:nvPr>
        </p:nvSpPr>
        <p:spPr>
          <a:xfrm>
            <a:off x="1143000" y="685800"/>
            <a:ext cx="4572000" cy="3429000"/>
          </a:xfrm>
          <a:prstGeom prst="rect">
            <a:avLst/>
          </a:prstGeom>
          <a:ln w="0">
            <a:noFill/>
          </a:ln>
        </p:spPr>
      </p:sp>
      <p:sp>
        <p:nvSpPr>
          <p:cNvPr id="20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D8451-E9C7-46FB-AE68-1FA1EDAA6BF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5" name="PlaceHolder 1"/>
          <p:cNvSpPr>
            <a:spLocks noGrp="1"/>
          </p:cNvSpPr>
          <p:nvPr>
            <p:ph type="sldImg"/>
          </p:nvPr>
        </p:nvSpPr>
        <p:spPr>
          <a:xfrm>
            <a:off x="1143000" y="685800"/>
            <a:ext cx="4572000" cy="3429000"/>
          </a:xfrm>
          <a:prstGeom prst="rect">
            <a:avLst/>
          </a:prstGeom>
          <a:ln w="0">
            <a:noFill/>
          </a:ln>
        </p:spPr>
      </p:sp>
      <p:sp>
        <p:nvSpPr>
          <p:cNvPr id="20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0475B-B4EC-4C82-BB34-2B913D484BB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28" name="PlaceHolder 1"/>
          <p:cNvSpPr>
            <a:spLocks noGrp="1"/>
          </p:cNvSpPr>
          <p:nvPr>
            <p:ph type="sldImg"/>
          </p:nvPr>
        </p:nvSpPr>
        <p:spPr>
          <a:xfrm>
            <a:off x="1143000" y="685800"/>
            <a:ext cx="4572000" cy="3429000"/>
          </a:xfrm>
          <a:prstGeom prst="rect">
            <a:avLst/>
          </a:prstGeom>
          <a:ln w="0">
            <a:noFill/>
          </a:ln>
        </p:spPr>
      </p:sp>
      <p:sp>
        <p:nvSpPr>
          <p:cNvPr id="20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DFCD8-6494-456A-8147-5C782FC816B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1" name="PlaceHolder 1"/>
          <p:cNvSpPr>
            <a:spLocks noGrp="1"/>
          </p:cNvSpPr>
          <p:nvPr>
            <p:ph type="sldImg"/>
          </p:nvPr>
        </p:nvSpPr>
        <p:spPr>
          <a:xfrm>
            <a:off x="1143000" y="685800"/>
            <a:ext cx="4572000" cy="3429000"/>
          </a:xfrm>
          <a:prstGeom prst="rect">
            <a:avLst/>
          </a:prstGeom>
          <a:ln w="0">
            <a:noFill/>
          </a:ln>
        </p:spPr>
      </p:sp>
      <p:sp>
        <p:nvSpPr>
          <p:cNvPr id="20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0D167-5704-4C96-BBD7-E0AEC44436F4}"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6A010-4CF4-4381-9467-870433F696D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D52847-1A23-4AA9-A995-61EAFB0747B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DFC322-83BC-4C76-996F-EF0461550A7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1C043-3D88-4A7A-83BA-C6CCB1A8AA8F}"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6" name="PlaceHolder 1"/>
          <p:cNvSpPr>
            <a:spLocks noGrp="1"/>
          </p:cNvSpPr>
          <p:nvPr>
            <p:ph type="sldImg"/>
          </p:nvPr>
        </p:nvSpPr>
        <p:spPr>
          <a:xfrm>
            <a:off x="1143000" y="685800"/>
            <a:ext cx="4572000" cy="3429000"/>
          </a:xfrm>
          <a:prstGeom prst="rect">
            <a:avLst/>
          </a:prstGeom>
          <a:ln w="0">
            <a:noFill/>
          </a:ln>
        </p:spPr>
      </p:sp>
      <p:sp>
        <p:nvSpPr>
          <p:cNvPr id="20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56AD7-5E22-4A17-BB16-7B1C9C51C31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9D78D-76A1-448C-936C-9A92DA9910F0}"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1816" name="PlaceHolder 1"/>
          <p:cNvSpPr>
            <a:spLocks noGrp="1"/>
          </p:cNvSpPr>
          <p:nvPr>
            <p:ph type="sldImg"/>
          </p:nvPr>
        </p:nvSpPr>
        <p:spPr>
          <a:xfrm>
            <a:off x="1143000" y="685800"/>
            <a:ext cx="4572000" cy="3429000"/>
          </a:xfrm>
          <a:prstGeom prst="rect">
            <a:avLst/>
          </a:prstGeom>
          <a:ln w="0">
            <a:noFill/>
          </a:ln>
        </p:spPr>
      </p:sp>
      <p:sp>
        <p:nvSpPr>
          <p:cNvPr id="18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A2217-01FD-4180-AB25-7B314A68614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2" name="PlaceHolder 1"/>
          <p:cNvSpPr>
            <a:spLocks noGrp="1"/>
          </p:cNvSpPr>
          <p:nvPr>
            <p:ph type="sldImg"/>
          </p:nvPr>
        </p:nvSpPr>
        <p:spPr>
          <a:xfrm>
            <a:off x="1143000" y="685800"/>
            <a:ext cx="4572000" cy="3429000"/>
          </a:xfrm>
          <a:prstGeom prst="rect">
            <a:avLst/>
          </a:prstGeom>
          <a:ln w="0">
            <a:noFill/>
          </a:ln>
        </p:spPr>
      </p:sp>
      <p:sp>
        <p:nvSpPr>
          <p:cNvPr id="20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8F769-1ECC-49F6-BD92-A7FDC88E5E8D}"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2D3F3B-9CCC-4029-94BC-E42A1A344CA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58" name="PlaceHolder 1"/>
          <p:cNvSpPr>
            <a:spLocks noGrp="1"/>
          </p:cNvSpPr>
          <p:nvPr>
            <p:ph type="sldImg"/>
          </p:nvPr>
        </p:nvSpPr>
        <p:spPr>
          <a:xfrm>
            <a:off x="1143000" y="685800"/>
            <a:ext cx="4572000" cy="3429000"/>
          </a:xfrm>
          <a:prstGeom prst="rect">
            <a:avLst/>
          </a:prstGeom>
          <a:ln w="0">
            <a:noFill/>
          </a:ln>
        </p:spPr>
      </p:sp>
      <p:sp>
        <p:nvSpPr>
          <p:cNvPr id="20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559E3-80D6-4C99-BAAF-2B1354306827}"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19DC3-3FE1-4953-92DC-189BF4E52022}"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4" name="PlaceHolder 1"/>
          <p:cNvSpPr>
            <a:spLocks noGrp="1"/>
          </p:cNvSpPr>
          <p:nvPr>
            <p:ph type="sldImg"/>
          </p:nvPr>
        </p:nvSpPr>
        <p:spPr>
          <a:xfrm>
            <a:off x="1143000" y="685800"/>
            <a:ext cx="4572000" cy="3429000"/>
          </a:xfrm>
          <a:prstGeom prst="rect">
            <a:avLst/>
          </a:prstGeom>
          <a:ln w="0">
            <a:noFill/>
          </a:ln>
        </p:spPr>
      </p:sp>
      <p:sp>
        <p:nvSpPr>
          <p:cNvPr id="20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674D7-10AB-4DBF-B4DE-DF6D90A9249A}"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D9402-EBF0-4D2C-9802-F0852185E79B}"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A2E508-F141-4029-ABC8-E3DBA77BB7A1}"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97886-F9FD-4D2C-837E-2ABFC1A4145E}" type="slidenum">
              <a:rPr b="0" lang="it-IT" sz="1200" spc="-1" strike="noStrike">
                <a:solidFill>
                  <a:srgbClr val="000000"/>
                </a:solidFill>
                <a:latin typeface="Times New Roman"/>
              </a:rPr>
              <a:t>&lt;number&gt;</a:t>
            </a:fld>
            <a:endParaRPr b="0" lang="en-US" sz="1200" spc="-1" strike="noStrike">
              <a:solidFill>
                <a:srgbClr val="ffffff"/>
              </a:solidFill>
              <a:latin typeface="Arial Rounded MT Bold"/>
            </a:endParaRPr>
          </a:p>
        </p:txBody>
      </p:sp>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A47F5-5C46-4E7E-A45F-30ED03C56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A3A7B-8CB9-4F66-A6B6-429A1FFC6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5"/>
          </p:nvPr>
        </p:nvSpPr>
        <p:spPr/>
        <p:txBody>
          <a:bodyPr/>
          <a:p>
            <a:fld id="{AEDB1B77-ACA9-479A-9827-78A427A727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5"/>
          </p:nvPr>
        </p:nvSpPr>
        <p:spPr/>
        <p:txBody>
          <a:bodyPr/>
          <a:p>
            <a:fld id="{13F6F158-0DEC-4E67-9330-A7EABE12FD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5"/>
          </p:nvPr>
        </p:nvSpPr>
        <p:spPr/>
        <p:txBody>
          <a:bodyPr/>
          <a:p>
            <a:fld id="{06F134EF-A0BF-49EE-91EC-B9850AB264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6587A8C1-E4DC-48E9-A2BB-CB59753172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473E3326-1EB4-4FBD-83B8-F4E1667FA07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5"/>
          </p:nvPr>
        </p:nvSpPr>
        <p:spPr/>
        <p:txBody>
          <a:bodyPr/>
          <a:p>
            <a:fld id="{9F7185A2-FF97-4D34-BB69-60854BC3C79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5"/>
          </p:nvPr>
        </p:nvSpPr>
        <p:spPr/>
        <p:txBody>
          <a:bodyPr/>
          <a:p>
            <a:fld id="{F1C04647-9F81-4793-8A74-CAF45245BA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5"/>
          </p:nvPr>
        </p:nvSpPr>
        <p:spPr/>
        <p:txBody>
          <a:bodyPr/>
          <a:p>
            <a:fld id="{6E45BFF9-1460-4BCC-B8DC-0C7CCC63E1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9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5"/>
          </p:nvPr>
        </p:nvSpPr>
        <p:spPr/>
        <p:txBody>
          <a:bodyPr/>
          <a:p>
            <a:fld id="{F86932C7-C022-4ACE-B501-AA30D90F86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D37C695-4833-48F6-9507-B542B35BD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9B30E-7366-4385-AA73-26B31309C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F47937B1-B52B-469B-9F51-9967DD7928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6"/>
          </p:nvPr>
        </p:nvSpPr>
        <p:spPr/>
        <p:txBody>
          <a:bodyPr/>
          <a:p>
            <a:fld id="{8AB088BD-3293-4B27-9905-EB46038EF5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0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C6FD31D9-3FFB-4FB7-9DDA-846D327C443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6"/>
          </p:nvPr>
        </p:nvSpPr>
        <p:spPr/>
        <p:txBody>
          <a:bodyPr/>
          <a:p>
            <a:fld id="{59D6E56A-49CB-4A1B-9192-F9C835F46B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6"/>
          </p:nvPr>
        </p:nvSpPr>
        <p:spPr/>
        <p:txBody>
          <a:bodyPr/>
          <a:p>
            <a:fld id="{DFF6F029-9CE2-41C1-92A5-79C28C2B5C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4B3FD94F-A0BB-4AB9-B579-C82BDD4D412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1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A4DE962B-AB86-48ED-9606-CB4E72ABC96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6"/>
          </p:nvPr>
        </p:nvSpPr>
        <p:spPr/>
        <p:txBody>
          <a:bodyPr/>
          <a:p>
            <a:fld id="{A92472F5-9653-4954-99A5-26CDB653F0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6"/>
          </p:nvPr>
        </p:nvSpPr>
        <p:spPr/>
        <p:txBody>
          <a:bodyPr/>
          <a:p>
            <a:fld id="{C38EF74F-BBAC-499C-AF96-CD5AC0AA83F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2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6"/>
          </p:nvPr>
        </p:nvSpPr>
        <p:spPr/>
        <p:txBody>
          <a:bodyPr/>
          <a:p>
            <a:fld id="{EE18F796-EC27-44B1-80C8-87F6E38C75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C3759-B68C-4278-A1EB-EE47041DE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3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6"/>
          </p:nvPr>
        </p:nvSpPr>
        <p:spPr/>
        <p:txBody>
          <a:bodyPr/>
          <a:p>
            <a:fld id="{4547B40F-B096-44F4-A24A-1CF5BEAD986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8266F99-C77A-404A-833F-A878BD4EFE9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7"/>
          </p:nvPr>
        </p:nvSpPr>
        <p:spPr/>
        <p:txBody>
          <a:bodyPr/>
          <a:p>
            <a:fld id="{9403F9CC-5F1E-4F29-86BA-C4AA224D775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7"/>
          </p:nvPr>
        </p:nvSpPr>
        <p:spPr/>
        <p:txBody>
          <a:bodyPr/>
          <a:p>
            <a:fld id="{57F5E4C4-9E18-40B4-A426-0BCA56EA0E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7"/>
          </p:nvPr>
        </p:nvSpPr>
        <p:spPr/>
        <p:txBody>
          <a:bodyPr/>
          <a:p>
            <a:fld id="{009AB987-FEC5-4DE0-AC46-C30F95311E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7"/>
          </p:nvPr>
        </p:nvSpPr>
        <p:spPr/>
        <p:txBody>
          <a:bodyPr/>
          <a:p>
            <a:fld id="{DC96386B-B7F2-4123-BB63-65F58E2738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7"/>
          </p:nvPr>
        </p:nvSpPr>
        <p:spPr/>
        <p:txBody>
          <a:bodyPr/>
          <a:p>
            <a:fld id="{6470688B-62C0-4CB9-B32F-0D08D555DF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A66EEF21-1DCC-4595-A8C9-8F3C58EF4F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6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CA343248-E0CB-47D5-950E-F13B9E78FE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6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7"/>
          </p:nvPr>
        </p:nvSpPr>
        <p:spPr/>
        <p:txBody>
          <a:bodyPr/>
          <a:p>
            <a:fld id="{F15B0910-4DBA-4D0D-B17A-4FB3EDAF22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B330A7-46BB-44D4-B4F5-8C4EE3369B3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7"/>
          </p:nvPr>
        </p:nvSpPr>
        <p:spPr/>
        <p:txBody>
          <a:bodyPr/>
          <a:p>
            <a:fld id="{7957FC0F-F570-4E09-B9D0-2909A569B8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7"/>
          </p:nvPr>
        </p:nvSpPr>
        <p:spPr/>
        <p:txBody>
          <a:bodyPr/>
          <a:p>
            <a:fld id="{9FA04775-436D-4CD9-9992-D4A411BBF9C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7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7"/>
          </p:nvPr>
        </p:nvSpPr>
        <p:spPr/>
        <p:txBody>
          <a:bodyPr/>
          <a:p>
            <a:fld id="{3BF8D57D-A2CB-455D-940B-97C47DFD577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9E10E45-0819-4577-8B15-349B4F9E6F7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8"/>
          </p:nvPr>
        </p:nvSpPr>
        <p:spPr/>
        <p:txBody>
          <a:bodyPr/>
          <a:p>
            <a:fld id="{6A84B434-5B3C-4475-B292-5E62559C59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8"/>
          </p:nvPr>
        </p:nvSpPr>
        <p:spPr/>
        <p:txBody>
          <a:bodyPr/>
          <a:p>
            <a:fld id="{8A980C55-61E4-470C-8DC7-C372B21496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49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8"/>
          </p:nvPr>
        </p:nvSpPr>
        <p:spPr/>
        <p:txBody>
          <a:bodyPr/>
          <a:p>
            <a:fld id="{2C00A502-1A27-4695-B5E4-2181D50C27C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8"/>
          </p:nvPr>
        </p:nvSpPr>
        <p:spPr/>
        <p:txBody>
          <a:bodyPr/>
          <a:p>
            <a:fld id="{4076AC83-4D8E-43BE-8D2E-ADBB582836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8"/>
          </p:nvPr>
        </p:nvSpPr>
        <p:spPr/>
        <p:txBody>
          <a:bodyPr/>
          <a:p>
            <a:fld id="{550113CA-FEFB-4239-911C-425B879259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7FFA03D2-D66C-42D9-8144-BE72B03199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C31CED25-36BD-40B3-954C-1656FF1AB02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0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750096CF-FCB0-4437-9E4B-14B411F2A1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8"/>
          </p:nvPr>
        </p:nvSpPr>
        <p:spPr/>
        <p:txBody>
          <a:bodyPr/>
          <a:p>
            <a:fld id="{C2AE1B8D-7C53-446E-BBF8-43539C582B1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8"/>
          </p:nvPr>
        </p:nvSpPr>
        <p:spPr/>
        <p:txBody>
          <a:bodyPr/>
          <a:p>
            <a:fld id="{473A2743-0D57-4B1C-A44D-2BDD131EF8D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1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8"/>
          </p:nvPr>
        </p:nvSpPr>
        <p:spPr/>
        <p:txBody>
          <a:bodyPr/>
          <a:p>
            <a:fld id="{304735EC-B467-4690-8F09-945F807E31E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2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8"/>
          </p:nvPr>
        </p:nvSpPr>
        <p:spPr/>
        <p:txBody>
          <a:bodyPr/>
          <a:p>
            <a:fld id="{0B2CE726-57E4-48D2-889D-7CB107FF642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9B437EE-7760-444E-9359-7DC94879855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9"/>
          </p:nvPr>
        </p:nvSpPr>
        <p:spPr/>
        <p:txBody>
          <a:bodyPr/>
          <a:p>
            <a:fld id="{FC826F97-832D-4AE7-A88C-D4CC40A4FAE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3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9"/>
          </p:nvPr>
        </p:nvSpPr>
        <p:spPr/>
        <p:txBody>
          <a:bodyPr/>
          <a:p>
            <a:fld id="{F0667B1F-9D3E-496F-832C-8E76C75682C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4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9"/>
          </p:nvPr>
        </p:nvSpPr>
        <p:spPr/>
        <p:txBody>
          <a:bodyPr/>
          <a:p>
            <a:fld id="{0652E730-73E7-4347-BD8A-CEC421A2FD4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9"/>
          </p:nvPr>
        </p:nvSpPr>
        <p:spPr/>
        <p:txBody>
          <a:bodyPr/>
          <a:p>
            <a:fld id="{BFFF6D78-8CF2-4053-A8FB-B3A74CA6CE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4"/>
          </p:nvPr>
        </p:nvSpPr>
        <p:spPr/>
        <p:txBody>
          <a:bodyPr/>
          <a:p>
            <a:fld id="{681786B8-7396-4926-88EB-15F94F887B1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9"/>
          </p:nvPr>
        </p:nvSpPr>
        <p:spPr/>
        <p:txBody>
          <a:bodyPr/>
          <a:p>
            <a:fld id="{C28F17FC-A5EC-4A01-AC5E-CA20E380845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4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9BF6C8C1-4C6D-40AD-AB0D-A6BEB2FFA23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840F6A22-CF83-4A98-89EC-5BCA92BDC00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9"/>
          </p:nvPr>
        </p:nvSpPr>
        <p:spPr/>
        <p:txBody>
          <a:bodyPr/>
          <a:p>
            <a:fld id="{DC98F9B5-575A-4124-86FE-D03D3AF6B0B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5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5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9"/>
          </p:nvPr>
        </p:nvSpPr>
        <p:spPr/>
        <p:txBody>
          <a:bodyPr/>
          <a:p>
            <a:fld id="{1B6DE8C5-CB69-4E02-873B-AAE894F1102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6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9"/>
          </p:nvPr>
        </p:nvSpPr>
        <p:spPr/>
        <p:txBody>
          <a:bodyPr/>
          <a:p>
            <a:fld id="{21CB443F-0C38-4257-8F35-585598A6E28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6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9"/>
          </p:nvPr>
        </p:nvSpPr>
        <p:spPr/>
        <p:txBody>
          <a:bodyPr/>
          <a:p>
            <a:fld id="{AB4C7990-A3EA-4F1B-906D-16D66DF4834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3A07205-A1E1-4897-A79C-175708F6C75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0"/>
          </p:nvPr>
        </p:nvSpPr>
        <p:spPr/>
        <p:txBody>
          <a:bodyPr/>
          <a:p>
            <a:fld id="{C07993CA-BBE3-4812-BF56-0A0631E88A1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0"/>
          </p:nvPr>
        </p:nvSpPr>
        <p:spPr/>
        <p:txBody>
          <a:bodyPr/>
          <a:p>
            <a:fld id="{908E9F21-A8C7-444A-8467-28B9FEC338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8F76EBA3-1A35-4D65-935B-8280E57448E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8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8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0"/>
          </p:nvPr>
        </p:nvSpPr>
        <p:spPr/>
        <p:txBody>
          <a:bodyPr/>
          <a:p>
            <a:fld id="{8311C86E-2A73-469E-8552-825F8981700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20"/>
          </p:nvPr>
        </p:nvSpPr>
        <p:spPr/>
        <p:txBody>
          <a:bodyPr/>
          <a:p>
            <a:fld id="{96CF10EE-92C7-4A55-81CB-DC36D00C4D0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0"/>
          </p:nvPr>
        </p:nvSpPr>
        <p:spPr/>
        <p:txBody>
          <a:bodyPr/>
          <a:p>
            <a:fld id="{228EDAE4-8F64-4016-AC3A-DDFF57DDA74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00A6538D-F58D-4823-9272-7FFECCD6EA9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E7A1C4E4-1BDC-4796-83B4-74F80107ADC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59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0"/>
          </p:nvPr>
        </p:nvSpPr>
        <p:spPr/>
        <p:txBody>
          <a:bodyPr/>
          <a:p>
            <a:fld id="{2C47FFC3-8CEC-4043-90D6-C5FE76551F3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0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0"/>
          </p:nvPr>
        </p:nvSpPr>
        <p:spPr/>
        <p:txBody>
          <a:bodyPr/>
          <a:p>
            <a:fld id="{22141996-68AC-4114-AC49-FA62BFACE69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0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0"/>
          </p:nvPr>
        </p:nvSpPr>
        <p:spPr/>
        <p:txBody>
          <a:bodyPr/>
          <a:p>
            <a:fld id="{C1F205DF-C252-4707-A96B-F648D60AD1A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1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1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0"/>
          </p:nvPr>
        </p:nvSpPr>
        <p:spPr/>
        <p:txBody>
          <a:bodyPr/>
          <a:p>
            <a:fld id="{09AA0E84-08E8-4545-BBE9-C30B7D37D9B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401EBBE-2687-439D-9293-3D1AC52E3F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4"/>
          </p:nvPr>
        </p:nvSpPr>
        <p:spPr/>
        <p:txBody>
          <a:bodyPr/>
          <a:p>
            <a:fld id="{D6D003CD-8D5D-4BAB-B7B0-7F52BF38812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1"/>
          </p:nvPr>
        </p:nvSpPr>
        <p:spPr/>
        <p:txBody>
          <a:bodyPr/>
          <a:p>
            <a:fld id="{122E19E2-FFF1-40F7-9DCA-9BD642807B9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21"/>
          </p:nvPr>
        </p:nvSpPr>
        <p:spPr/>
        <p:txBody>
          <a:bodyPr/>
          <a:p>
            <a:fld id="{B6F5F2E8-72B6-4B03-8CB1-7D9D1A4F9D8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1"/>
          </p:nvPr>
        </p:nvSpPr>
        <p:spPr/>
        <p:txBody>
          <a:bodyPr/>
          <a:p>
            <a:fld id="{E7DEC15C-647D-445A-AB27-9C553270BE4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21"/>
          </p:nvPr>
        </p:nvSpPr>
        <p:spPr/>
        <p:txBody>
          <a:bodyPr/>
          <a:p>
            <a:fld id="{90D26447-31EB-472D-B571-53B2F36A033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21"/>
          </p:nvPr>
        </p:nvSpPr>
        <p:spPr/>
        <p:txBody>
          <a:bodyPr/>
          <a:p>
            <a:fld id="{5723CE05-30FD-451E-8028-5CC8231C7B5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8124D804-8509-4A9C-8474-93257302852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B11D03AE-0157-4486-BB29-00F20A6C0A3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21"/>
          </p:nvPr>
        </p:nvSpPr>
        <p:spPr/>
        <p:txBody>
          <a:bodyPr/>
          <a:p>
            <a:fld id="{523D9055-BA65-4CD3-9924-C34A169092D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21"/>
          </p:nvPr>
        </p:nvSpPr>
        <p:spPr/>
        <p:txBody>
          <a:bodyPr/>
          <a:p>
            <a:fld id="{D9DAB312-67A1-4054-B48C-9840E9A2091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4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21"/>
          </p:nvPr>
        </p:nvSpPr>
        <p:spPr/>
        <p:txBody>
          <a:bodyPr/>
          <a:p>
            <a:fld id="{801FB868-960A-4221-A214-60700CCCCC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4"/>
          </p:nvPr>
        </p:nvSpPr>
        <p:spPr/>
        <p:txBody>
          <a:bodyPr/>
          <a:p>
            <a:fld id="{69028666-C3A5-441D-903D-3CE657D6DD5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5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21"/>
          </p:nvPr>
        </p:nvSpPr>
        <p:spPr/>
        <p:txBody>
          <a:bodyPr/>
          <a:p>
            <a:fld id="{0CF4E910-A59E-4E9C-A7FC-A8AECA4F56E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2"/>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2"/>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7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2"/>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2"/>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7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7FD2B513-5890-44EB-AE28-66BCAAD4559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8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2"/>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9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2"/>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9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2"/>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0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1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1929-E43E-46A4-BCD2-671F9664B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8BD098B1-F353-487B-9F59-8152D0EA8B2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2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3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3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4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9081E0C-11D9-4242-832C-7EFB522B6CF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D50297A-2D13-483C-BAEF-FF96151DBF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E64D98-CA36-4A12-AF8A-0E5649C9AA4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5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5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FC81DA-29AA-410F-96C3-C9A12614FE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DCB0B6-1AEF-4E1F-8E1E-F8196E39630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4"/>
          </p:nvPr>
        </p:nvSpPr>
        <p:spPr/>
        <p:txBody>
          <a:bodyPr/>
          <a:p>
            <a:fld id="{48573C92-4D82-4286-8017-F021812C6AD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D04542C-E420-4488-A711-E384B772DD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6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6F7206-516F-4B5D-95AF-61C2B10F56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6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6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B80995-0ECA-4232-8852-54C3205E4B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93FFE7-AD77-4923-B186-64E23D6B67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568B93-5E67-4570-82DC-A1EF923FA61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7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A607280-52AE-4969-8555-3CC30B7A0B6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8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C7D03CE-7C37-45A2-A783-50F9FD99622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7E3D35E-6989-446F-8412-BDB0FCCBF7F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9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DBB382B-0AAA-442E-9EE4-0329487E6C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9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19061A4-4D48-4BC9-97D7-5FE625DEED1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4"/>
          </p:nvPr>
        </p:nvSpPr>
        <p:spPr/>
        <p:txBody>
          <a:bodyPr/>
          <a:p>
            <a:fld id="{34CC1AE2-5DF6-46AA-BEEC-FCC74BD1F40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0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EBFF88-8E20-4EC9-9A33-FFFC10205DC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DFF65E6-F7C6-4B59-8B60-2ECC5585279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D197C54-AF77-463C-965B-119432C89F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0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9018E87-6DEC-4C0D-A26B-666B781A3C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7BC9C69-BEF2-4AB5-8D38-9AB87A2935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35D3EEF-5E7E-47E2-9EC1-6E615CAB234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1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1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07B8671-C444-495C-B48A-598F885CCF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31E111C-E708-447B-BED2-CE2863852B5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2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7DDA66C-FDA5-4F60-B091-0093AED0D26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5A29A1F-A113-4054-B572-13E32209226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4"/>
          </p:nvPr>
        </p:nvSpPr>
        <p:spPr/>
        <p:txBody>
          <a:bodyPr/>
          <a:p>
            <a:fld id="{E4ECC7E7-A938-4ACA-B301-AE9777222CC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35886FD-F321-4F37-B9E1-69434E6644F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6685CD6-0B79-4FB1-85B4-C4D4CE24877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4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7CF41C8-FEB2-4CBB-8553-3288819C9B2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DAC522-41A7-49F4-A47B-8E1E7EFC74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EFCA2D2-89B0-4609-8BD9-35A4CC2177F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75A416-B06E-4E24-8D69-992264AB45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43D2F31-32F6-47CA-8F5A-D9ACF45FBD2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9A80DC-6E14-45A4-9963-6BDC8EC02B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6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654517F-FBDF-402D-855A-97FEEDC7D92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6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A816396-F3B7-4A80-B15A-80ED7F27FE2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4"/>
          </p:nvPr>
        </p:nvSpPr>
        <p:spPr/>
        <p:txBody>
          <a:bodyPr/>
          <a:p>
            <a:fld id="{EF596307-7CDE-4CF2-9DF8-A7E61E3D0C3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7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7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A7E030A-E625-46A0-9338-8580077477E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28BFD99-FB29-4417-8996-A6F04E50912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83FABFA-5AC5-4F71-85B0-DAEB33AF44C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9ADEAF7-FF68-404E-B633-9DC8CED53F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8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FA9EB0F-FD17-44C2-9CBB-1BF01DC6C30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DE091B4-5CDE-40F7-9C3C-8D297CA68EE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BF55E7-351C-4D2B-ABBD-A6D3CBFD32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9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A93A376-7C0D-4BE5-8C62-9322D437D43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89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8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68F02E-3A31-4928-BABF-07C7F36C049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C0EFC57-9390-47BF-8A66-B5BEC41703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6BB7A5F-4B94-467E-A6CB-C3E535615A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0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464B5C3-D9FA-4250-B485-AC428547619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0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DD84628-9646-492B-86A2-7940AFE281C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1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1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9A72F86-39C5-4D0A-A656-0970AEC5AA8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011CA5A-97E9-4FC8-A210-47654882F4E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2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07ED4CAC-783E-43B8-8D9E-2E5936049BA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8362EFD1-BC26-43E0-A6F8-A7FA4FCA24D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AAAF965-B97D-434C-8013-5467DBBD185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9A5B245-4079-49E0-AB2D-C45DF19E72B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E8676962-2057-41E6-89A7-3EE230ECDC3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3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140A3DA-6AD5-4F02-AA31-95A7F4C3D6DB}"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BD3EE94-ADE3-48D5-A66D-53085ED0D3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4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54706C0-1960-412C-9353-987BD9A86CB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4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CE16330-C63C-4501-8556-12CBE895CC1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552932E-730F-4199-BDF1-855AB559C6E9}"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6A32252-C98F-4D57-AD01-95F8633F497C}"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5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5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6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33C8DDC-338D-4FF1-A78A-E36A3275C09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A214C9B9-B6F5-4540-A55F-F656FE86C0B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0E0F16D-881E-4A11-B314-41B2023D99E6}"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41412EF-158C-406C-A7ED-A769DB32CCE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7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7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843D774-1690-4CED-995A-0737A168D30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B459560-4708-4FC6-A26B-BF8C40A97B9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5DE47F-BB98-460A-AEBE-CDEDD54D842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C70B9004-6302-441A-8371-001F164B9D0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8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AFBD82B-1BBE-41FF-9AEE-E48D4A17A15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8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8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DE03C06-FB79-4B06-A26C-B4761F2765A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7626F782-A8D4-47BE-B64E-BD928108573C}"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12CF212-9BF9-4EA7-8E66-1D35E847D4B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99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9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EB1E9F21-86CF-4054-A0F0-AEF21C9F2750}"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0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0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7AA75931-AE65-4EF5-89EA-755C75F71A0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95A3957A-5D6C-4260-B6A9-5B8C3166E988}"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B3028D0E-9DE8-4868-A26A-C718F346B63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8A5A87A-5F79-4568-B508-4CB82BF0793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9002E70-9B1E-4D05-8C7F-B3631E505E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2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DC42B5FB-A582-4BAF-8787-AB830D48D89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CDD0F01-A0A2-4204-8CC8-0C90D85E92E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3774753-E195-488E-87B0-B6A066D7AF6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2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7810EE1B-E1E5-4D94-831E-A3059D5FC68D}"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C666DF7A-760A-4DA2-8D93-DD7147D7C46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2030FE5F-35A4-4666-9E7C-EDD30F55736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3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3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241FEF9D-5001-4216-AC17-0E6627D0EF5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4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06F6A7B-20A0-482E-ACA0-573FB29B148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4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4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5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0CF9C024-3243-4DA1-A8BD-58A0C949546D}"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AB95E3EA-9E30-430E-998F-B265C7B6BDC7}"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7A9E15A-3A24-44D6-A706-B87EE9FFB9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6E1F0AFF-427A-4A42-902F-94C6C958F8E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C3F23DBC-CEDE-4A71-B012-B895ECC6D344}"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6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97F5BAFD-4FD6-468E-B244-78BD882DB1FB}"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350E1ED-54F2-4CA1-91CE-E63CF5303B3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77ABB017-E3FA-49CB-B88F-889B56FDEE18}"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0DBC944-2E1E-4BCD-A50C-619BF699FF1B}"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FE40BFD5-30F8-4E26-A1E4-C4D9E3E494C6}"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7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3AECC3C1-F4A8-4C7C-9ED4-C05C016159F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8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6C592A4D-3B44-4265-A282-062C718EF0E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8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2FBB5C63-516C-43A2-9A5A-65A5D171EC9C}"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6BAE6-F2CC-43FA-BB53-600B6F89E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0021E0-6F23-4D39-83F9-DC1FE56167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9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9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1D16EC47-74E4-4D96-96CF-C3FE4B0B3EE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F06C16B6-E25F-46A9-988E-5BA1C4145B3D}"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F2A01968-A984-466B-A09D-117C1BC5184D}"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014210C-2A31-4C46-82F7-E7DFD446F932}"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F314A7E-C835-4BBF-8A9C-A75FB48E06A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80BCB78E-E312-40C9-AC78-36404A1AD8DE}"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3513CACB-D047-4A3D-832F-6F4B9CED332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A1C1CBC3-B75F-458A-ADA1-8E4A7CE3EA7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1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5A9C2471-370D-45A7-A507-10423D74894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E084F7ED-31DB-4454-9056-47AA415C9A1B}"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0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B32972-AF30-4672-995D-3A41BC5906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240C557-4005-4E30-BD54-038D81E3673E}"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2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04EB370C-AB9B-4AC1-A350-8EDFAB6DA8A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3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3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4E55E57C-3568-41D7-8D14-3181DE0AFAB1}"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7BC6C922-B22D-4ABE-94BD-576E81F46E66}"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4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6E30E9F-DA9B-47A2-B5E8-54FEF3E2607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ABE1FE5F-A2B7-40F3-994D-1DD6B0575CED}"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AD7A5205-102F-450D-B89C-4F4B68C02D6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802EACC-E008-4113-BB74-117A67EC5BA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92FBEAB-4C74-4F2B-8A44-4C7B5E1FFC8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8823D5C9-6FC6-4F68-B8EA-F7E93629A528}"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129948-BC67-478A-AE79-818B3C44F62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6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A81C1E5-BEB0-4B1D-90F1-8B2B934D806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6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C637F956-D0D2-4B58-945C-554896F0D376}"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D1CA8B6-FCB2-43B1-AD68-56B0F1EDE8F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6D5E5DF3-9694-4D7D-9085-C124F9F93AFE}"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7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7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8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1F71BDC8-5735-4F85-86A9-3A4742D7DE2A}"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B78B8A0A-C0FF-449D-B79C-4679EA8471D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156DAD1-3609-47CD-BF0A-6951AB50A5A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D0B1894-7CAE-42F0-B3FC-D9CC6C2ED38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9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5E3C093-10DF-40D1-8B34-1854689388A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6A89038-159A-4610-9578-7CF1E25F9E8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18E973-35C0-4584-B4B5-174C37F84D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5775C87-6943-467F-8A07-6B8794179E8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29A652D-B3BC-45C3-A215-981FACBF3D6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0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0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64C62E6-A16F-478E-93D5-10B9FADD649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973A1E6-5025-4524-8360-6BB630376C6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00DF8A3-624A-422C-BF46-FCED4FBE629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1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9FBF46B7-C661-4E8E-93D3-ACCBB3EF3EA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2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EAB19F7-5A41-40FC-9200-24EEDFA9257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3D19630-563B-4E7A-82BA-05279FB6492D}"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3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6BC94D3-26BC-416A-81F1-08BB8625BEF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3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FBCC7E6E-567D-47F1-B52B-246A07D7BF07}"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CC6F916-0924-426A-AB12-0176F2F6EC3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4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B66AAC72-AE6D-4F9F-9C19-7868B281054E}"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DA3C225-1BFB-419A-B055-CE2271F0DBC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70C7D96-9ADD-4069-AE91-290B6EFE2D2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194F023-3619-4BE7-9ECD-44CEBAD66CB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9DD06296-C5DC-40FD-BE58-FEFAB4303D0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17B4FE27-E344-4A45-9408-1505130AE0C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5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5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84B8C21-4BB9-433C-980C-BB0EFA1D571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D717B482-26FB-4640-B715-C2140384E092}"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6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61FFB36A-3036-49BA-B793-29D600BA39F9}"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DB09EC3-A37F-414E-A8B7-C0DBFE37C02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21B83FF-D69E-4AFB-B13D-6B6E4660242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8DAA714-49A6-4C2F-B270-9043C0C5B882}"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B505A7D-DF5A-4A6A-B090-8A0A5F0F438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8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8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B05316E-375C-47D0-89E3-82CFA3BE60F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1D69834-A95D-46BF-B137-81C722104E7D}"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B170707-8A4F-4B7F-A386-7956975861F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0FA4A60-A6C5-416A-9916-1D69311E752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5627FE7-253D-44AF-BAAC-EF3507911D2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9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F8937AB-13CC-4441-8B25-C2FB7EB11FD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0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9959E9E-20C3-4E45-ABA7-7872CAED1C0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0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D4CCF14-CC0A-41DC-B79C-7FEA7904E6D4}"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2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9B6F5FB-13F8-4191-995A-E9471ED1460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1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31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9B96E87-7430-4826-A6DE-219A729426AE}"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9D229C2-74C6-4E25-B820-91F8D93B2AA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A2DE4D6-20CA-4F61-9BA9-6F21191CC42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736DEFB-E3C5-4B4D-973D-54BC2716BF2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E0825-A799-4346-B7E3-CFC6DEE2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4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23B5E7-4C6F-4BB0-B1BD-329575698D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1538407-E9C3-497C-8E41-9C11CDF5A0F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559D18D-005A-498C-BAA2-485C23D3E7F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3EB0E82-3937-4299-B010-5F4C9991AC5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0D80D2B-FF6E-4C70-AE98-FEF6735E8D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55F88A-4F20-443D-A323-A353075FEFC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B0CE3A3-0FC0-44BE-81E5-F841954A2CF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6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03F645A-0A2F-4F6C-9D58-CCE527C5652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F596F9B-24D1-43DF-B3FD-42376E099DB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12DEE07-36B4-42BF-B9E7-1C48ADB6F7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B9A5-21CB-432E-ABFA-A027562EC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1"/>
          </p:nvPr>
        </p:nvSpPr>
        <p:spPr/>
        <p:txBody>
          <a:bodyPr/>
          <a:p>
            <a:fld id="{1E80C6D5-0A21-45F3-8E6F-BA8A77ADB10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7"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1"/>
          </p:nvPr>
        </p:nvSpPr>
        <p:spPr/>
        <p:txBody>
          <a:bodyPr/>
          <a:p>
            <a:fld id="{FA6CA458-4D03-44F4-9820-BA4B2ABECA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1"/>
          </p:nvPr>
        </p:nvSpPr>
        <p:spPr/>
        <p:txBody>
          <a:bodyPr/>
          <a:p>
            <a:fld id="{650C5CDA-4D8A-4BDE-BDC5-1CB145D3294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1"/>
          </p:nvPr>
        </p:nvSpPr>
        <p:spPr/>
        <p:txBody>
          <a:bodyPr/>
          <a:p>
            <a:fld id="{266B543F-0644-4393-8AC9-9E10CCD21B7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1"/>
          </p:nvPr>
        </p:nvSpPr>
        <p:spPr/>
        <p:txBody>
          <a:bodyPr/>
          <a:p>
            <a:fld id="{E9C8C808-E88A-4C03-A7AE-03D5E547E9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31152AFE-3E0E-435B-BF49-D349297E4C5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9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8C616F53-E86A-43DD-B40A-DA1A7FD2A82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1"/>
          </p:nvPr>
        </p:nvSpPr>
        <p:spPr/>
        <p:txBody>
          <a:bodyPr/>
          <a:p>
            <a:fld id="{BB132DC0-BC09-4CFF-93F5-935AF9459C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6"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1"/>
          </p:nvPr>
        </p:nvSpPr>
        <p:spPr/>
        <p:txBody>
          <a:bodyPr/>
          <a:p>
            <a:fld id="{0A12081A-727A-4135-A056-72F996E1658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09"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1"/>
          </p:nvPr>
        </p:nvSpPr>
        <p:spPr/>
        <p:txBody>
          <a:bodyPr/>
          <a:p>
            <a:fld id="{4DE3A8D7-6733-46B9-A8B3-15DD1EDE2D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59C27-9D98-43BD-B1AA-C4558F995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14"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1"/>
          </p:nvPr>
        </p:nvSpPr>
        <p:spPr/>
        <p:txBody>
          <a:bodyPr/>
          <a:p>
            <a:fld id="{458DE11C-249A-41B6-BFBA-1990041D2E1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952B980-59BA-41EC-A1D9-0E4853209FE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50D60D7A-152C-4867-8A78-782079EAA03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1"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2"/>
          </p:nvPr>
        </p:nvSpPr>
        <p:spPr/>
        <p:txBody>
          <a:bodyPr/>
          <a:p>
            <a:fld id="{472E7AB6-CFC5-45A8-BEBF-398445E466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3"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2"/>
          </p:nvPr>
        </p:nvSpPr>
        <p:spPr/>
        <p:txBody>
          <a:bodyPr/>
          <a:p>
            <a:fld id="{9F378EA9-8CB2-4CE9-99A4-02E57DCECF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2"/>
          </p:nvPr>
        </p:nvSpPr>
        <p:spPr/>
        <p:txBody>
          <a:bodyPr/>
          <a:p>
            <a:fld id="{60686622-EA38-479D-BE88-8EAA0881A68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2"/>
          </p:nvPr>
        </p:nvSpPr>
        <p:spPr/>
        <p:txBody>
          <a:bodyPr/>
          <a:p>
            <a:fld id="{49A7DC13-4346-4528-9F6F-7409359E936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3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1BB76BCA-A1DC-4B24-BB86-BDBD71E8FD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4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6F64060B-68AC-4473-A392-1A00C110E1E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4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2"/>
          </p:nvPr>
        </p:nvSpPr>
        <p:spPr/>
        <p:txBody>
          <a:bodyPr/>
          <a:p>
            <a:fld id="{C82E0CC0-7B7B-463A-B9A8-1D91502B80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D1B3-916E-4821-BD20-3A4283E4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0"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2"/>
          </p:nvPr>
        </p:nvSpPr>
        <p:spPr/>
        <p:txBody>
          <a:bodyPr/>
          <a:p>
            <a:fld id="{F378BB98-05C9-4A01-8A5E-6DB8A10FFE6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2"/>
          </p:nvPr>
        </p:nvSpPr>
        <p:spPr/>
        <p:txBody>
          <a:bodyPr/>
          <a:p>
            <a:fld id="{BF1C7CF3-B81A-4B60-8CA8-F39966511B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58"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2"/>
          </p:nvPr>
        </p:nvSpPr>
        <p:spPr/>
        <p:txBody>
          <a:bodyPr/>
          <a:p>
            <a:fld id="{E930369D-917E-4446-83F8-28517A5E130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08133B4-577E-47DE-A9DA-46A8F40C1E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3"/>
          </p:nvPr>
        </p:nvSpPr>
        <p:spPr/>
        <p:txBody>
          <a:bodyPr/>
          <a:p>
            <a:fld id="{C5B16171-4A24-4AC6-95D2-6F4C608A18E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5"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3"/>
          </p:nvPr>
        </p:nvSpPr>
        <p:spPr/>
        <p:txBody>
          <a:bodyPr/>
          <a:p>
            <a:fld id="{3B294DD0-073B-4C70-815B-E4F9809311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7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3"/>
          </p:nvPr>
        </p:nvSpPr>
        <p:spPr/>
        <p:txBody>
          <a:bodyPr/>
          <a:p>
            <a:fld id="{8FC82997-FA7D-4917-A15F-562B6AC19AF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3"/>
          </p:nvPr>
        </p:nvSpPr>
        <p:spPr/>
        <p:txBody>
          <a:bodyPr/>
          <a:p>
            <a:fld id="{EA24A8CC-1086-46E9-9F2D-5B130F446BB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3"/>
          </p:nvPr>
        </p:nvSpPr>
        <p:spPr/>
        <p:txBody>
          <a:bodyPr/>
          <a:p>
            <a:fld id="{FC93C85F-534E-4113-A7A8-C67D67B95D5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82"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64FB6700-1ABD-4360-BCB5-A2734F1677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2BC9-49DD-45F4-88A1-7E9BC957B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86"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FBF03FC9-CBDA-4DC8-8221-A8EA4194BE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3"/>
          </p:nvPr>
        </p:nvSpPr>
        <p:spPr/>
        <p:txBody>
          <a:bodyPr/>
          <a:p>
            <a:fld id="{201282CD-9113-4FCD-A65A-AD4DF811364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4"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3"/>
          </p:nvPr>
        </p:nvSpPr>
        <p:spPr/>
        <p:txBody>
          <a:bodyPr/>
          <a:p>
            <a:fld id="{DDEF79D3-D7F0-41D8-9526-52F792BFE21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97"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3"/>
          </p:nvPr>
        </p:nvSpPr>
        <p:spPr/>
        <p:txBody>
          <a:bodyPr/>
          <a:p>
            <a:fld id="{E12B3732-C13E-46C8-ABB7-FF2CD766051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02"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3"/>
          </p:nvPr>
        </p:nvSpPr>
        <p:spPr/>
        <p:txBody>
          <a:bodyPr/>
          <a:p>
            <a:fld id="{43D8D398-7757-42BD-B326-5BC7AFD181B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3F47D2C-5186-4EB0-9A3C-AFE64EEE8A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4"/>
          </p:nvPr>
        </p:nvSpPr>
        <p:spPr/>
        <p:txBody>
          <a:bodyPr/>
          <a:p>
            <a:fld id="{31EFD522-AD30-4421-9872-572CE60BCE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19"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4"/>
          </p:nvPr>
        </p:nvSpPr>
        <p:spPr/>
        <p:txBody>
          <a:bodyPr/>
          <a:p>
            <a:fld id="{41AAE53B-F34C-435F-9FB0-006DCBD4FD6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21"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4"/>
          </p:nvPr>
        </p:nvSpPr>
        <p:spPr/>
        <p:txBody>
          <a:bodyPr/>
          <a:p>
            <a:fld id="{81694076-E423-4D99-87C7-C8E0626E04C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 name="PlaceHolder 2"/>
          <p:cNvSpPr>
            <a:spLocks noGrp="1"/>
          </p:cNvSpPr>
          <p:nvPr>
            <p:ph type="sldNum" idx="14"/>
          </p:nvPr>
        </p:nvSpPr>
        <p:spPr/>
        <p:txBody>
          <a:bodyPr/>
          <a:p>
            <a:fld id="{3CA3A431-B002-4E7F-87FA-C0212FE767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ED06B-A6FC-49D0-BCDA-CCC6CE76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465120"/>
            <a:ext cx="7770960" cy="6639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sldNum" idx="14"/>
          </p:nvPr>
        </p:nvSpPr>
        <p:spPr/>
        <p:txBody>
          <a:bodyPr/>
          <a:p>
            <a:fld id="{29BCE72A-C5CD-49AB-B9F9-85E3D76C3A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26"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B0F92BE7-98D2-4CFD-AD9B-C17D2C89E00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B5E5BA55-4B9F-4C08-A7C5-ED67CD754A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4"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sldNum" idx="14"/>
          </p:nvPr>
        </p:nvSpPr>
        <p:spPr/>
        <p:txBody>
          <a:bodyPr/>
          <a:p>
            <a:fld id="{51FCFC03-5546-41F0-BDC6-85A2FB3BE22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sldNum" idx="14"/>
          </p:nvPr>
        </p:nvSpPr>
        <p:spPr/>
        <p:txBody>
          <a:bodyPr/>
          <a:p>
            <a:fld id="{E653C95D-B0D3-4158-906E-5B616743E5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sldNum" idx="14"/>
          </p:nvPr>
        </p:nvSpPr>
        <p:spPr/>
        <p:txBody>
          <a:bodyPr/>
          <a:p>
            <a:fld id="{B8BD08D8-9298-4CA3-8440-239C5F1914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46"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sldNum" idx="14"/>
          </p:nvPr>
        </p:nvSpPr>
        <p:spPr/>
        <p:txBody>
          <a:bodyPr/>
          <a:p>
            <a:fld id="{5741AA87-454B-4E92-9B57-2A0DE20977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62AE849-9317-4FEA-B403-42D5EB5FC5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5"/>
          </p:nvPr>
        </p:nvSpPr>
        <p:spPr/>
        <p:txBody>
          <a:bodyPr/>
          <a:p>
            <a:fld id="{3C14F7A4-1234-4E90-A664-E8AF2E37333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cc66"/>
              </a:solidFill>
              <a:latin typeface="Arial"/>
            </a:endParaRPr>
          </a:p>
        </p:txBody>
      </p:sp>
      <p:sp>
        <p:nvSpPr>
          <p:cNvPr id="36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15"/>
          </p:nvPr>
        </p:nvSpPr>
        <p:spPr/>
        <p:txBody>
          <a:bodyPr/>
          <a:p>
            <a:fld id="{855E51F7-4960-44ED-B897-BC336C402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0" name="Group 1"/>
          <p:cNvGrpSpPr/>
          <p:nvPr/>
        </p:nvGrpSpPr>
        <p:grpSpPr>
          <a:xfrm>
            <a:off x="0" y="1440"/>
            <a:ext cx="9131400" cy="6843960"/>
            <a:chOff x="0" y="1440"/>
            <a:chExt cx="9131400" cy="6843960"/>
          </a:xfrm>
        </p:grpSpPr>
        <p:sp>
          <p:nvSpPr>
            <p:cNvPr id="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440" y="6181200"/>
            <a:ext cx="1903320" cy="590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Rounded MT Bold"/>
              </a:rPr>
              <a:t>01/06/11</a:t>
            </a:r>
            <a:endParaRPr b="0" lang="en-US" sz="2800" spc="-1" strike="noStrike">
              <a:solidFill>
                <a:srgbClr val="000000"/>
              </a:solidFill>
              <a:latin typeface="Arial Rounded MT Bold"/>
            </a:endParaRPr>
          </a:p>
        </p:txBody>
      </p:sp>
      <p:sp>
        <p:nvSpPr>
          <p:cNvPr id="5" name="PlaceHolder 3"/>
          <p:cNvSpPr>
            <a:spLocks noGrp="1"/>
          </p:cNvSpPr>
          <p:nvPr>
            <p:ph type="ftr" idx="2"/>
          </p:nvPr>
        </p:nvSpPr>
        <p:spPr>
          <a:xfrm>
            <a:off x="3123720" y="5151600"/>
            <a:ext cx="2894040" cy="265104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Rounded MT Bold"/>
              </a:rPr>
              <a:t>ELABORAZIONE ANQUAP-FNADA CORSI DI SETTEMBRE 08</a:t>
            </a:r>
            <a:endParaRPr b="0" lang="en-US" sz="2800" spc="-1" strike="noStrike">
              <a:solidFill>
                <a:srgbClr val="000000"/>
              </a:solidFill>
              <a:latin typeface="Arial Rounded MT Bold"/>
            </a:endParaRPr>
          </a:p>
        </p:txBody>
      </p:sp>
      <p:sp>
        <p:nvSpPr>
          <p:cNvPr id="6" name="PlaceHolder 4"/>
          <p:cNvSpPr>
            <a:spLocks noGrp="1"/>
          </p:cNvSpPr>
          <p:nvPr>
            <p:ph type="sldNum" idx="3"/>
          </p:nvPr>
        </p:nvSpPr>
        <p:spPr>
          <a:xfrm>
            <a:off x="6553080" y="6181200"/>
            <a:ext cx="1903680" cy="5907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800" spc="-1" strike="noStrike">
                <a:solidFill>
                  <a:srgbClr val="000000"/>
                </a:solidFill>
                <a:latin typeface="Arial Rounded MT Bol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364F1-97CB-4CD8-8E4A-A57B2DF45FF4}" type="slidenum">
              <a:rPr b="0" lang="it-IT" sz="2800" spc="-1" strike="noStrike">
                <a:solidFill>
                  <a:srgbClr val="000000"/>
                </a:solidFill>
                <a:latin typeface="Arial Rounded MT Bold"/>
              </a:rPr>
              <a:t>&lt;number&gt;</a:t>
            </a:fld>
            <a:endParaRPr b="0" lang="en-US" sz="2800" spc="-1" strike="noStrike">
              <a:solidFill>
                <a:srgbClr val="000000"/>
              </a:solidFill>
              <a:latin typeface="Arial Rounded MT Bold"/>
            </a:endParaRPr>
          </a:p>
        </p:txBody>
      </p:sp>
      <p:sp>
        <p:nvSpPr>
          <p:cNvPr id="7" name="PlaceHolder 5"/>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96" name="Group 1"/>
          <p:cNvGrpSpPr/>
          <p:nvPr/>
        </p:nvGrpSpPr>
        <p:grpSpPr>
          <a:xfrm>
            <a:off x="0" y="1440"/>
            <a:ext cx="9131400" cy="6843960"/>
            <a:chOff x="0" y="1440"/>
            <a:chExt cx="9131400" cy="6843960"/>
          </a:xfrm>
        </p:grpSpPr>
        <p:sp>
          <p:nvSpPr>
            <p:cNvPr id="397"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98"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9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0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03" name="PlaceHolder 3"/>
          <p:cNvSpPr>
            <a:spLocks noGrp="1"/>
          </p:cNvSpPr>
          <p:nvPr>
            <p:ph type="sldNum" idx="16"/>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42B16FD-B29B-4743-A906-447ABF9A7E73}"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40" name="Group 1"/>
          <p:cNvGrpSpPr/>
          <p:nvPr/>
        </p:nvGrpSpPr>
        <p:grpSpPr>
          <a:xfrm>
            <a:off x="0" y="1440"/>
            <a:ext cx="9131400" cy="6843960"/>
            <a:chOff x="0" y="1440"/>
            <a:chExt cx="9131400" cy="6843960"/>
          </a:xfrm>
        </p:grpSpPr>
        <p:sp>
          <p:nvSpPr>
            <p:cNvPr id="44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4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4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46"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47" name="PlaceHolder 3"/>
          <p:cNvSpPr>
            <a:spLocks noGrp="1"/>
          </p:cNvSpPr>
          <p:nvPr>
            <p:ph type="sldNum" idx="17"/>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7C86412-98CD-4A3F-9697-B63ECE67E5C0}"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84" name="Group 1"/>
          <p:cNvGrpSpPr/>
          <p:nvPr/>
        </p:nvGrpSpPr>
        <p:grpSpPr>
          <a:xfrm>
            <a:off x="0" y="1440"/>
            <a:ext cx="9131400" cy="6843960"/>
            <a:chOff x="0" y="1440"/>
            <a:chExt cx="9131400" cy="6843960"/>
          </a:xfrm>
        </p:grpSpPr>
        <p:sp>
          <p:nvSpPr>
            <p:cNvPr id="48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8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8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0"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1" name="PlaceHolder 3"/>
          <p:cNvSpPr>
            <a:spLocks noGrp="1"/>
          </p:cNvSpPr>
          <p:nvPr>
            <p:ph type="sldNum" idx="18"/>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FB13426-58EC-4936-8C92-37D1E8FB313A}"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528" name="Group 1"/>
          <p:cNvGrpSpPr/>
          <p:nvPr/>
        </p:nvGrpSpPr>
        <p:grpSpPr>
          <a:xfrm>
            <a:off x="0" y="1440"/>
            <a:ext cx="9131400" cy="6843960"/>
            <a:chOff x="0" y="1440"/>
            <a:chExt cx="9131400" cy="6843960"/>
          </a:xfrm>
        </p:grpSpPr>
        <p:sp>
          <p:nvSpPr>
            <p:cNvPr id="529"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530"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53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3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3"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34"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35" name="PlaceHolder 3"/>
          <p:cNvSpPr>
            <a:spLocks noGrp="1"/>
          </p:cNvSpPr>
          <p:nvPr>
            <p:ph type="sldNum" idx="19"/>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F14D3A5-FFB2-41E9-864D-B6CD87856D33}"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572" name="Group 1"/>
          <p:cNvGrpSpPr/>
          <p:nvPr/>
        </p:nvGrpSpPr>
        <p:grpSpPr>
          <a:xfrm>
            <a:off x="0" y="1440"/>
            <a:ext cx="9131400" cy="6843960"/>
            <a:chOff x="0" y="1440"/>
            <a:chExt cx="9131400" cy="6843960"/>
          </a:xfrm>
        </p:grpSpPr>
        <p:sp>
          <p:nvSpPr>
            <p:cNvPr id="57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57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57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7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7"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78"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79" name="PlaceHolder 3"/>
          <p:cNvSpPr>
            <a:spLocks noGrp="1"/>
          </p:cNvSpPr>
          <p:nvPr>
            <p:ph type="sldNum" idx="20"/>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12558E3-EF77-44F8-AD17-A10CA1CD8958}"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616" name="Group 1"/>
          <p:cNvGrpSpPr/>
          <p:nvPr/>
        </p:nvGrpSpPr>
        <p:grpSpPr>
          <a:xfrm>
            <a:off x="0" y="1440"/>
            <a:ext cx="9131400" cy="6843960"/>
            <a:chOff x="0" y="1440"/>
            <a:chExt cx="9131400" cy="6843960"/>
          </a:xfrm>
        </p:grpSpPr>
        <p:sp>
          <p:nvSpPr>
            <p:cNvPr id="617"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618"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61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2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2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62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623" name="PlaceHolder 3"/>
          <p:cNvSpPr>
            <a:spLocks noGrp="1"/>
          </p:cNvSpPr>
          <p:nvPr>
            <p:ph type="sldNum" idx="21"/>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7537408-F9F4-4C4D-BFAF-CAF67F929AFB}"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660" name="Group 1"/>
          <p:cNvGrpSpPr/>
          <p:nvPr/>
        </p:nvGrpSpPr>
        <p:grpSpPr>
          <a:xfrm>
            <a:off x="0" y="1440"/>
            <a:ext cx="9131400" cy="6843960"/>
            <a:chOff x="0" y="1440"/>
            <a:chExt cx="9131400" cy="6843960"/>
          </a:xfrm>
        </p:grpSpPr>
        <p:sp>
          <p:nvSpPr>
            <p:cNvPr id="66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66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66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6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65" name="PlaceHolder 3"/>
          <p:cNvSpPr>
            <a:spLocks noGrp="1"/>
          </p:cNvSpPr>
          <p:nvPr>
            <p:ph type="ftr" idx="22"/>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gdp - Torino, 8 Aprile 2003</a:t>
            </a:r>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702" name="Group 1"/>
          <p:cNvGrpSpPr/>
          <p:nvPr/>
        </p:nvGrpSpPr>
        <p:grpSpPr>
          <a:xfrm>
            <a:off x="0" y="1440"/>
            <a:ext cx="9131400" cy="6843960"/>
            <a:chOff x="0" y="1440"/>
            <a:chExt cx="9131400" cy="6843960"/>
          </a:xfrm>
        </p:grpSpPr>
        <p:sp>
          <p:nvSpPr>
            <p:cNvPr id="70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70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0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0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07" name="PlaceHolder 3"/>
          <p:cNvSpPr>
            <a:spLocks noGrp="1"/>
          </p:cNvSpPr>
          <p:nvPr>
            <p:ph type="ftr" idx="23"/>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gdp - Torino, 8 Aprile 2003</a:t>
            </a:r>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744" name="Group 2"/>
          <p:cNvGrpSpPr/>
          <p:nvPr/>
        </p:nvGrpSpPr>
        <p:grpSpPr>
          <a:xfrm>
            <a:off x="0" y="1440"/>
            <a:ext cx="9132840" cy="6845400"/>
            <a:chOff x="0" y="1440"/>
            <a:chExt cx="9132840" cy="6845400"/>
          </a:xfrm>
        </p:grpSpPr>
        <p:sp>
          <p:nvSpPr>
            <p:cNvPr id="74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74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48" name="PlaceHolder 2"/>
          <p:cNvSpPr>
            <a:spLocks noGrp="1"/>
          </p:cNvSpPr>
          <p:nvPr>
            <p:ph type="dt" idx="2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4F16-A44F-4C12-9D10-39EB2FE3A159}"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749" name="PlaceHolder 3"/>
          <p:cNvSpPr>
            <a:spLocks noGrp="1"/>
          </p:cNvSpPr>
          <p:nvPr>
            <p:ph type="ftr" idx="2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750" name="PlaceHolder 4"/>
          <p:cNvSpPr>
            <a:spLocks noGrp="1"/>
          </p:cNvSpPr>
          <p:nvPr>
            <p:ph type="sldNum" idx="2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78FF-58AE-4BA9-833E-F326F907071C}"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
        <p:nvSpPr>
          <p:cNvPr id="751"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788" name="Group 2"/>
          <p:cNvGrpSpPr/>
          <p:nvPr/>
        </p:nvGrpSpPr>
        <p:grpSpPr>
          <a:xfrm>
            <a:off x="-1035000" y="1552680"/>
            <a:ext cx="10179000" cy="5305320"/>
            <a:chOff x="-1035000" y="1552680"/>
            <a:chExt cx="10179000" cy="5305320"/>
          </a:xfrm>
        </p:grpSpPr>
        <p:sp>
          <p:nvSpPr>
            <p:cNvPr id="789"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790"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7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7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93" name="PlaceHolder 3"/>
          <p:cNvSpPr>
            <a:spLocks noGrp="1"/>
          </p:cNvSpPr>
          <p:nvPr>
            <p:ph type="dt" idx="2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DE39A6-2412-4F52-A00F-3A0D4F71A0EF}"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794" name="PlaceHolder 4"/>
          <p:cNvSpPr>
            <a:spLocks noGrp="1"/>
          </p:cNvSpPr>
          <p:nvPr>
            <p:ph type="ftr" idx="2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795" name="PlaceHolder 5"/>
          <p:cNvSpPr>
            <a:spLocks noGrp="1"/>
          </p:cNvSpPr>
          <p:nvPr>
            <p:ph type="sldNum" idx="2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44C944-BA90-4E13-833B-6219E5281D1E}"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44" name="Group 1"/>
          <p:cNvGrpSpPr/>
          <p:nvPr/>
        </p:nvGrpSpPr>
        <p:grpSpPr>
          <a:xfrm>
            <a:off x="0" y="1440"/>
            <a:ext cx="9131400" cy="6843960"/>
            <a:chOff x="0" y="1440"/>
            <a:chExt cx="9131400" cy="6843960"/>
          </a:xfrm>
        </p:grpSpPr>
        <p:sp>
          <p:nvSpPr>
            <p:cNvPr id="4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4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4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Text Box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49" name="Text Box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50" name="PlaceHolder 2"/>
          <p:cNvSpPr>
            <a:spLocks noGrp="1"/>
          </p:cNvSpPr>
          <p:nvPr>
            <p:ph type="sldNum" idx="4"/>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4F93B3F-D4B3-4D04-A6A0-53108347CEF4}"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
        <p:nvSpPr>
          <p:cNvPr id="51" name="PlaceHolder 3"/>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32" name="Group 2"/>
          <p:cNvGrpSpPr/>
          <p:nvPr/>
        </p:nvGrpSpPr>
        <p:grpSpPr>
          <a:xfrm>
            <a:off x="0" y="1440"/>
            <a:ext cx="9132840" cy="6845400"/>
            <a:chOff x="0" y="1440"/>
            <a:chExt cx="9132840" cy="6845400"/>
          </a:xfrm>
        </p:grpSpPr>
        <p:sp>
          <p:nvSpPr>
            <p:cNvPr id="8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83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8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37" name="PlaceHolder 3"/>
          <p:cNvSpPr>
            <a:spLocks noGrp="1"/>
          </p:cNvSpPr>
          <p:nvPr>
            <p:ph type="dt" idx="3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1F9FBC-299B-4F0F-99F3-D5E4E7214610}"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838" name="PlaceHolder 4"/>
          <p:cNvSpPr>
            <a:spLocks noGrp="1"/>
          </p:cNvSpPr>
          <p:nvPr>
            <p:ph type="ftr" idx="3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839" name="PlaceHolder 5"/>
          <p:cNvSpPr>
            <a:spLocks noGrp="1"/>
          </p:cNvSpPr>
          <p:nvPr>
            <p:ph type="sldNum" idx="3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0765FEA-1677-4E92-B89F-17DC87570E05}"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76" name="Group 2"/>
          <p:cNvGrpSpPr/>
          <p:nvPr/>
        </p:nvGrpSpPr>
        <p:grpSpPr>
          <a:xfrm>
            <a:off x="0" y="1440"/>
            <a:ext cx="9132840" cy="6845400"/>
            <a:chOff x="0" y="1440"/>
            <a:chExt cx="9132840" cy="6845400"/>
          </a:xfrm>
        </p:grpSpPr>
        <p:sp>
          <p:nvSpPr>
            <p:cNvPr id="8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87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8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8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81" name="PlaceHolder 3"/>
          <p:cNvSpPr>
            <a:spLocks noGrp="1"/>
          </p:cNvSpPr>
          <p:nvPr>
            <p:ph type="dt" idx="33"/>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E5328A-982E-4745-AB63-A110F615B5C3}"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882" name="PlaceHolder 4"/>
          <p:cNvSpPr>
            <a:spLocks noGrp="1"/>
          </p:cNvSpPr>
          <p:nvPr>
            <p:ph type="ftr" idx="34"/>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883" name="PlaceHolder 5"/>
          <p:cNvSpPr>
            <a:spLocks noGrp="1"/>
          </p:cNvSpPr>
          <p:nvPr>
            <p:ph type="sldNum" idx="3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1D84B7-00A4-473B-90DE-FB8AF17044A9}"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920" name="Group 2"/>
          <p:cNvGrpSpPr/>
          <p:nvPr/>
        </p:nvGrpSpPr>
        <p:grpSpPr>
          <a:xfrm>
            <a:off x="0" y="1440"/>
            <a:ext cx="9132840" cy="6845400"/>
            <a:chOff x="0" y="1440"/>
            <a:chExt cx="9132840" cy="6845400"/>
          </a:xfrm>
        </p:grpSpPr>
        <p:sp>
          <p:nvSpPr>
            <p:cNvPr id="9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92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25" name="PlaceHolder 3"/>
          <p:cNvSpPr>
            <a:spLocks noGrp="1"/>
          </p:cNvSpPr>
          <p:nvPr>
            <p:ph type="dt" idx="36"/>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6A403D-E14B-41C9-8213-AB613B7EDB68}"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926" name="PlaceHolder 4"/>
          <p:cNvSpPr>
            <a:spLocks noGrp="1"/>
          </p:cNvSpPr>
          <p:nvPr>
            <p:ph type="ftr" idx="37"/>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27" name="PlaceHolder 5"/>
          <p:cNvSpPr>
            <a:spLocks noGrp="1"/>
          </p:cNvSpPr>
          <p:nvPr>
            <p:ph type="sldNum" idx="38"/>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7400900-8A2E-4070-855F-0F108EF91635}"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964" name="Group 2"/>
          <p:cNvGrpSpPr/>
          <p:nvPr/>
        </p:nvGrpSpPr>
        <p:grpSpPr>
          <a:xfrm>
            <a:off x="0" y="1440"/>
            <a:ext cx="9132840" cy="6845400"/>
            <a:chOff x="0" y="1440"/>
            <a:chExt cx="9132840" cy="6845400"/>
          </a:xfrm>
        </p:grpSpPr>
        <p:sp>
          <p:nvSpPr>
            <p:cNvPr id="9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96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69" name="PlaceHolder 3"/>
          <p:cNvSpPr>
            <a:spLocks noGrp="1"/>
          </p:cNvSpPr>
          <p:nvPr>
            <p:ph type="dt" idx="39"/>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2623EBA-3E93-48DA-BB16-9593E1650791}"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970" name="PlaceHolder 4"/>
          <p:cNvSpPr>
            <a:spLocks noGrp="1"/>
          </p:cNvSpPr>
          <p:nvPr>
            <p:ph type="ftr" idx="40"/>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71" name="PlaceHolder 5"/>
          <p:cNvSpPr>
            <a:spLocks noGrp="1"/>
          </p:cNvSpPr>
          <p:nvPr>
            <p:ph type="sldNum" idx="4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8B97D9-631D-484F-9DB0-80BAE082CCA5}"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08" name="Group 2"/>
          <p:cNvGrpSpPr/>
          <p:nvPr/>
        </p:nvGrpSpPr>
        <p:grpSpPr>
          <a:xfrm>
            <a:off x="0" y="1440"/>
            <a:ext cx="9132840" cy="6845400"/>
            <a:chOff x="0" y="1440"/>
            <a:chExt cx="9132840" cy="6845400"/>
          </a:xfrm>
        </p:grpSpPr>
        <p:sp>
          <p:nvSpPr>
            <p:cNvPr id="10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1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13" name="PlaceHolder 3"/>
          <p:cNvSpPr>
            <a:spLocks noGrp="1"/>
          </p:cNvSpPr>
          <p:nvPr>
            <p:ph type="dt" idx="4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B7A741-EDDF-4343-98D7-3B5EF654DEEF}"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014" name="PlaceHolder 4"/>
          <p:cNvSpPr>
            <a:spLocks noGrp="1"/>
          </p:cNvSpPr>
          <p:nvPr>
            <p:ph type="ftr" idx="4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015" name="PlaceHolder 5"/>
          <p:cNvSpPr>
            <a:spLocks noGrp="1"/>
          </p:cNvSpPr>
          <p:nvPr>
            <p:ph type="sldNum" idx="4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D30637-CAE7-4492-A1BB-44C3E16DFF6B}"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52" name="Group 2"/>
          <p:cNvGrpSpPr/>
          <p:nvPr/>
        </p:nvGrpSpPr>
        <p:grpSpPr>
          <a:xfrm>
            <a:off x="0" y="1440"/>
            <a:ext cx="9132840" cy="6845400"/>
            <a:chOff x="0" y="1440"/>
            <a:chExt cx="9132840" cy="6845400"/>
          </a:xfrm>
        </p:grpSpPr>
        <p:sp>
          <p:nvSpPr>
            <p:cNvPr id="10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5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57" name="PlaceHolder 3"/>
          <p:cNvSpPr>
            <a:spLocks noGrp="1"/>
          </p:cNvSpPr>
          <p:nvPr>
            <p:ph type="dt" idx="45"/>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2595041-E4F7-4C46-9456-D0D2D705D184}"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058" name="PlaceHolder 4"/>
          <p:cNvSpPr>
            <a:spLocks noGrp="1"/>
          </p:cNvSpPr>
          <p:nvPr>
            <p:ph type="ftr" idx="46"/>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059" name="PlaceHolder 5"/>
          <p:cNvSpPr>
            <a:spLocks noGrp="1"/>
          </p:cNvSpPr>
          <p:nvPr>
            <p:ph type="sldNum" idx="47"/>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73CDC7-CEB5-490C-9103-DE40DC68D4B5}"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096" name="Group 2"/>
          <p:cNvGrpSpPr/>
          <p:nvPr/>
        </p:nvGrpSpPr>
        <p:grpSpPr>
          <a:xfrm>
            <a:off x="0" y="1440"/>
            <a:ext cx="9132840" cy="6845400"/>
            <a:chOff x="0" y="1440"/>
            <a:chExt cx="9132840" cy="6845400"/>
          </a:xfrm>
        </p:grpSpPr>
        <p:sp>
          <p:nvSpPr>
            <p:cNvPr id="10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09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0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01" name="PlaceHolder 3"/>
          <p:cNvSpPr>
            <a:spLocks noGrp="1"/>
          </p:cNvSpPr>
          <p:nvPr>
            <p:ph type="dt" idx="48"/>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C22846-8D44-423E-B675-6F77F6347F64}"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102" name="PlaceHolder 4"/>
          <p:cNvSpPr>
            <a:spLocks noGrp="1"/>
          </p:cNvSpPr>
          <p:nvPr>
            <p:ph type="ftr" idx="49"/>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03" name="PlaceHolder 5"/>
          <p:cNvSpPr>
            <a:spLocks noGrp="1"/>
          </p:cNvSpPr>
          <p:nvPr>
            <p:ph type="sldNum" idx="50"/>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0616AD-2785-4A80-83DF-C481FC2B40B1}"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140" name="Group 2"/>
          <p:cNvGrpSpPr/>
          <p:nvPr/>
        </p:nvGrpSpPr>
        <p:grpSpPr>
          <a:xfrm>
            <a:off x="0" y="1440"/>
            <a:ext cx="9132840" cy="6845400"/>
            <a:chOff x="0" y="1440"/>
            <a:chExt cx="9132840" cy="6845400"/>
          </a:xfrm>
        </p:grpSpPr>
        <p:sp>
          <p:nvSpPr>
            <p:cNvPr id="11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14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45" name="PlaceHolder 3"/>
          <p:cNvSpPr>
            <a:spLocks noGrp="1"/>
          </p:cNvSpPr>
          <p:nvPr>
            <p:ph type="dt" idx="5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128CAEB-EFA4-49B3-B2D8-33A8B7DADD87}"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146" name="PlaceHolder 4"/>
          <p:cNvSpPr>
            <a:spLocks noGrp="1"/>
          </p:cNvSpPr>
          <p:nvPr>
            <p:ph type="ftr" idx="5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47" name="PlaceHolder 5"/>
          <p:cNvSpPr>
            <a:spLocks noGrp="1"/>
          </p:cNvSpPr>
          <p:nvPr>
            <p:ph type="sldNum" idx="5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DD6FBF-7B89-4988-8F04-11B67D5703D2}"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184" name="Group 2"/>
          <p:cNvGrpSpPr/>
          <p:nvPr/>
        </p:nvGrpSpPr>
        <p:grpSpPr>
          <a:xfrm>
            <a:off x="0" y="1440"/>
            <a:ext cx="9132840" cy="6845400"/>
            <a:chOff x="0" y="1440"/>
            <a:chExt cx="9132840" cy="6845400"/>
          </a:xfrm>
        </p:grpSpPr>
        <p:sp>
          <p:nvSpPr>
            <p:cNvPr id="11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18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1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89" name="PlaceHolder 3"/>
          <p:cNvSpPr>
            <a:spLocks noGrp="1"/>
          </p:cNvSpPr>
          <p:nvPr>
            <p:ph type="dt" idx="5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22883C-FC92-478D-A721-8C081B7F8C00}"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190" name="PlaceHolder 4"/>
          <p:cNvSpPr>
            <a:spLocks noGrp="1"/>
          </p:cNvSpPr>
          <p:nvPr>
            <p:ph type="ftr" idx="5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191" name="PlaceHolder 5"/>
          <p:cNvSpPr>
            <a:spLocks noGrp="1"/>
          </p:cNvSpPr>
          <p:nvPr>
            <p:ph type="sldNum" idx="5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CC30FF5-786E-4A0C-BDE9-2F1CFDC961AF}"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228" name="Group 2"/>
          <p:cNvGrpSpPr/>
          <p:nvPr/>
        </p:nvGrpSpPr>
        <p:grpSpPr>
          <a:xfrm>
            <a:off x="0" y="1440"/>
            <a:ext cx="9132840" cy="6845400"/>
            <a:chOff x="0" y="1440"/>
            <a:chExt cx="9132840" cy="6845400"/>
          </a:xfrm>
        </p:grpSpPr>
        <p:sp>
          <p:nvSpPr>
            <p:cNvPr id="122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23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33" name="PlaceHolder 3"/>
          <p:cNvSpPr>
            <a:spLocks noGrp="1"/>
          </p:cNvSpPr>
          <p:nvPr>
            <p:ph type="dt" idx="5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4B88D6D-CE25-4788-AE9B-B0139CE4A0A2}"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234" name="PlaceHolder 4"/>
          <p:cNvSpPr>
            <a:spLocks noGrp="1"/>
          </p:cNvSpPr>
          <p:nvPr>
            <p:ph type="ftr" idx="5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235" name="PlaceHolder 5"/>
          <p:cNvSpPr>
            <a:spLocks noGrp="1"/>
          </p:cNvSpPr>
          <p:nvPr>
            <p:ph type="sldNum" idx="5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498FEF7-8CBE-4438-800C-080D41F7C403}"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88" name="Group 1"/>
          <p:cNvGrpSpPr/>
          <p:nvPr/>
        </p:nvGrpSpPr>
        <p:grpSpPr>
          <a:xfrm>
            <a:off x="-1035000" y="1552680"/>
            <a:ext cx="10177560" cy="5303880"/>
            <a:chOff x="-1035000" y="1552680"/>
            <a:chExt cx="10177560" cy="5303880"/>
          </a:xfrm>
        </p:grpSpPr>
        <p:sp>
          <p:nvSpPr>
            <p:cNvPr id="89" name="Freeform 2"/>
            <p:cNvSpPr/>
            <p:nvPr/>
          </p:nvSpPr>
          <p:spPr>
            <a:xfrm>
              <a:off x="3271680" y="2709720"/>
              <a:ext cx="5870880" cy="41468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90" name="Freeform 3"/>
            <p:cNvSpPr/>
            <p:nvPr/>
          </p:nvSpPr>
          <p:spPr>
            <a:xfrm>
              <a:off x="-1035000" y="1552680"/>
              <a:ext cx="6724440" cy="530388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9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5"/>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01/06/11</a:t>
            </a:r>
            <a:endParaRPr b="0" lang="en-US" sz="1400" spc="-1" strike="noStrike">
              <a:solidFill>
                <a:srgbClr val="000000"/>
              </a:solidFill>
              <a:latin typeface="Arial Rounded MT Bold"/>
            </a:endParaRPr>
          </a:p>
        </p:txBody>
      </p:sp>
      <p:sp>
        <p:nvSpPr>
          <p:cNvPr id="94" name="PlaceHolder 4"/>
          <p:cNvSpPr>
            <a:spLocks noGrp="1"/>
          </p:cNvSpPr>
          <p:nvPr>
            <p:ph type="ftr" idx="6"/>
          </p:nvPr>
        </p:nvSpPr>
        <p:spPr>
          <a:xfrm>
            <a:off x="3123720" y="6217920"/>
            <a:ext cx="2894040" cy="51732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95" name="PlaceHolder 5"/>
          <p:cNvSpPr>
            <a:spLocks noGrp="1"/>
          </p:cNvSpPr>
          <p:nvPr>
            <p:ph type="sldNum" idx="7"/>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4252D7C-15D5-48F0-9F9D-78A0BD2213DE}"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272" name="Group 2"/>
          <p:cNvGrpSpPr/>
          <p:nvPr/>
        </p:nvGrpSpPr>
        <p:grpSpPr>
          <a:xfrm>
            <a:off x="0" y="1440"/>
            <a:ext cx="9132840" cy="6845400"/>
            <a:chOff x="0" y="1440"/>
            <a:chExt cx="9132840" cy="6845400"/>
          </a:xfrm>
        </p:grpSpPr>
        <p:sp>
          <p:nvSpPr>
            <p:cNvPr id="127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27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2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77" name="PlaceHolder 3"/>
          <p:cNvSpPr>
            <a:spLocks noGrp="1"/>
          </p:cNvSpPr>
          <p:nvPr>
            <p:ph type="dt" idx="60"/>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72109B-A443-4257-BF39-8405C2CD5CD6}" type="datetime">
              <a:rPr b="0" lang="it-IT" sz="1400" spc="-1" strike="noStrike">
                <a:solidFill>
                  <a:srgbClr val="ffffff"/>
                </a:solidFill>
                <a:latin typeface="Times New Roman"/>
              </a:rPr>
              <a:t>28/07/26</a:t>
            </a:fld>
            <a:endParaRPr b="0" lang="en-US" sz="1400" spc="-1" strike="noStrike">
              <a:solidFill>
                <a:srgbClr val="000000"/>
              </a:solidFill>
              <a:latin typeface="Arial Rounded MT Bold"/>
            </a:endParaRPr>
          </a:p>
        </p:txBody>
      </p:sp>
      <p:sp>
        <p:nvSpPr>
          <p:cNvPr id="1278" name="PlaceHolder 4"/>
          <p:cNvSpPr>
            <a:spLocks noGrp="1"/>
          </p:cNvSpPr>
          <p:nvPr>
            <p:ph type="ftr" idx="6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279" name="PlaceHolder 5"/>
          <p:cNvSpPr>
            <a:spLocks noGrp="1"/>
          </p:cNvSpPr>
          <p:nvPr>
            <p:ph type="sldNum" idx="62"/>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F70E0B-ABCF-459F-911B-32B3B638754D}"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132" name="Group 1"/>
          <p:cNvGrpSpPr/>
          <p:nvPr/>
        </p:nvGrpSpPr>
        <p:grpSpPr>
          <a:xfrm>
            <a:off x="0" y="1440"/>
            <a:ext cx="9131400" cy="6843960"/>
            <a:chOff x="0" y="1440"/>
            <a:chExt cx="9131400" cy="6843960"/>
          </a:xfrm>
        </p:grpSpPr>
        <p:sp>
          <p:nvSpPr>
            <p:cNvPr id="13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13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3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8"/>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ffffff"/>
                </a:solidFill>
                <a:latin typeface="Times New Roman"/>
              </a:rPr>
              <a:t>01/06/11</a:t>
            </a:r>
            <a:endParaRPr b="0" lang="en-US" sz="1400" spc="-1" strike="noStrike">
              <a:solidFill>
                <a:srgbClr val="000000"/>
              </a:solidFill>
              <a:latin typeface="Arial Rounded MT Bold"/>
            </a:endParaRPr>
          </a:p>
        </p:txBody>
      </p:sp>
      <p:sp>
        <p:nvSpPr>
          <p:cNvPr id="138" name="PlaceHolder 4"/>
          <p:cNvSpPr>
            <a:spLocks noGrp="1"/>
          </p:cNvSpPr>
          <p:nvPr>
            <p:ph type="ftr" idx="9"/>
          </p:nvPr>
        </p:nvSpPr>
        <p:spPr>
          <a:xfrm>
            <a:off x="3123720" y="6217920"/>
            <a:ext cx="2894040" cy="51732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rPr>
              <a:t>ELABORAZIONE ANQUAP-FNADA CORSI DI SETTEMBRE 08</a:t>
            </a:r>
            <a:endParaRPr b="0" lang="en-US" sz="1400" spc="-1" strike="noStrike">
              <a:solidFill>
                <a:srgbClr val="000000"/>
              </a:solidFill>
              <a:latin typeface="Arial Rounded MT Bold"/>
            </a:endParaRPr>
          </a:p>
        </p:txBody>
      </p:sp>
      <p:sp>
        <p:nvSpPr>
          <p:cNvPr id="139" name="PlaceHolder 5"/>
          <p:cNvSpPr>
            <a:spLocks noGrp="1"/>
          </p:cNvSpPr>
          <p:nvPr>
            <p:ph type="sldNum" idx="10"/>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3607BA9-9D5D-4783-9B77-B1631653A2E4}"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176" name="Group 1"/>
          <p:cNvGrpSpPr/>
          <p:nvPr/>
        </p:nvGrpSpPr>
        <p:grpSpPr>
          <a:xfrm>
            <a:off x="-1035000" y="1552680"/>
            <a:ext cx="10177560" cy="5303880"/>
            <a:chOff x="-1035000" y="1552680"/>
            <a:chExt cx="10177560" cy="5303880"/>
          </a:xfrm>
        </p:grpSpPr>
        <p:sp>
          <p:nvSpPr>
            <p:cNvPr id="177" name="Freeform 2"/>
            <p:cNvSpPr/>
            <p:nvPr/>
          </p:nvSpPr>
          <p:spPr>
            <a:xfrm>
              <a:off x="3271680" y="2709720"/>
              <a:ext cx="5870880" cy="41468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178" name="Freeform 3"/>
            <p:cNvSpPr/>
            <p:nvPr/>
          </p:nvSpPr>
          <p:spPr>
            <a:xfrm>
              <a:off x="-1035000" y="1552680"/>
              <a:ext cx="6724440" cy="530388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179"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82"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183" name="PlaceHolder 3"/>
          <p:cNvSpPr>
            <a:spLocks noGrp="1"/>
          </p:cNvSpPr>
          <p:nvPr>
            <p:ph type="sldNum" idx="11"/>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83813C4-2EA7-4D3C-BE79-7C1B16281D93}"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220" name="Group 1"/>
          <p:cNvGrpSpPr/>
          <p:nvPr/>
        </p:nvGrpSpPr>
        <p:grpSpPr>
          <a:xfrm>
            <a:off x="0" y="1440"/>
            <a:ext cx="9131400" cy="6843960"/>
            <a:chOff x="0" y="1440"/>
            <a:chExt cx="9131400" cy="6843960"/>
          </a:xfrm>
        </p:grpSpPr>
        <p:sp>
          <p:nvSpPr>
            <p:cNvPr id="221"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22"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223"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26"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27" name="PlaceHolder 3"/>
          <p:cNvSpPr>
            <a:spLocks noGrp="1"/>
          </p:cNvSpPr>
          <p:nvPr>
            <p:ph type="sldNum" idx="12"/>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8AD58CC-075C-499F-A531-CBEDF27A0E9E}"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264" name="Group 1"/>
          <p:cNvGrpSpPr/>
          <p:nvPr/>
        </p:nvGrpSpPr>
        <p:grpSpPr>
          <a:xfrm>
            <a:off x="0" y="1440"/>
            <a:ext cx="9131400" cy="6843960"/>
            <a:chOff x="0" y="1440"/>
            <a:chExt cx="9131400" cy="6843960"/>
          </a:xfrm>
        </p:grpSpPr>
        <p:sp>
          <p:nvSpPr>
            <p:cNvPr id="265"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266"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267"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70"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271" name="PlaceHolder 3"/>
          <p:cNvSpPr>
            <a:spLocks noGrp="1"/>
          </p:cNvSpPr>
          <p:nvPr>
            <p:ph type="sldNum" idx="13"/>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D1D63C8-A37B-4E24-BD2C-4E4B1A78B0CF}"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08" name="Group 1"/>
          <p:cNvGrpSpPr/>
          <p:nvPr/>
        </p:nvGrpSpPr>
        <p:grpSpPr>
          <a:xfrm>
            <a:off x="0" y="1440"/>
            <a:ext cx="9131400" cy="6843960"/>
            <a:chOff x="0" y="1440"/>
            <a:chExt cx="9131400" cy="6843960"/>
          </a:xfrm>
        </p:grpSpPr>
        <p:sp>
          <p:nvSpPr>
            <p:cNvPr id="309"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10"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11"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14"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15" name="PlaceHolder 3"/>
          <p:cNvSpPr>
            <a:spLocks noGrp="1"/>
          </p:cNvSpPr>
          <p:nvPr>
            <p:ph type="sldNum" idx="14"/>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3001F23-2728-4372-8D2D-696FE31CFBE4}"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0"/>
        </a:gradFill>
      </p:bgPr>
    </p:bg>
    <p:spTree>
      <p:nvGrpSpPr>
        <p:cNvPr id="1" name=""/>
        <p:cNvGrpSpPr/>
        <p:nvPr/>
      </p:nvGrpSpPr>
      <p:grpSpPr>
        <a:xfrm>
          <a:off x="0" y="0"/>
          <a:ext cx="0" cy="0"/>
          <a:chOff x="0" y="0"/>
          <a:chExt cx="0" cy="0"/>
        </a:xfrm>
      </p:grpSpPr>
      <p:grpSp>
        <p:nvGrpSpPr>
          <p:cNvPr id="352" name="Group 1"/>
          <p:cNvGrpSpPr/>
          <p:nvPr/>
        </p:nvGrpSpPr>
        <p:grpSpPr>
          <a:xfrm>
            <a:off x="0" y="1440"/>
            <a:ext cx="9131400" cy="6843960"/>
            <a:chOff x="0" y="1440"/>
            <a:chExt cx="9131400" cy="6843960"/>
          </a:xfrm>
        </p:grpSpPr>
        <p:sp>
          <p:nvSpPr>
            <p:cNvPr id="353" name="Freeform 2"/>
            <p:cNvSpPr/>
            <p:nvPr/>
          </p:nvSpPr>
          <p:spPr>
            <a:xfrm>
              <a:off x="5388120" y="1585800"/>
              <a:ext cx="3743280" cy="525960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sp>
          <p:nvSpPr>
            <p:cNvPr id="354" name="Freeform 3"/>
            <p:cNvSpPr/>
            <p:nvPr/>
          </p:nvSpPr>
          <p:spPr>
            <a:xfrm>
              <a:off x="0" y="1440"/>
              <a:ext cx="8408880" cy="6843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Rounded MT Bold"/>
              </a:endParaRPr>
            </a:p>
          </p:txBody>
        </p:sp>
      </p:grpSp>
      <p:sp>
        <p:nvSpPr>
          <p:cNvPr id="355"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Text Box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58" name="Text Box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sp>
        <p:nvSpPr>
          <p:cNvPr id="359" name="PlaceHolder 3"/>
          <p:cNvSpPr>
            <a:spLocks noGrp="1"/>
          </p:cNvSpPr>
          <p:nvPr>
            <p:ph type="sldNum" idx="15"/>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574E414-3E08-48B6-B963-5EF07EF3CA31}" type="slidenum">
              <a:rPr b="0" lang="it-IT" sz="1400" spc="-1" strike="noStrike">
                <a:solidFill>
                  <a:srgbClr val="ffffff"/>
                </a:solidFill>
                <a:latin typeface="Times New Roman"/>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cupweb.tesoro.it/CUPWeb/" TargetMode="External"/><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avcp.it/"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Text Box 1"/>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4300" spc="-1" strike="noStrike">
                <a:solidFill>
                  <a:srgbClr val="ffffff"/>
                </a:solidFill>
                <a:latin typeface="Calibri"/>
              </a:rPr>
              <a:t>Seminario di Formazione Professionale</a:t>
            </a:r>
            <a:endParaRPr b="0" lang="en-US" sz="43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ITCG «Aterno-Manthonè»</a:t>
            </a:r>
            <a:endParaRPr b="0" lang="en-US" sz="4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3200" spc="-1" strike="noStrike">
                <a:solidFill>
                  <a:srgbClr val="ffffff"/>
                </a:solidFill>
                <a:latin typeface="Calibri"/>
              </a:rPr>
              <a:t>Pescara  venerdì 13 gennaio 2012</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L’attività negoziale delle istituzioni scolastiche per l’acquisizione  di beni e servizi ai sensi del D.L.vo n. 163/2006 “Codice dei Contratti Pubblici” regole, procedure, competenze con riferimento specifico  alle acquisizioni in economia ed all’adozione del relativo Regolamento d’istituto.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Aspetti giuridico-applicativi della “Tracciabilità dei flussi Finanziari pubblici”, Legge n. 136/2010.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 </a:t>
            </a:r>
            <a:r>
              <a:rPr b="1" i="1" lang="it-IT" sz="2400" spc="-1" strike="noStrike">
                <a:solidFill>
                  <a:srgbClr val="ffff00"/>
                </a:solidFill>
                <a:latin typeface="Calibri"/>
              </a:rPr>
              <a:t>DURC, CIG ,CUP. </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400" spc="-1" strike="noStrike">
                <a:solidFill>
                  <a:srgbClr val="ffff00"/>
                </a:solidFill>
                <a:latin typeface="Calibri"/>
              </a:rPr>
              <a:t>OIL e firma Digitale.</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Elaborazione  e  Presentazione a cura: </a:t>
            </a:r>
            <a:r>
              <a:rPr b="1" i="1" lang="it-IT" sz="1600" spc="-1" strike="noStrike" u="sng">
                <a:solidFill>
                  <a:srgbClr val="ffff00"/>
                </a:solidFill>
                <a:uFillTx/>
                <a:latin typeface="Calibri"/>
              </a:rPr>
              <a:t>dott. SALVATORE  GALLO   </a:t>
            </a:r>
            <a:endParaRPr b="0" lang="en-US" sz="1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 </a:t>
            </a:r>
            <a:r>
              <a:rPr b="1" i="1" lang="it-IT" sz="1400" spc="-1" strike="noStrike" u="sng">
                <a:solidFill>
                  <a:srgbClr val="ffffff"/>
                </a:solidFill>
                <a:uFillTx/>
                <a:latin typeface="Calibri"/>
              </a:rPr>
              <a:t>Esperto legislazione e normativa scolastica - Dirigente Nazionale  ANQUAP  </a:t>
            </a:r>
            <a:endParaRPr b="0" lang="en-US" sz="1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1400" spc="-1" strike="noStrike" u="sng">
                <a:solidFill>
                  <a:srgbClr val="ffffff"/>
                </a:solidFill>
                <a:uFillTx/>
                <a:latin typeface="Calibri"/>
              </a:rPr>
              <a:t>Responsabile Ufficio  Nazionale Contabilità ANQUAP - Componente Comitato Nazionale Gestione FNADA - Autore PAIS</a:t>
            </a:r>
            <a:r>
              <a:rPr b="1" lang="it-IT" sz="1400" spc="-1" strike="noStrike" u="sng">
                <a:solidFill>
                  <a:srgbClr val="ffff00"/>
                </a:solidFill>
                <a:uFillTx/>
                <a:latin typeface="Calibri"/>
              </a:rPr>
              <a:t> </a:t>
            </a:r>
            <a:endParaRPr b="0" lang="en-US" sz="1400" spc="-1" strike="noStrike">
              <a:solidFill>
                <a:srgbClr val="ffffff"/>
              </a:solidFill>
              <a:latin typeface="Arial Rounded MT Bold"/>
            </a:endParaRPr>
          </a:p>
        </p:txBody>
      </p:sp>
      <p:sp>
        <p:nvSpPr>
          <p:cNvPr id="132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725BF-4090-4818-A774-BC62788ADFA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16E63-C06B-46AD-B859-5C0E7D1EBED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1"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2" name="Text Box 3"/>
          <p:cNvSpPr/>
          <p:nvPr/>
        </p:nvSpPr>
        <p:spPr>
          <a:xfrm>
            <a:off x="108000" y="836640"/>
            <a:ext cx="8785080" cy="543384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u="sng">
                <a:solidFill>
                  <a:srgbClr val="66ffff"/>
                </a:solidFill>
                <a:uFillTx/>
                <a:latin typeface="Calibri"/>
              </a:rPr>
              <a:t>PER LAVORI</a:t>
            </a:r>
            <a:r>
              <a:rPr b="1" lang="it-IT" sz="2800" spc="-1" strike="noStrike">
                <a:solidFill>
                  <a:srgbClr val="66ffff"/>
                </a:solidFill>
                <a:latin typeface="Calibri"/>
              </a:rPr>
              <a:t> </a:t>
            </a:r>
            <a:r>
              <a:rPr b="1" lang="it-IT" sz="2800" spc="-1" strike="noStrike">
                <a:solidFill>
                  <a:srgbClr val="ffffff"/>
                </a:solidFill>
                <a:latin typeface="Calibri"/>
              </a:rPr>
              <a:t>di valore pari o superiore a</a:t>
            </a:r>
            <a:r>
              <a:rPr b="1" lang="it-IT" sz="2800" spc="-1" strike="noStrike">
                <a:solidFill>
                  <a:srgbClr val="ffcc66"/>
                </a:solidFill>
                <a:latin typeface="Calibri"/>
              </a:rPr>
              <a:t> </a:t>
            </a:r>
            <a:r>
              <a:rPr b="1" lang="it-IT" sz="2800" spc="-1" strike="noStrike">
                <a:solidFill>
                  <a:srgbClr val="ffff00"/>
                </a:solidFill>
                <a:latin typeface="Calibri"/>
              </a:rPr>
              <a:t>€.40.000 </a:t>
            </a:r>
            <a:r>
              <a:rPr b="1" lang="it-IT" sz="2800" spc="-1" strike="noStrike">
                <a:solidFill>
                  <a:srgbClr val="ffffff"/>
                </a:solidFill>
                <a:latin typeface="Calibri"/>
              </a:rPr>
              <a:t>e non superiore a </a:t>
            </a:r>
            <a:r>
              <a:rPr b="1" lang="it-IT" sz="2800" spc="-1" strike="noStrike">
                <a:solidFill>
                  <a:srgbClr val="ffff00"/>
                </a:solidFill>
                <a:latin typeface="Calibri"/>
              </a:rPr>
              <a:t>€.200.000 </a:t>
            </a:r>
            <a:r>
              <a:rPr b="1" lang="it-IT" sz="2800" spc="-1" strike="noStrike">
                <a:solidFill>
                  <a:srgbClr val="ffffff"/>
                </a:solidFill>
                <a:latin typeface="Calibri"/>
              </a:rPr>
              <a:t>si procede all’affidamento mediante </a:t>
            </a:r>
            <a:r>
              <a:rPr b="1" lang="it-IT" sz="2800" spc="-1" strike="noStrike">
                <a:solidFill>
                  <a:srgbClr val="ffff00"/>
                </a:solidFill>
                <a:latin typeface="Calibri"/>
              </a:rPr>
              <a:t>“cottimo fiduciario” </a:t>
            </a:r>
            <a:r>
              <a:rPr b="1" lang="it-IT" sz="2800" spc="-1" strike="noStrike">
                <a:solidFill>
                  <a:srgbClr val="ffffff"/>
                </a:solidFill>
                <a:latin typeface="Calibri"/>
              </a:rPr>
              <a:t>nel rispetto dei principi di </a:t>
            </a:r>
            <a:r>
              <a:rPr b="1" lang="it-IT" sz="2800" spc="-1" strike="noStrike">
                <a:solidFill>
                  <a:srgbClr val="ffff00"/>
                </a:solidFill>
                <a:latin typeface="Calibri"/>
              </a:rPr>
              <a:t>“trasparenza”, “rotazione”, “parità di trattamento” </a:t>
            </a:r>
            <a:r>
              <a:rPr b="1" lang="it-IT" sz="2800" spc="-1" strike="noStrike">
                <a:solidFill>
                  <a:srgbClr val="ffffff"/>
                </a:solidFill>
                <a:latin typeface="Calibri"/>
              </a:rPr>
              <a:t>previa consultazione di </a:t>
            </a:r>
            <a:r>
              <a:rPr b="1" lang="it-IT" sz="2800" spc="-1" strike="noStrike">
                <a:solidFill>
                  <a:srgbClr val="ffff00"/>
                </a:solidFill>
                <a:latin typeface="Calibri"/>
              </a:rPr>
              <a:t>“ALMENO 5 OPERATORI ECONOMICI” </a:t>
            </a:r>
            <a:r>
              <a:rPr b="1" lang="it-IT" sz="2800" spc="-1" strike="noStrike">
                <a:solidFill>
                  <a:srgbClr val="ffffff"/>
                </a:solidFill>
                <a:latin typeface="Calibri"/>
              </a:rPr>
              <a:t>se sussistono in tale numero soggetti idonei, individuati sulla base di indagini di mercato o tramite elenchi di operatori predisposti dalla stazione appaltante stessa. </a:t>
            </a: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u="sng">
                <a:solidFill>
                  <a:srgbClr val="66ffff"/>
                </a:solidFill>
                <a:uFillTx/>
                <a:latin typeface="Calibri"/>
              </a:rPr>
              <a:t>PER LAVORI</a:t>
            </a:r>
            <a:r>
              <a:rPr b="1" lang="it-IT" sz="2800" spc="-1" strike="noStrike">
                <a:solidFill>
                  <a:srgbClr val="66ffff"/>
                </a:solidFill>
                <a:latin typeface="Calibri"/>
              </a:rPr>
              <a:t> </a:t>
            </a:r>
            <a:r>
              <a:rPr b="1" lang="it-IT" sz="2800" spc="-1" strike="noStrike">
                <a:solidFill>
                  <a:srgbClr val="ffffff"/>
                </a:solidFill>
                <a:latin typeface="Calibri"/>
              </a:rPr>
              <a:t>di valore inferiore a </a:t>
            </a:r>
            <a:r>
              <a:rPr b="1" lang="it-IT" sz="2800" spc="-1" strike="noStrike">
                <a:solidFill>
                  <a:srgbClr val="ffff00"/>
                </a:solidFill>
                <a:latin typeface="Calibri"/>
              </a:rPr>
              <a:t>€.40.000 </a:t>
            </a:r>
            <a:r>
              <a:rPr b="1" lang="it-IT" sz="2800" spc="-1" strike="noStrike">
                <a:solidFill>
                  <a:srgbClr val="ffffff"/>
                </a:solidFill>
                <a:latin typeface="Calibri"/>
              </a:rPr>
              <a:t>è consentito </a:t>
            </a:r>
            <a:r>
              <a:rPr b="1" lang="it-IT" sz="2800" spc="-1" strike="noStrike">
                <a:solidFill>
                  <a:srgbClr val="ffff00"/>
                </a:solidFill>
                <a:latin typeface="Calibri"/>
              </a:rPr>
              <a:t>“l’affidamento diretto” </a:t>
            </a:r>
            <a:r>
              <a:rPr b="1" lang="it-IT" sz="2800" spc="-1" strike="noStrike">
                <a:solidFill>
                  <a:srgbClr val="ffffff"/>
                </a:solidFill>
                <a:latin typeface="Calibri"/>
              </a:rPr>
              <a:t>da parte del </a:t>
            </a:r>
            <a:r>
              <a:rPr b="1" lang="it-IT" sz="2800" spc="-1" strike="noStrike">
                <a:solidFill>
                  <a:srgbClr val="ffff00"/>
                </a:solidFill>
                <a:latin typeface="Calibri"/>
              </a:rPr>
              <a:t>“responsabile del procedimento”</a:t>
            </a:r>
            <a:r>
              <a:rPr b="1" lang="it-IT" sz="2800" spc="-1" strike="noStrike">
                <a:solidFill>
                  <a:srgbClr val="ffcc00"/>
                </a:solidFill>
                <a:latin typeface="Calibri"/>
              </a:rPr>
              <a:t> </a:t>
            </a:r>
            <a:r>
              <a:rPr b="1" lang="it-IT" sz="2800" spc="-1" strike="noStrike">
                <a:solidFill>
                  <a:srgbClr val="ffffff"/>
                </a:solidFill>
                <a:latin typeface="Calibri"/>
              </a:rPr>
              <a:t>(art. 125, comma 8);</a:t>
            </a:r>
            <a:endParaRPr b="0" lang="en-US" sz="2800" spc="-1" strike="noStrike">
              <a:solidFill>
                <a:srgbClr val="ffffff"/>
              </a:solidFill>
              <a:latin typeface="Arial Rounded MT Bol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5" name="Group 1"/>
          <p:cNvGrpSpPr/>
          <p:nvPr/>
        </p:nvGrpSpPr>
        <p:grpSpPr>
          <a:xfrm>
            <a:off x="249120" y="890640"/>
            <a:ext cx="8643960" cy="5783040"/>
            <a:chOff x="249120" y="890640"/>
            <a:chExt cx="8643960" cy="5783040"/>
          </a:xfrm>
        </p:grpSpPr>
        <p:pic>
          <p:nvPicPr>
            <p:cNvPr id="1716" name="Picture 2" descr=""/>
            <p:cNvPicPr/>
            <p:nvPr/>
          </p:nvPicPr>
          <p:blipFill>
            <a:blip r:embed="rId1"/>
            <a:stretch/>
          </p:blipFill>
          <p:spPr>
            <a:xfrm>
              <a:off x="249120" y="890640"/>
              <a:ext cx="8643960" cy="5783040"/>
            </a:xfrm>
            <a:prstGeom prst="rect">
              <a:avLst/>
            </a:prstGeom>
            <a:ln w="0">
              <a:noFill/>
            </a:ln>
          </p:spPr>
        </p:pic>
        <p:sp>
          <p:nvSpPr>
            <p:cNvPr id="1717" name="Text Box 3"/>
            <p:cNvSpPr/>
            <p:nvPr/>
          </p:nvSpPr>
          <p:spPr>
            <a:xfrm>
              <a:off x="249120" y="890640"/>
              <a:ext cx="8643960" cy="5783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18"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05AFF-D926-41E1-ACE4-05F8CF3DD13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19" name="Text Box 5"/>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Text Box 1"/>
          <p:cNvSpPr/>
          <p:nvPr/>
        </p:nvSpPr>
        <p:spPr>
          <a:xfrm>
            <a:off x="0" y="907920"/>
            <a:ext cx="9144000" cy="614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mbito di applicazione</a:t>
            </a:r>
            <a:endParaRPr b="0" lang="en-US" sz="32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ff"/>
                </a:solidFill>
                <a:latin typeface="Calibri"/>
              </a:rPr>
              <a:t>La tracciabilità dei flussi finanziari trova applicazione relativamente</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ff"/>
                </a:solidFill>
                <a:latin typeface="Calibri"/>
              </a:rPr>
              <a:t>   </a:t>
            </a:r>
            <a:r>
              <a:rPr b="1" lang="it-IT" sz="2400" spc="-1" strike="noStrike">
                <a:solidFill>
                  <a:srgbClr val="00ffff"/>
                </a:solidFill>
                <a:latin typeface="Calibri"/>
              </a:rPr>
              <a:t>ai seguenti contratt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1) contratti di appalto di lavori, servizi e forniture, anche quelli</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esclusi in tutto o in parte dall’ambito di applicazione del Codice,</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i cui al Titolo II, parte I dello stesso;</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2) concessione di lavori pubblici e concessioni di servizi ex articolo</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30 del Codice dei contratti;</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3) contratti di partenariato pubblico-privato, compresi i contratti   </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i locazione finanziaria;</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4) contratti di subappalto e subfornitura;</a:t>
            </a:r>
            <a:endParaRPr b="0" lang="en-US" sz="24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5) contratti in economia, ivi compresi gli affidamenti diretti.</a:t>
            </a:r>
            <a:endParaRPr b="0" lang="en-US" sz="24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La tracciabilità ha finalità antimafia,  sono tenuti perciò alla sua osservanza tutti i soggetti obbligati all’applicazione del Codice dei Contratti Pubblic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72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390F3-D3A6-424E-8194-DBA44ABBAF1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22"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1"/>
          <p:cNvSpPr/>
          <p:nvPr/>
        </p:nvSpPr>
        <p:spPr>
          <a:xfrm>
            <a:off x="324000" y="907920"/>
            <a:ext cx="8424720" cy="596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00"/>
                </a:solidFill>
                <a:latin typeface="Calibri"/>
              </a:rPr>
              <a:t>La norma non si applica per :</a:t>
            </a:r>
            <a:endParaRPr b="0" lang="en-US" sz="40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2800" spc="-1" strike="noStrike">
                <a:solidFill>
                  <a:srgbClr val="ffffff"/>
                </a:solidFill>
                <a:latin typeface="Calibri"/>
              </a:rPr>
              <a:t> </a:t>
            </a:r>
            <a:r>
              <a:rPr b="1" lang="it-IT" sz="2600" spc="-1" strike="noStrike">
                <a:solidFill>
                  <a:srgbClr val="00ffff"/>
                </a:solidFill>
                <a:latin typeface="Calibri"/>
              </a:rPr>
              <a:t>le spese sostenute dai cassieri, utilizzando il fondo economale, non a fronte di contratti di appalto </a:t>
            </a:r>
            <a:r>
              <a:rPr b="1" lang="it-IT" sz="2600" spc="-1" strike="noStrike">
                <a:solidFill>
                  <a:srgbClr val="ffffff"/>
                </a:solidFill>
                <a:latin typeface="Calibri"/>
              </a:rPr>
              <a:t>(imposte, tasse e altri diritti erariali, spese postali, valori bollati, anticipi di missione).</a:t>
            </a:r>
            <a:endParaRPr b="0" lang="en-US" sz="2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00ffff"/>
                </a:solidFill>
                <a:latin typeface="Calibri"/>
              </a:rPr>
              <a:t>le spese sostenute per l’acquisto di materiale di modesta entità e di facile consumo,</a:t>
            </a:r>
            <a:r>
              <a:rPr b="1" lang="it-IT" sz="2600" spc="-1" strike="noStrike">
                <a:solidFill>
                  <a:srgbClr val="ffffff"/>
                </a:solidFill>
                <a:latin typeface="Calibri"/>
              </a:rPr>
              <a:t> (biglietti per mezzi di trasporto, giornali e pubblicazioni periodiche). </a:t>
            </a:r>
            <a:endParaRPr b="0" lang="en-US" sz="26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Tali spese, pertanto, potranno essere effettuate con qualsiasi mezzo di pagamento, fermi restando il divieto di impiego del contante </a:t>
            </a:r>
            <a:r>
              <a:rPr b="1" i="1" lang="it-IT" sz="2600" spc="-1" strike="noStrike">
                <a:solidFill>
                  <a:srgbClr val="00ffff"/>
                </a:solidFill>
                <a:latin typeface="Calibri"/>
              </a:rPr>
              <a:t>(eccezion fatta per il fondo di anticipazione minute spese del DSGA) </a:t>
            </a:r>
            <a:r>
              <a:rPr b="1" i="1" lang="it-IT" sz="2600" spc="-1" strike="noStrike">
                <a:solidFill>
                  <a:srgbClr val="ffffff"/>
                </a:solidFill>
                <a:latin typeface="Calibri"/>
              </a:rPr>
              <a:t>e l’obbligo di documentazione della spesa.</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2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09CD4-2B24-4C34-83CF-8AFDABF1BA1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25"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
          <p:cNvSpPr txBox="1"/>
          <p:nvPr/>
        </p:nvSpPr>
        <p:spPr>
          <a:xfrm>
            <a:off x="0" y="836640"/>
            <a:ext cx="8964720" cy="6021360"/>
          </a:xfrm>
          <a:prstGeom prst="rect">
            <a:avLst/>
          </a:prstGeom>
          <a:noFill/>
          <a:ln w="0">
            <a:noFill/>
          </a:ln>
        </p:spPr>
        <p:txBody>
          <a:bodyPr lIns="90000" rIns="90000" tIns="46800" bIns="46800" anchor="t">
            <a:norm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ffffff"/>
                </a:solidFill>
                <a:latin typeface="Calibri"/>
              </a:rPr>
              <a:t>Le istituzioni scolastiche in funzione di “stazioni appaltanti”  come riportato nella determinazione dell’ AVCP n. 10 del 22 /12 /2010, sono tenute ad inserire nei contratti le seguenti clausole  ai sensi della legge 13 agosto 2010, n.136 e successive modifiche, facendone oggetto di specifico articolato: </a:t>
            </a:r>
            <a:endParaRPr b="0" lang="en-US" sz="21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00"/>
                </a:solidFill>
                <a:latin typeface="Calibri"/>
              </a:rPr>
              <a:t>Art. (…) </a:t>
            </a:r>
            <a:endParaRPr b="0" lang="en-US" sz="22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200" spc="-1" strike="noStrike">
                <a:solidFill>
                  <a:srgbClr val="ffff00"/>
                </a:solidFill>
                <a:latin typeface="Calibri"/>
              </a:rPr>
              <a:t>(Obblighi dell’appaltatore relativi alla tracciabilità dei flussi finanziari) </a:t>
            </a:r>
            <a:endParaRPr b="0" lang="en-US" sz="22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Times New Roman"/>
            </a:endParaRPr>
          </a:p>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1. L’appaltatore (…) assume tutti gli obblighi di tracciabilità dei flussi</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finanziari di cui all’articolo 3 della legge 13 agosto 2010, n. 136 e</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successive modifiche. </a:t>
            </a:r>
            <a:endParaRPr b="0" lang="en-US" sz="2200" spc="-1" strike="noStrike">
              <a:solidFill>
                <a:srgbClr val="ffffff"/>
              </a:solidFill>
              <a:latin typeface="Times New Roman"/>
            </a:endParaRPr>
          </a:p>
          <a:p>
            <a:pPr algn="just">
              <a:lnSpc>
                <a:spcPct val="100000"/>
              </a:lnSpc>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2. L’appaltatore si impegna a dare immediata comunicazione alla stazione </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appaltante ed alla prefettu­ra-ufficio territoriale del Governo della </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provincia di(…) della notizia dell’inadempimento della propria</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controparte (subappaltatore/sub­contraente) agli obblighi di tracciabilità</a:t>
            </a:r>
            <a:endParaRPr b="0" lang="en-US" sz="2200" spc="-1" strike="noStrike">
              <a:solidFill>
                <a:srgbClr val="ffffff"/>
              </a:solidFill>
              <a:latin typeface="Times New Roman"/>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200" spc="-1" strike="noStrike">
                <a:solidFill>
                  <a:srgbClr val="ffffff"/>
                </a:solidFill>
                <a:latin typeface="Calibri"/>
              </a:rPr>
              <a:t>      </a:t>
            </a:r>
            <a:r>
              <a:rPr b="1" lang="it-IT" sz="2200" spc="-1" strike="noStrike">
                <a:solidFill>
                  <a:srgbClr val="ffffff"/>
                </a:solidFill>
                <a:latin typeface="Calibri"/>
              </a:rPr>
              <a:t>finanziaria.</a:t>
            </a:r>
            <a:endParaRPr b="0" lang="en-US" sz="2200" spc="-1" strike="noStrike">
              <a:solidFill>
                <a:srgbClr val="ffffff"/>
              </a:solidFill>
              <a:latin typeface="Times New Roman"/>
            </a:endParaRPr>
          </a:p>
          <a:p>
            <a:pPr>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ffffff"/>
              </a:solidFill>
              <a:latin typeface="Times New Roman"/>
            </a:endParaRPr>
          </a:p>
        </p:txBody>
      </p:sp>
      <p:sp>
        <p:nvSpPr>
          <p:cNvPr id="1727"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0B145-B31D-4CDA-A989-C428A0249B83}"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728" name="PlaceHolder 1"/>
          <p:cNvSpPr>
            <a:spLocks noGrp="1"/>
          </p:cNvSpPr>
          <p:nvPr>
            <p:ph type="title"/>
          </p:nvPr>
        </p:nvSpPr>
        <p:spPr>
          <a:xfrm>
            <a:off x="685800" y="0"/>
            <a:ext cx="7772400" cy="9079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cc66"/>
                </a:solidFill>
                <a:latin typeface="Arial"/>
              </a:rPr>
              <a:t>TRACCIABILITÀ - CIG  - CUP </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Text Box 1"/>
          <p:cNvSpPr/>
          <p:nvPr/>
        </p:nvSpPr>
        <p:spPr>
          <a:xfrm>
            <a:off x="324000" y="765000"/>
            <a:ext cx="8604000" cy="58467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Times New Roman"/>
              </a:rPr>
              <a:t>Richiesta e indicazione di CIG e CUP</a:t>
            </a:r>
            <a:endParaRPr b="0" lang="en-US" sz="32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Il codice identificativo di gara </a:t>
            </a:r>
            <a:r>
              <a:rPr b="1" lang="it-IT" sz="2400" spc="-1" strike="noStrike">
                <a:solidFill>
                  <a:srgbClr val="ffff00"/>
                </a:solidFill>
                <a:latin typeface="Calibri"/>
              </a:rPr>
              <a:t>CIG</a:t>
            </a:r>
            <a:r>
              <a:rPr b="1" lang="it-IT" sz="2400" spc="-1" strike="noStrike">
                <a:solidFill>
                  <a:srgbClr val="ffffff"/>
                </a:solidFill>
                <a:latin typeface="Calibri"/>
              </a:rPr>
              <a:t> </a:t>
            </a:r>
            <a:r>
              <a:rPr b="1" lang="it-IT" sz="2400" spc="-1" strike="noStrike">
                <a:solidFill>
                  <a:srgbClr val="ffff00"/>
                </a:solidFill>
                <a:latin typeface="Calibri"/>
              </a:rPr>
              <a:t>deve essere richiesto </a:t>
            </a:r>
            <a:r>
              <a:rPr b="1" lang="it-IT" sz="2400" spc="-1" strike="noStrike">
                <a:solidFill>
                  <a:srgbClr val="ffffff"/>
                </a:solidFill>
                <a:latin typeface="Calibri"/>
              </a:rPr>
              <a:t>dal</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00"/>
                </a:solidFill>
                <a:latin typeface="Calibri"/>
              </a:rPr>
              <a:t>responsabile unico del procedimento </a:t>
            </a:r>
            <a:r>
              <a:rPr b="1" lang="it-IT" sz="2400" spc="-1" strike="noStrike">
                <a:solidFill>
                  <a:srgbClr val="ffffff"/>
                </a:solidFill>
                <a:latin typeface="Calibri"/>
              </a:rPr>
              <a:t>precedentement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all’indizione della procedura di gara, in quanto il codice </a:t>
            </a:r>
            <a:r>
              <a:rPr b="1" lang="it-IT" sz="2400" spc="-1" strike="noStrike">
                <a:solidFill>
                  <a:srgbClr val="ffff00"/>
                </a:solidFill>
                <a:latin typeface="Calibri"/>
              </a:rPr>
              <a:t>dev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essere indicato </a:t>
            </a:r>
            <a:r>
              <a:rPr b="1" lang="it-IT" sz="2400" spc="-1" strike="noStrike">
                <a:solidFill>
                  <a:srgbClr val="ffff00"/>
                </a:solidFill>
                <a:latin typeface="Calibri"/>
              </a:rPr>
              <a:t>nel bando </a:t>
            </a:r>
            <a:r>
              <a:rPr b="1" lang="it-IT" sz="2400" spc="-1" strike="noStrike">
                <a:solidFill>
                  <a:srgbClr val="ffffff"/>
                </a:solidFill>
                <a:latin typeface="Calibri"/>
              </a:rPr>
              <a:t>o, nel caso di procedure senza previa</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ubblicazione di bando, nella </a:t>
            </a:r>
            <a:r>
              <a:rPr b="1" lang="it-IT" sz="2400" spc="-1" strike="noStrike">
                <a:solidFill>
                  <a:srgbClr val="ffff00"/>
                </a:solidFill>
                <a:latin typeface="Calibri"/>
              </a:rPr>
              <a:t>lettera di invito a presentar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Calibri"/>
              </a:rPr>
              <a:t>   </a:t>
            </a:r>
            <a:r>
              <a:rPr b="1" lang="it-IT" sz="2400" spc="-1" strike="noStrike">
                <a:solidFill>
                  <a:srgbClr val="ffff00"/>
                </a:solidFill>
                <a:latin typeface="Calibri"/>
              </a:rPr>
              <a:t>l’offerta.</a:t>
            </a:r>
            <a:endParaRPr b="0" lang="en-US" sz="24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Il </a:t>
            </a:r>
            <a:r>
              <a:rPr b="1" lang="it-IT" sz="2400" spc="-1" strike="noStrike">
                <a:solidFill>
                  <a:srgbClr val="ffff00"/>
                </a:solidFill>
                <a:latin typeface="Calibri"/>
              </a:rPr>
              <a:t>CIG</a:t>
            </a:r>
            <a:r>
              <a:rPr b="1" lang="it-IT" sz="2400" spc="-1" strike="noStrike">
                <a:solidFill>
                  <a:srgbClr val="ffffff"/>
                </a:solidFill>
                <a:latin typeface="Calibri"/>
              </a:rPr>
              <a:t> </a:t>
            </a:r>
            <a:r>
              <a:rPr b="1" lang="it-IT" sz="2400" spc="-1" strike="noStrike">
                <a:solidFill>
                  <a:srgbClr val="ffff00"/>
                </a:solidFill>
                <a:latin typeface="Calibri"/>
              </a:rPr>
              <a:t>dovrà</a:t>
            </a:r>
            <a:r>
              <a:rPr b="1" lang="it-IT" sz="2400" spc="-1" strike="noStrike">
                <a:solidFill>
                  <a:srgbClr val="ffffff"/>
                </a:solidFill>
                <a:latin typeface="Calibri"/>
              </a:rPr>
              <a:t> poi essere inserito </a:t>
            </a:r>
            <a:r>
              <a:rPr b="1" lang="it-IT" sz="2400" spc="-1" strike="noStrike">
                <a:solidFill>
                  <a:srgbClr val="ffff00"/>
                </a:solidFill>
                <a:latin typeface="Calibri"/>
              </a:rPr>
              <a:t>nella richiesta di offerta </a:t>
            </a:r>
            <a:r>
              <a:rPr b="1" lang="it-IT" sz="2400" spc="-1" strike="noStrike">
                <a:solidFill>
                  <a:srgbClr val="ffffff"/>
                </a:solidFill>
                <a:latin typeface="Calibri"/>
              </a:rPr>
              <a:t>e, in</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ogni caso, al più tardi, </a:t>
            </a:r>
            <a:r>
              <a:rPr b="1" lang="it-IT" sz="2400" spc="-1" strike="noStrike">
                <a:solidFill>
                  <a:srgbClr val="ffff00"/>
                </a:solidFill>
                <a:latin typeface="Calibri"/>
              </a:rPr>
              <a:t>nell’ordinativo di pagamento</a:t>
            </a:r>
            <a:r>
              <a:rPr b="1" lang="it-IT" sz="2400" spc="-1" strike="noStrike">
                <a:solidFill>
                  <a:srgbClr val="ffffff"/>
                </a:solidFill>
                <a:latin typeface="Calibri"/>
              </a:rPr>
              <a:t>. </a:t>
            </a:r>
            <a:endParaRPr b="0" lang="en-US" sz="2400" spc="-1" strike="noStrike">
              <a:solidFill>
                <a:srgbClr val="ffffff"/>
              </a:solidFill>
              <a:latin typeface="Arial Rounded MT Bold"/>
            </a:endParaRPr>
          </a:p>
          <a:p>
            <a:pPr marL="343080" indent="-341640" algn="just">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 riguardo ai contratti stipulati nell’ambito del sistema delle</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venzioni </a:t>
            </a:r>
            <a:r>
              <a:rPr b="1" lang="it-IT" sz="2400" spc="-1" strike="noStrike">
                <a:solidFill>
                  <a:srgbClr val="ffff00"/>
                </a:solidFill>
                <a:latin typeface="Calibri"/>
              </a:rPr>
              <a:t>CONSIP</a:t>
            </a:r>
            <a:r>
              <a:rPr b="1" lang="it-IT" sz="2400" spc="-1" strike="noStrike">
                <a:solidFill>
                  <a:srgbClr val="ffffff"/>
                </a:solidFill>
                <a:latin typeface="Calibri"/>
              </a:rPr>
              <a:t>, oltre all’obbligo di richiesta del </a:t>
            </a:r>
            <a:r>
              <a:rPr b="1" lang="it-IT" sz="2400" spc="-1" strike="noStrike">
                <a:solidFill>
                  <a:srgbClr val="ffff00"/>
                </a:solidFill>
                <a:latin typeface="Calibri"/>
              </a:rPr>
              <a:t>CIG</a:t>
            </a:r>
            <a:r>
              <a:rPr b="1" lang="it-IT" sz="2400" spc="-1" strike="noStrike">
                <a:solidFill>
                  <a:srgbClr val="ffffff"/>
                </a:solidFill>
                <a:latin typeface="Calibri"/>
              </a:rPr>
              <a:t> per la</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stipula della convenzione o dell’accordo, le amministrazioni che </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vi aderiscono sono tenute a richiedere </a:t>
            </a:r>
            <a:r>
              <a:rPr b="1" lang="it-IT" sz="2400" spc="-1" strike="noStrike">
                <a:solidFill>
                  <a:srgbClr val="ffff00"/>
                </a:solidFill>
                <a:latin typeface="Calibri"/>
              </a:rPr>
              <a:t>un distinto CIG</a:t>
            </a:r>
            <a:r>
              <a:rPr b="1" lang="it-IT" sz="2400" spc="-1" strike="noStrike">
                <a:solidFill>
                  <a:srgbClr val="ffffff"/>
                </a:solidFill>
                <a:latin typeface="Calibri"/>
              </a:rPr>
              <a:t> per ogni</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specifico contratto stipulato a valle, che andrà poi indicato nei </a:t>
            </a:r>
            <a:endParaRPr b="0" lang="en-US" sz="24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agamenti a fini di tracciabilità. </a:t>
            </a:r>
            <a:endParaRPr b="0" lang="en-US" sz="2400" spc="-1" strike="noStrike">
              <a:solidFill>
                <a:srgbClr val="ffffff"/>
              </a:solidFill>
              <a:latin typeface="Arial Rounded MT Bold"/>
            </a:endParaRPr>
          </a:p>
        </p:txBody>
      </p:sp>
      <p:sp>
        <p:nvSpPr>
          <p:cNvPr id="173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28F4F-FCBD-48E6-BEB2-2895550526D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Text Box 1"/>
          <p:cNvSpPr/>
          <p:nvPr/>
        </p:nvSpPr>
        <p:spPr>
          <a:xfrm>
            <a:off x="179280" y="981000"/>
            <a:ext cx="8964720" cy="58770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Nella richiesta di tale </a:t>
            </a:r>
            <a:r>
              <a:rPr b="1" lang="it-IT" sz="2600" spc="-1" strike="noStrike">
                <a:solidFill>
                  <a:srgbClr val="ffff00"/>
                </a:solidFill>
                <a:latin typeface="Calibri"/>
              </a:rPr>
              <a:t>CIG “derivato” </a:t>
            </a:r>
            <a:r>
              <a:rPr b="1" lang="it-IT" sz="2600" spc="-1" strike="noStrike">
                <a:solidFill>
                  <a:srgbClr val="ffffff"/>
                </a:solidFill>
                <a:latin typeface="Calibri"/>
              </a:rPr>
              <a:t>è però necessario fare</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riferimento al </a:t>
            </a:r>
            <a:r>
              <a:rPr b="1" lang="it-IT" sz="2600" spc="-1" strike="noStrike">
                <a:solidFill>
                  <a:srgbClr val="ffff00"/>
                </a:solidFill>
                <a:latin typeface="Calibri"/>
              </a:rPr>
              <a:t>CIG relativo alla convenzione o all’accordo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   </a:t>
            </a:r>
            <a:r>
              <a:rPr b="1" lang="it-IT" sz="2600" spc="-1" strike="noStrike">
                <a:solidFill>
                  <a:srgbClr val="ffff00"/>
                </a:solidFill>
                <a:latin typeface="Calibri"/>
              </a:rPr>
              <a:t>quadro. </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Per richiedere il CIG : accreditarsi presso l’AVCP e seguire le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istruzioni reperibili alla pagina web :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u="sng">
                <a:solidFill>
                  <a:srgbClr val="ff0000"/>
                </a:solidFill>
                <a:uFillTx/>
                <a:latin typeface="Calibri"/>
              </a:rPr>
              <a:t>https://anagrafe.avcp.it/GuidaIscrizione.pdf</a:t>
            </a:r>
            <a:r>
              <a:rPr b="1" lang="it-IT" sz="2600" spc="-1" strike="noStrike">
                <a:solidFill>
                  <a:srgbClr val="ff0000"/>
                </a:solidFill>
                <a:latin typeface="Calibri"/>
              </a:rPr>
              <a:t>.</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Il CUP</a:t>
            </a:r>
            <a:r>
              <a:rPr b="1" lang="it-IT" sz="2600" spc="-1" strike="noStrike">
                <a:solidFill>
                  <a:srgbClr val="ffffff"/>
                </a:solidFill>
                <a:latin typeface="Calibri"/>
              </a:rPr>
              <a:t>, in aggiunta al CIG, è invece </a:t>
            </a:r>
            <a:r>
              <a:rPr b="1" lang="it-IT" sz="2600" spc="-1" strike="noStrike">
                <a:solidFill>
                  <a:srgbClr val="ffff00"/>
                </a:solidFill>
                <a:latin typeface="Calibri"/>
              </a:rPr>
              <a:t>obbligatorio, </a:t>
            </a:r>
            <a:r>
              <a:rPr b="1" lang="it-IT" sz="2600" spc="-1" strike="noStrike">
                <a:solidFill>
                  <a:srgbClr val="ffffff"/>
                </a:solidFill>
                <a:latin typeface="Calibri"/>
              </a:rPr>
              <a:t>”</a:t>
            </a:r>
            <a:r>
              <a:rPr b="1" i="1" lang="it-IT" sz="2600" spc="-1" strike="noStrike">
                <a:solidFill>
                  <a:srgbClr val="ffffff"/>
                </a:solidFill>
                <a:latin typeface="Calibri"/>
              </a:rPr>
              <a:t>per la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funzionalità della rete di monitoraggio degli investimenti </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pubblici” </a:t>
            </a:r>
            <a:r>
              <a:rPr b="1" lang="it-IT" sz="2600" spc="-1" strike="noStrike">
                <a:solidFill>
                  <a:srgbClr val="ffffff"/>
                </a:solidFill>
                <a:latin typeface="Calibri"/>
              </a:rPr>
              <a:t>con riguardo a </a:t>
            </a:r>
            <a:r>
              <a:rPr b="1" i="1" lang="it-IT" sz="2600" spc="-1" strike="noStrike">
                <a:solidFill>
                  <a:srgbClr val="ffffff"/>
                </a:solidFill>
                <a:latin typeface="Calibri"/>
              </a:rPr>
              <a:t>“ogni nuovo progetto di investimento</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it-IT" sz="2600" spc="-1" strike="noStrike">
                <a:solidFill>
                  <a:srgbClr val="ffffff"/>
                </a:solidFill>
                <a:latin typeface="Calibri"/>
              </a:rPr>
              <a:t>   </a:t>
            </a:r>
            <a:r>
              <a:rPr b="1" i="1" lang="it-IT" sz="2600" spc="-1" strike="noStrike">
                <a:solidFill>
                  <a:srgbClr val="ffffff"/>
                </a:solidFill>
                <a:latin typeface="Calibri"/>
              </a:rPr>
              <a:t>pubblico”</a:t>
            </a:r>
            <a:r>
              <a:rPr b="1" lang="it-IT" sz="2600" spc="-1" strike="noStrike">
                <a:solidFill>
                  <a:srgbClr val="ffffff"/>
                </a:solidFill>
                <a:latin typeface="Calibri"/>
              </a:rPr>
              <a:t>(art. 11, L. n.3/2003 ), senza alcuna indicazione di</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importo. </a:t>
            </a:r>
            <a:endParaRPr b="0" lang="en-US" sz="2600" spc="-1" strike="noStrike">
              <a:solidFill>
                <a:srgbClr val="ffffff"/>
              </a:solidFill>
              <a:latin typeface="Arial Rounded MT Bold"/>
            </a:endParaRPr>
          </a:p>
          <a:p>
            <a:pPr>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La richiesta può essere effettuata con procedura telematica</a:t>
            </a:r>
            <a:endParaRPr b="0" lang="en-US" sz="26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   </a:t>
            </a:r>
            <a:r>
              <a:rPr b="1" lang="it-IT" sz="2600" spc="-1" strike="noStrike">
                <a:solidFill>
                  <a:srgbClr val="ffffff"/>
                </a:solidFill>
                <a:latin typeface="Calibri"/>
              </a:rPr>
              <a:t>alla seguente pagina web : </a:t>
            </a:r>
            <a:r>
              <a:rPr b="0" lang="it-IT" sz="2600" spc="-1" strike="noStrike" u="sng">
                <a:solidFill>
                  <a:srgbClr val="ccccff"/>
                </a:solidFill>
                <a:uFillTx/>
                <a:latin typeface="Calibri"/>
                <a:hlinkClick r:id="rId1"/>
              </a:rPr>
              <a:t>http://cupweb.tesoro.it/CUPWeb/</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3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DE8C6-3B0B-4434-BE48-5154157ECC5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Text Box 1"/>
          <p:cNvSpPr/>
          <p:nvPr/>
        </p:nvSpPr>
        <p:spPr>
          <a:xfrm>
            <a:off x="250920" y="549360"/>
            <a:ext cx="8713800" cy="925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Quando non indicare CIG e CUP </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AVCP ritiene non obbligatoria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indicazione del CIG/CUP per :</a:t>
            </a:r>
            <a:endParaRPr b="0" lang="en-US" sz="3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Calibri"/>
              </a:rPr>
              <a:t>I pagamenti in favore di enti previdenziali assicurativi, istituzionali, in favore dello Stato o di gestori o fornitori di pubblici servizi</a:t>
            </a:r>
            <a:r>
              <a:rPr b="1" lang="it-IT" sz="2600" spc="-1" strike="noStrike">
                <a:solidFill>
                  <a:srgbClr val="ffffff"/>
                </a:solidFill>
                <a:latin typeface="Calibri"/>
              </a:rPr>
              <a:t>, pur valendo la regola dell’obbligo di documentazione e di effettuazione del pagamento con modalità idonee a consentire la piena tracciabilità delle transazioni finanziarie, ad esempio imposte e tasse, i contributi INPS, INAIL, le assicurazioni stipulate in relazione alla commessa, i pagamenti verso gestori e fornitori di pubblici servizi (per energia elettrica, telefonia, ecc.). </a:t>
            </a:r>
            <a:endParaRPr b="0" lang="en-US" sz="2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Per tali esborsi possono essere utilizzate anche le </a:t>
            </a:r>
            <a:r>
              <a:rPr b="1" lang="it-IT" sz="2600" spc="-1" strike="noStrike">
                <a:solidFill>
                  <a:srgbClr val="ffff00"/>
                </a:solidFill>
                <a:latin typeface="Calibri"/>
              </a:rPr>
              <a:t>carte di pagamento, purché emesse a valere su un conto dedicato</a:t>
            </a:r>
            <a:r>
              <a:rPr b="1" lang="it-IT" sz="2600" spc="-1" strike="noStrike">
                <a:solidFill>
                  <a:srgbClr val="ffff00"/>
                </a:solidFill>
                <a:latin typeface="Times New Roman"/>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736" name="Text Box 2"/>
          <p:cNvSpPr/>
          <p:nvPr/>
        </p:nvSpPr>
        <p:spPr>
          <a:xfrm>
            <a:off x="6588000" y="62373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72680-F3B6-48F6-8BDD-65AB86E62F6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37"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Text Box 1"/>
          <p:cNvSpPr/>
          <p:nvPr/>
        </p:nvSpPr>
        <p:spPr>
          <a:xfrm>
            <a:off x="179280" y="549360"/>
            <a:ext cx="8713800" cy="615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400" spc="-1" strike="noStrike">
                <a:solidFill>
                  <a:srgbClr val="ffff00"/>
                </a:solidFill>
                <a:latin typeface="Calibri"/>
              </a:rPr>
              <a:t>Quando non indicare CIG e CUP </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AVCP ritiene non obbligatoria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00ffff"/>
                </a:solidFill>
                <a:latin typeface="Calibri"/>
              </a:rPr>
              <a:t>l’indicazione del CIG/CUP per :</a:t>
            </a:r>
            <a:endParaRPr b="0" lang="en-US" sz="36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 pagamenti di dipendenti, consulenti, fornitori di beni e servizi rientranti tra le spese generali, </a:t>
            </a:r>
            <a:r>
              <a:rPr b="1" lang="it-IT" sz="2800" spc="-1" strike="noStrike">
                <a:solidFill>
                  <a:srgbClr val="ffffff"/>
                </a:solidFill>
                <a:latin typeface="Calibri"/>
              </a:rPr>
              <a:t>che</a:t>
            </a:r>
            <a:r>
              <a:rPr b="1" lang="it-IT" sz="2800" spc="-1" strike="noStrike">
                <a:solidFill>
                  <a:srgbClr val="ffff00"/>
                </a:solidFill>
                <a:latin typeface="Calibri"/>
              </a:rPr>
              <a:t> </a:t>
            </a:r>
            <a:r>
              <a:rPr b="1" lang="it-IT" sz="2800" spc="-1" strike="noStrike">
                <a:solidFill>
                  <a:srgbClr val="ffffff"/>
                </a:solidFill>
                <a:latin typeface="Calibri"/>
              </a:rPr>
              <a:t>vanno effettuati attraverso </a:t>
            </a:r>
            <a:r>
              <a:rPr b="1" lang="it-IT" sz="2800" spc="-1" strike="noStrike">
                <a:solidFill>
                  <a:srgbClr val="ffff00"/>
                </a:solidFill>
                <a:latin typeface="Calibri"/>
              </a:rPr>
              <a:t>un conto corrente dedicato</a:t>
            </a:r>
            <a:r>
              <a:rPr b="1" lang="it-IT" sz="2800" spc="-1" strike="noStrike">
                <a:solidFill>
                  <a:srgbClr val="ffffff"/>
                </a:solidFill>
                <a:latin typeface="Calibri"/>
              </a:rPr>
              <a:t>, anche non in via esclusiva, e registrati per il totale dovuto ai soggetti indicati, anche se non riferibile in via esclusiva a uno specifico contratto, ad esempio, </a:t>
            </a:r>
            <a:r>
              <a:rPr b="1" lang="it-IT" sz="2800" spc="-1" strike="noStrike">
                <a:solidFill>
                  <a:srgbClr val="ffff00"/>
                </a:solidFill>
                <a:latin typeface="Calibri"/>
              </a:rPr>
              <a:t>emolumenti a dirigenti e personale docente ed ata, spese generali </a:t>
            </a:r>
            <a:r>
              <a:rPr b="1" lang="it-IT" sz="2800" spc="-1" strike="noStrike">
                <a:solidFill>
                  <a:srgbClr val="ffffff"/>
                </a:solidFill>
                <a:latin typeface="Calibri"/>
              </a:rPr>
              <a:t>(, fotocopie, abbonamenti, pubblicità, canoni per utenze e affitto), </a:t>
            </a:r>
            <a:r>
              <a:rPr b="1" lang="it-IT" sz="2800" spc="-1" strike="noStrike">
                <a:solidFill>
                  <a:srgbClr val="ffff00"/>
                </a:solidFill>
                <a:latin typeface="Calibri"/>
              </a:rPr>
              <a:t>consulenze legali, amministrative, tributarie e tecniche.</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73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10272-F1C2-4725-9DDA-EC4F1E05F41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0"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Text Box 1"/>
          <p:cNvSpPr/>
          <p:nvPr/>
        </p:nvSpPr>
        <p:spPr>
          <a:xfrm>
            <a:off x="0" y="981000"/>
            <a:ext cx="8820000" cy="57308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Times New Roman"/>
              </a:rPr>
              <a:t>Il Legislatore, con l’art. 2 comma 197 della legge n. </a:t>
            </a:r>
            <a:r>
              <a:rPr b="1" lang="it-IT" sz="2400" spc="-1" strike="noStrike">
                <a:solidFill>
                  <a:srgbClr val="ffff00"/>
                </a:solidFill>
                <a:latin typeface="Times New Roman"/>
              </a:rPr>
              <a:t>191/2009</a:t>
            </a:r>
            <a:r>
              <a:rPr b="1" lang="it-IT" sz="2400" spc="-1" strike="noStrike">
                <a:solidFill>
                  <a:srgbClr val="ffffff"/>
                </a:solidFill>
                <a:latin typeface="Times New Roman"/>
              </a:rPr>
              <a:t> - finanziaria per il 2010 - e , successivamente, con l’art. 4, commi dal 4-bis al 4-decies, del decreto legge </a:t>
            </a:r>
            <a:r>
              <a:rPr b="1" lang="it-IT" sz="2400" spc="-1" strike="noStrike">
                <a:solidFill>
                  <a:srgbClr val="ffff00"/>
                </a:solidFill>
                <a:latin typeface="Times New Roman"/>
              </a:rPr>
              <a:t>31 maggio 2010, n. 78</a:t>
            </a:r>
            <a:r>
              <a:rPr b="1" lang="it-IT" sz="2400" spc="-1" strike="noStrike">
                <a:solidFill>
                  <a:srgbClr val="ffffff"/>
                </a:solidFill>
                <a:latin typeface="Times New Roman"/>
              </a:rPr>
              <a:t>, convertito con la legge </a:t>
            </a:r>
            <a:r>
              <a:rPr b="1" lang="it-IT" sz="2400" spc="-1" strike="noStrike">
                <a:solidFill>
                  <a:srgbClr val="ffff00"/>
                </a:solidFill>
                <a:latin typeface="Times New Roman"/>
              </a:rPr>
              <a:t>30 luglio 2010, n.122</a:t>
            </a:r>
            <a:r>
              <a:rPr b="1" lang="it-IT" sz="2400" spc="-1" strike="noStrike">
                <a:solidFill>
                  <a:srgbClr val="ffffff"/>
                </a:solidFill>
                <a:latin typeface="Times New Roman"/>
              </a:rPr>
              <a:t>, ha disposto che dal </a:t>
            </a:r>
            <a:r>
              <a:rPr b="1" lang="it-IT" sz="2400" spc="-1" strike="noStrike">
                <a:solidFill>
                  <a:srgbClr val="ffff00"/>
                </a:solidFill>
                <a:latin typeface="Times New Roman"/>
              </a:rPr>
              <a:t>1° gennaio 2011 </a:t>
            </a:r>
            <a:r>
              <a:rPr b="1" lang="it-IT" sz="2400" spc="-1" strike="noStrike">
                <a:solidFill>
                  <a:srgbClr val="ffffff"/>
                </a:solidFill>
                <a:latin typeface="Times New Roman"/>
              </a:rPr>
              <a:t>con il c.d. </a:t>
            </a:r>
            <a:r>
              <a:rPr b="1" lang="it-IT" sz="2400" spc="-1" strike="noStrike">
                <a:solidFill>
                  <a:srgbClr val="ffff00"/>
                </a:solidFill>
                <a:latin typeface="Times New Roman"/>
              </a:rPr>
              <a:t>Cedolino Unico </a:t>
            </a:r>
            <a:r>
              <a:rPr b="1" lang="it-IT" sz="2400" spc="-1" strike="noStrike">
                <a:solidFill>
                  <a:srgbClr val="ffffff"/>
                </a:solidFill>
                <a:latin typeface="Times New Roman"/>
              </a:rPr>
              <a:t>il pagamento delle </a:t>
            </a:r>
            <a:r>
              <a:rPr b="1" lang="it-IT" sz="2400" spc="-1" strike="noStrike">
                <a:solidFill>
                  <a:srgbClr val="ffff00"/>
                </a:solidFill>
                <a:latin typeface="Times New Roman"/>
              </a:rPr>
              <a:t>competenze accessorie</a:t>
            </a:r>
            <a:r>
              <a:rPr b="1" lang="it-IT" sz="2400" spc="-1" strike="noStrike">
                <a:solidFill>
                  <a:srgbClr val="ffffff"/>
                </a:solidFill>
                <a:latin typeface="Times New Roman"/>
              </a:rPr>
              <a:t>, dovute al personale scolastico, avvenisse, unitamente alle competenze fisse, mediante ordini collettivi di pagamento emessi da parte del SPT (Service Personale Tesoro), </a:t>
            </a:r>
            <a:endParaRPr b="0" lang="en-US" sz="2400" spc="-1" strike="noStrike">
              <a:solidFill>
                <a:srgbClr val="ffffff"/>
              </a:solidFill>
              <a:latin typeface="Arial Rounded MT Bold"/>
            </a:endParaRPr>
          </a:p>
          <a:p>
            <a:pPr marL="341280" indent="-341280" algn="just">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Times New Roman"/>
              </a:rPr>
              <a:t>Il </a:t>
            </a:r>
            <a:r>
              <a:rPr b="1" lang="it-IT" sz="2400" spc="-1" strike="noStrike">
                <a:solidFill>
                  <a:srgbClr val="ffff00"/>
                </a:solidFill>
                <a:latin typeface="Times New Roman"/>
              </a:rPr>
              <a:t>16 maggio 2011</a:t>
            </a:r>
            <a:r>
              <a:rPr b="1" lang="it-IT" sz="2400" spc="-1" strike="noStrike">
                <a:solidFill>
                  <a:srgbClr val="ffffff"/>
                </a:solidFill>
                <a:latin typeface="Times New Roman"/>
              </a:rPr>
              <a:t> il </a:t>
            </a:r>
            <a:r>
              <a:rPr b="1" lang="it-IT" sz="2400" spc="-1" strike="noStrike">
                <a:solidFill>
                  <a:srgbClr val="ffff00"/>
                </a:solidFill>
                <a:latin typeface="Times New Roman"/>
              </a:rPr>
              <a:t>M.I.U.R. </a:t>
            </a:r>
            <a:r>
              <a:rPr b="1" lang="it-IT" sz="2400" spc="-1" strike="noStrike">
                <a:solidFill>
                  <a:srgbClr val="ffffff"/>
                </a:solidFill>
                <a:latin typeface="Times New Roman"/>
              </a:rPr>
              <a:t>Dipartimento per la programmazione Direzione Generale per la Politica Finanziaria e per il Bilancio, di concerto con il </a:t>
            </a:r>
            <a:r>
              <a:rPr b="1" lang="it-IT" sz="2400" spc="-1" strike="noStrike">
                <a:solidFill>
                  <a:srgbClr val="ffff00"/>
                </a:solidFill>
                <a:latin typeface="Times New Roman"/>
              </a:rPr>
              <a:t>M.E.F.</a:t>
            </a:r>
            <a:r>
              <a:rPr b="1" lang="it-IT" sz="2400" spc="-1" strike="noStrike">
                <a:solidFill>
                  <a:srgbClr val="ffffff"/>
                </a:solidFill>
                <a:latin typeface="Times New Roman"/>
              </a:rPr>
              <a:t>,</a:t>
            </a:r>
            <a:r>
              <a:rPr b="1" lang="it-IT" sz="2400" spc="-1" strike="noStrike">
                <a:solidFill>
                  <a:srgbClr val="ffff00"/>
                </a:solidFill>
                <a:latin typeface="Times New Roman"/>
              </a:rPr>
              <a:t> </a:t>
            </a:r>
            <a:r>
              <a:rPr b="1" lang="it-IT" sz="2400" spc="-1" strike="noStrike">
                <a:solidFill>
                  <a:srgbClr val="ffffff"/>
                </a:solidFill>
                <a:latin typeface="Times New Roman"/>
              </a:rPr>
              <a:t>ha diramato una circolare con specifiche indicazioni alle scuole in materia  di Cedolino Unico.</a:t>
            </a:r>
            <a:endParaRPr b="0" lang="en-US" sz="2400" spc="-1" strike="noStrike">
              <a:solidFill>
                <a:srgbClr val="ffffff"/>
              </a:solidFill>
              <a:latin typeface="Arial Rounded MT Bold"/>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Rounded MT Bold"/>
            </a:endParaRPr>
          </a:p>
        </p:txBody>
      </p:sp>
      <p:sp>
        <p:nvSpPr>
          <p:cNvPr id="1742" name="Text Box 2"/>
          <p:cNvSpPr/>
          <p:nvPr/>
        </p:nvSpPr>
        <p:spPr>
          <a:xfrm>
            <a:off x="6516720" y="62373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3642B9-55AB-4D71-B5F5-41AD17FB7A2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3" name="Text Box 3"/>
          <p:cNvSpPr/>
          <p:nvPr/>
        </p:nvSpPr>
        <p:spPr>
          <a:xfrm>
            <a:off x="685800" y="-12600"/>
            <a:ext cx="7772400" cy="1006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6000" spc="-1" strike="noStrike">
                <a:solidFill>
                  <a:srgbClr val="ffcc66"/>
                </a:solidFill>
                <a:latin typeface="Arial"/>
              </a:rPr>
              <a:t>CEDOLINO UNICO</a:t>
            </a:r>
            <a:endParaRPr b="0" lang="en-US" sz="6000" spc="-1" strike="noStrike">
              <a:solidFill>
                <a:srgbClr val="ffffff"/>
              </a:solidFill>
              <a:latin typeface="Arial Rounded MT Bold"/>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Text Box 1"/>
          <p:cNvSpPr/>
          <p:nvPr/>
        </p:nvSpPr>
        <p:spPr>
          <a:xfrm>
            <a:off x="0" y="260280"/>
            <a:ext cx="9144000" cy="682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u="sng">
                <a:solidFill>
                  <a:srgbClr val="ffffff"/>
                </a:solidFill>
                <a:uFillTx/>
                <a:latin typeface="Times New Roman"/>
              </a:rPr>
              <a:t>LE PRINCIPALI MODIFICHE E INNOVAZIONI ALLE PROCEDURE AMMINISTRATIVE</a:t>
            </a:r>
            <a:endParaRPr b="0" lang="en-US" sz="16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200" spc="-1" strike="noStrike">
                <a:solidFill>
                  <a:srgbClr val="ffffff"/>
                </a:solidFill>
                <a:latin typeface="Times New Roman"/>
              </a:rPr>
              <a:t> </a:t>
            </a:r>
            <a:r>
              <a:rPr b="1" lang="it-IT" sz="1200" spc="-1" strike="noStrike">
                <a:solidFill>
                  <a:srgbClr val="ffff00"/>
                </a:solidFill>
                <a:latin typeface="Times New Roman"/>
              </a:rPr>
              <a:t>- </a:t>
            </a:r>
            <a:r>
              <a:rPr b="1" lang="it-IT" sz="1800" spc="-1" strike="noStrike">
                <a:solidFill>
                  <a:srgbClr val="ffff00"/>
                </a:solidFill>
                <a:latin typeface="Times New Roman"/>
              </a:rPr>
              <a:t>Le competenze accessorie </a:t>
            </a:r>
            <a:r>
              <a:rPr b="1" lang="it-IT" sz="1800" spc="-1" strike="noStrike">
                <a:solidFill>
                  <a:srgbClr val="ffffff"/>
                </a:solidFill>
                <a:latin typeface="Times New Roman"/>
              </a:rPr>
              <a:t>al personale della scuola a tempo indeterminato, determinato e supplente breve,  sono pagate con il Cedolino Unico a cura del Service Personale Tesoro;</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ff"/>
                </a:solidFill>
                <a:latin typeface="Times New Roman"/>
              </a:rPr>
              <a:t>- Il conguaglio fiscale di fine anno sarà più equilibrato, in virtù dell’applicazione di aliquote IRPEF mensilmente corrispondenti all’imponibile liquidato a ciascun dipendent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Per le competenze </a:t>
            </a:r>
            <a:r>
              <a:rPr b="1" lang="it-IT" sz="1800" spc="-1" strike="noStrike">
                <a:solidFill>
                  <a:srgbClr val="ffffff"/>
                </a:solidFill>
                <a:latin typeface="Times New Roman"/>
              </a:rPr>
              <a:t>fisse e per quelle accessorie, pagate tramite Cedolino Unico,  SPT provvederà direttamente all’inoltro di tutte le comunicazioni  periodiche ( DMA UNIEMENS)  agli Enti previdenziali ed all’Agenzia delle Entrate, nonchè all’invio annuale del mod.770; </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Tutti gli emolumenti </a:t>
            </a:r>
            <a:r>
              <a:rPr b="1" lang="it-IT" sz="1800" spc="-1" strike="noStrike">
                <a:solidFill>
                  <a:srgbClr val="ffffff"/>
                </a:solidFill>
                <a:latin typeface="Times New Roman"/>
              </a:rPr>
              <a:t>pagati direttamente dalla scuola, sia quelli liquidati con giacenze di</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cassa che quelli derivanti da accessorio extra Cedolino Unico, dovranno essere comunicati al SPT ai fini del conguaglio contributivo e fiscale. Le scuole potranno comunicare in qualsiasi momento le somme pagate direttamente a SPT senza attendere la fine dell’anno di riferimento, al fine di contribuire tempestivamente ad una corretta distribuzione mensile delle ritenute fiscali.</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 </a:t>
            </a:r>
            <a:r>
              <a:rPr b="1" lang="it-IT" sz="1800" spc="-1" strike="noStrike">
                <a:solidFill>
                  <a:srgbClr val="ffff00"/>
                </a:solidFill>
                <a:latin typeface="Times New Roman"/>
              </a:rPr>
              <a:t>- La dotazione finanziaria </a:t>
            </a:r>
            <a:r>
              <a:rPr b="1" lang="it-IT" sz="1800" spc="-1" strike="noStrike">
                <a:solidFill>
                  <a:srgbClr val="ffffff"/>
                </a:solidFill>
                <a:latin typeface="Times New Roman"/>
              </a:rPr>
              <a:t>massima disponibile per le competenze accessorie gestite a mezzo cedolino unico è assegnata a ciascuna scuola al  lordo dipendente anziché, come in precedenza, al lordo Stato, con un decreto del Ministro per l’Istruzione l’università e la ricerca. Tale dotazione non dovrà essere registrata nel Programma Annuale delle scuol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 </a:t>
            </a:r>
            <a:r>
              <a:rPr b="1" lang="it-IT" sz="1800" spc="-1" strike="noStrike">
                <a:solidFill>
                  <a:srgbClr val="ffff00"/>
                </a:solidFill>
                <a:latin typeface="Times New Roman"/>
              </a:rPr>
              <a:t>- Il Dipartimento </a:t>
            </a:r>
            <a:r>
              <a:rPr b="1" lang="it-IT" sz="1800" spc="-1" strike="noStrike">
                <a:solidFill>
                  <a:srgbClr val="ffffff"/>
                </a:solidFill>
                <a:latin typeface="Times New Roman"/>
              </a:rPr>
              <a:t>per la programmazione Direzione Generale per la Politica Finanziaria e per il Bilancio continuerà ad inviare le comunicazioni di individuazione dell’importo disponibile a favore di ciascuna scuola;</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74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B8BAC-8311-47FB-8E76-01D045EE004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6" name="Text Box 3"/>
          <p:cNvSpPr/>
          <p:nvPr/>
        </p:nvSpPr>
        <p:spPr>
          <a:xfrm>
            <a:off x="685800" y="-31680"/>
            <a:ext cx="7772400" cy="396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cc66"/>
                </a:solidFill>
                <a:latin typeface="Arial"/>
              </a:rPr>
              <a:t>CEDOLINO UNICO</a:t>
            </a:r>
            <a:endParaRPr b="0" lang="en-US" sz="2000" spc="-1" strike="noStrike">
              <a:solidFill>
                <a:srgbClr val="ffffff"/>
              </a:solidFill>
              <a:latin typeface="Arial Rounded MT 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FB7B1-D10B-4545-9C45-5B2F34BA4DF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4"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5" name="Text Box 3"/>
          <p:cNvSpPr/>
          <p:nvPr/>
        </p:nvSpPr>
        <p:spPr>
          <a:xfrm>
            <a:off x="395280" y="1038240"/>
            <a:ext cx="8280360" cy="517032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5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3000" spc="-1" strike="noStrike" u="sng">
                <a:solidFill>
                  <a:srgbClr val="66ffff"/>
                </a:solidFill>
                <a:uFillTx/>
                <a:latin typeface="Calibri"/>
              </a:rPr>
              <a:t>PER SERVIZI O FORNITURE</a:t>
            </a:r>
            <a:r>
              <a:rPr b="1" lang="it-IT" sz="3000" spc="-1" strike="noStrike">
                <a:solidFill>
                  <a:srgbClr val="66ffff"/>
                </a:solidFill>
                <a:latin typeface="Calibri"/>
              </a:rPr>
              <a:t> </a:t>
            </a:r>
            <a:r>
              <a:rPr b="1" lang="it-IT" sz="3000" spc="-1" strike="noStrike">
                <a:solidFill>
                  <a:srgbClr val="ffffff"/>
                </a:solidFill>
                <a:latin typeface="Calibri"/>
              </a:rPr>
              <a:t>di valore pari o superiore a </a:t>
            </a:r>
            <a:r>
              <a:rPr b="1" lang="it-IT" sz="3000" spc="-1" strike="noStrike">
                <a:solidFill>
                  <a:srgbClr val="ffff00"/>
                </a:solidFill>
                <a:latin typeface="Calibri"/>
              </a:rPr>
              <a:t>€.40.000 </a:t>
            </a:r>
            <a:r>
              <a:rPr b="1" lang="it-IT" sz="3000" spc="-1" strike="noStrike">
                <a:solidFill>
                  <a:srgbClr val="ffffff"/>
                </a:solidFill>
                <a:latin typeface="Calibri"/>
              </a:rPr>
              <a:t>ma non superiore a </a:t>
            </a:r>
            <a:r>
              <a:rPr b="1" lang="it-IT" sz="3000" spc="-1" strike="noStrike">
                <a:solidFill>
                  <a:srgbClr val="ffff00"/>
                </a:solidFill>
                <a:latin typeface="Calibri"/>
              </a:rPr>
              <a:t>€.200.000, </a:t>
            </a:r>
            <a:r>
              <a:rPr b="1" lang="it-IT" sz="3000" spc="-1" strike="noStrike">
                <a:solidFill>
                  <a:srgbClr val="ffffff"/>
                </a:solidFill>
                <a:latin typeface="Calibri"/>
              </a:rPr>
              <a:t>si procede all’affidamento mediante </a:t>
            </a:r>
            <a:r>
              <a:rPr b="1" lang="it-IT" sz="3000" spc="-1" strike="noStrike">
                <a:solidFill>
                  <a:srgbClr val="ffff00"/>
                </a:solidFill>
                <a:latin typeface="Calibri"/>
              </a:rPr>
              <a:t>“cottimo fiduciario” </a:t>
            </a:r>
            <a:r>
              <a:rPr b="1" lang="it-IT" sz="3000" spc="-1" strike="noStrike">
                <a:solidFill>
                  <a:srgbClr val="ffffff"/>
                </a:solidFill>
                <a:latin typeface="Calibri"/>
              </a:rPr>
              <a:t>nel rispetto dei principi di </a:t>
            </a:r>
            <a:r>
              <a:rPr b="1" lang="it-IT" sz="3000" spc="-1" strike="noStrike">
                <a:solidFill>
                  <a:srgbClr val="ffff00"/>
                </a:solidFill>
                <a:latin typeface="Calibri"/>
              </a:rPr>
              <a:t>“trasparenza”, “rotazione” e “parità di trattamento” </a:t>
            </a:r>
            <a:r>
              <a:rPr b="1" lang="it-IT" sz="3000" spc="-1" strike="noStrike">
                <a:solidFill>
                  <a:srgbClr val="ffffff"/>
                </a:solidFill>
                <a:latin typeface="Calibri"/>
              </a:rPr>
              <a:t>previa consultazione  di </a:t>
            </a:r>
            <a:r>
              <a:rPr b="1" lang="it-IT" sz="3000" spc="-1" strike="noStrike">
                <a:solidFill>
                  <a:srgbClr val="ffff00"/>
                </a:solidFill>
                <a:latin typeface="Calibri"/>
              </a:rPr>
              <a:t>“ALMENO 5 OPERATORI ECONOMICI” </a:t>
            </a:r>
            <a:r>
              <a:rPr b="1" lang="it-IT" sz="3000" spc="-1" strike="noStrike">
                <a:solidFill>
                  <a:srgbClr val="ffffff"/>
                </a:solidFill>
                <a:latin typeface="Calibri"/>
              </a:rPr>
              <a:t>se sussistono in tale numero soggetti idonei, individuati sulla base di indagini di mercato o tramite elenchi di operatori predisposti dalla stazione appaltante stessa. </a:t>
            </a:r>
            <a:endParaRPr b="0" lang="en-US" sz="3000" spc="-1" strike="noStrike">
              <a:solidFill>
                <a:srgbClr val="ffffff"/>
              </a:solidFill>
              <a:latin typeface="Arial Rounded MT Bold"/>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Text Box 1"/>
          <p:cNvSpPr/>
          <p:nvPr/>
        </p:nvSpPr>
        <p:spPr>
          <a:xfrm>
            <a:off x="0" y="692280"/>
            <a:ext cx="9144000" cy="620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2000" spc="-1" strike="noStrike">
                <a:solidFill>
                  <a:srgbClr val="ffff00"/>
                </a:solidFill>
                <a:latin typeface="Times New Roman"/>
              </a:rPr>
              <a:t> </a:t>
            </a:r>
            <a:r>
              <a:rPr b="1" lang="it-IT" sz="2000" spc="-1" strike="noStrike">
                <a:solidFill>
                  <a:srgbClr val="ffff00"/>
                </a:solidFill>
                <a:latin typeface="Times New Roman"/>
              </a:rPr>
              <a:t>- La somma limite </a:t>
            </a:r>
            <a:r>
              <a:rPr b="1" lang="it-IT" sz="2000" spc="-1" strike="noStrike">
                <a:solidFill>
                  <a:srgbClr val="ffffff"/>
                </a:solidFill>
                <a:latin typeface="Times New Roman"/>
              </a:rPr>
              <a:t>disponibile per la contrattazione integrativa di Istituto continuerà ad essere pari alla relativa assegnazione per l’anno scolastico in corso maggiorata delle somme non utilizzate dalle scuole negli esercizi precedenti;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e somme </a:t>
            </a:r>
            <a:r>
              <a:rPr b="1" lang="it-IT" sz="2000" spc="-1" strike="noStrike">
                <a:solidFill>
                  <a:srgbClr val="ffffff"/>
                </a:solidFill>
                <a:latin typeface="Times New Roman"/>
              </a:rPr>
              <a:t>eventualmente </a:t>
            </a:r>
            <a:r>
              <a:rPr b="1" lang="it-IT" sz="2000" spc="-1" strike="noStrike">
                <a:solidFill>
                  <a:srgbClr val="ffff00"/>
                </a:solidFill>
                <a:latin typeface="Times New Roman"/>
              </a:rPr>
              <a:t>non utilizzate </a:t>
            </a:r>
            <a:r>
              <a:rPr b="1" lang="it-IT" sz="2000" spc="-1" strike="noStrike">
                <a:solidFill>
                  <a:srgbClr val="ffffff"/>
                </a:solidFill>
                <a:latin typeface="Times New Roman"/>
              </a:rPr>
              <a:t>nella contrattazione d’Istituto provenienti dalle dotazioni finanziarie assegnate, non verranno azzerate ma rimarranno nella disponibilità delle scuole per poter essere utilizzate per le contrattazioni successive;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anticipo assegnato </a:t>
            </a:r>
            <a:r>
              <a:rPr b="1" lang="it-IT" sz="2000" spc="-1" strike="noStrike">
                <a:solidFill>
                  <a:srgbClr val="ffffff"/>
                </a:solidFill>
                <a:latin typeface="Times New Roman"/>
              </a:rPr>
              <a:t>per  compensi ai componenti delle Commissioni giudicatrici degli esami di Stato conclusivi dei corsi di studio della scuola secondaria superiore saranno integrati, previa rilevazione del reale corrispondente fabbisogno, con quanto necessario a coprirlo integralmente;</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Le competenze accessorie </a:t>
            </a:r>
            <a:r>
              <a:rPr b="1" lang="it-IT" sz="2000" spc="-1" strike="noStrike">
                <a:solidFill>
                  <a:srgbClr val="ffffff"/>
                </a:solidFill>
                <a:latin typeface="Times New Roman"/>
              </a:rPr>
              <a:t>dovute al personale </a:t>
            </a:r>
            <a:r>
              <a:rPr b="1" lang="it-IT" sz="2000" spc="-1" strike="noStrike">
                <a:solidFill>
                  <a:srgbClr val="ffff00"/>
                </a:solidFill>
                <a:latin typeface="Times New Roman"/>
              </a:rPr>
              <a:t>supplente breve </a:t>
            </a:r>
            <a:r>
              <a:rPr b="1" lang="it-IT" sz="2000" spc="-1" strike="noStrike">
                <a:solidFill>
                  <a:srgbClr val="ffffff"/>
                </a:solidFill>
                <a:latin typeface="Times New Roman"/>
              </a:rPr>
              <a:t>saranno pagate tramite Cedolino Unico, mentre resteranno a carico del bilancio delle scuole  i pagamenti spettanti per le competenze fisse al medesimo personale.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 </a:t>
            </a:r>
            <a:r>
              <a:rPr b="1" lang="it-IT" sz="2000" spc="-1" strike="noStrike">
                <a:solidFill>
                  <a:srgbClr val="ffff00"/>
                </a:solidFill>
                <a:latin typeface="Times New Roman"/>
              </a:rPr>
              <a:t>- I controlli rientrano </a:t>
            </a:r>
            <a:r>
              <a:rPr b="1" lang="it-IT" sz="2000" spc="-1" strike="noStrike">
                <a:solidFill>
                  <a:srgbClr val="ffffff"/>
                </a:solidFill>
                <a:latin typeface="Times New Roman"/>
              </a:rPr>
              <a:t>nella competenza dei revisori dei conti, sia sulla contrattazione integrativa di Istituto (art. 6 CCNL/2007) che sulle dichiarazioni dei Punti Ordinanti della Spesa P.O.S.  in merito alle nuove procedure per il pagamento della competenze accessorie spettanti al personale della scuola. </a:t>
            </a:r>
            <a:endParaRPr b="0" lang="en-US" sz="2000" spc="-1" strike="noStrike">
              <a:solidFill>
                <a:srgbClr val="ffffff"/>
              </a:solidFill>
              <a:latin typeface="Arial Rounded MT Bold"/>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Rounded MT Bold"/>
            </a:endParaRPr>
          </a:p>
        </p:txBody>
      </p:sp>
      <p:sp>
        <p:nvSpPr>
          <p:cNvPr id="174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54D4E-5582-41D5-B9FE-84EDBA3AE83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49" name="Text Box 3"/>
          <p:cNvSpPr/>
          <p:nvPr/>
        </p:nvSpPr>
        <p:spPr>
          <a:xfrm>
            <a:off x="685800" y="-3960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Text Box 1"/>
          <p:cNvSpPr/>
          <p:nvPr/>
        </p:nvSpPr>
        <p:spPr>
          <a:xfrm>
            <a:off x="108000" y="549360"/>
            <a:ext cx="8928000" cy="604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OPERATIVITÀ</a:t>
            </a:r>
            <a:endParaRPr b="0" lang="en-US" sz="24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Per accedere </a:t>
            </a:r>
            <a:r>
              <a:rPr b="1" lang="it-IT" sz="2000" spc="-1" strike="noStrike">
                <a:solidFill>
                  <a:srgbClr val="ffffff"/>
                </a:solidFill>
                <a:latin typeface="Times New Roman"/>
              </a:rPr>
              <a:t>all’applicativo SPT, la scuola accede al Portale SIDI e seleziona dal menù la voce “Funzioni SPT” per l’inserimento, visualizzazione, modifica, cancellazione e validazione degli elenchi dei soggetti ai quali liquida un compenso di cui dovrà specificare l’importo lordo dipendente e la fattispecie giuridica dell’ accessorio.</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Ciascun elenco </a:t>
            </a:r>
            <a:r>
              <a:rPr b="1" lang="it-IT" sz="2000" spc="-1" strike="noStrike">
                <a:solidFill>
                  <a:srgbClr val="ffffff"/>
                </a:solidFill>
                <a:latin typeface="Times New Roman"/>
              </a:rPr>
              <a:t>di liquidazione è preso in considerazione da SPT per l’eventuale pagamento solo dopo l’avvenuta doppia validazione D.S e D.S.G.A.</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La scuola </a:t>
            </a:r>
            <a:r>
              <a:rPr b="1" lang="it-IT" sz="2000" spc="-1" strike="noStrike">
                <a:solidFill>
                  <a:srgbClr val="ffffff"/>
                </a:solidFill>
                <a:latin typeface="Times New Roman"/>
              </a:rPr>
              <a:t>può acquisire dall’applicativo SPT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1.  </a:t>
            </a:r>
            <a:r>
              <a:rPr b="1" lang="it-IT" sz="2000" spc="-1" strike="noStrike">
                <a:solidFill>
                  <a:srgbClr val="ffffff"/>
                </a:solidFill>
                <a:latin typeface="Times New Roman"/>
              </a:rPr>
              <a:t>La visualizzazione del singolo elenco di liquidazione;</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2. </a:t>
            </a:r>
            <a:r>
              <a:rPr b="1" lang="it-IT" sz="2000" spc="-1" strike="noStrike">
                <a:solidFill>
                  <a:srgbClr val="ffffff"/>
                </a:solidFill>
                <a:latin typeface="Times New Roman"/>
              </a:rPr>
              <a:t>L’informazione che uno specifico elenco di liquidazione sia o no stato effettivamente messo in pagamento; </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3. </a:t>
            </a:r>
            <a:r>
              <a:rPr b="1" lang="it-IT" sz="2000" spc="-1" strike="noStrike">
                <a:solidFill>
                  <a:srgbClr val="ffffff"/>
                </a:solidFill>
                <a:latin typeface="Times New Roman"/>
              </a:rPr>
              <a:t>La possibilità di produrre stampe riepilogative delle liquidazioni comunicate e dei pagamenti effettuati, in funzione  sia del periodo di emissione che della fattispecie dell’accessorio;</a:t>
            </a:r>
            <a:endParaRPr b="0" lang="en-US" sz="2000" spc="-1" strike="noStrike">
              <a:solidFill>
                <a:srgbClr val="ffffff"/>
              </a:solidFill>
              <a:latin typeface="Arial Rounded MT Bold"/>
            </a:endParaRPr>
          </a:p>
          <a:p>
            <a:pPr algn="just">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Times New Roman"/>
              </a:rPr>
              <a:t>Ogni dipendente </a:t>
            </a:r>
            <a:r>
              <a:rPr b="1" lang="it-IT" sz="2000" spc="-1" strike="noStrike">
                <a:solidFill>
                  <a:srgbClr val="ffffff"/>
                </a:solidFill>
                <a:latin typeface="Times New Roman"/>
              </a:rPr>
              <a:t>può leggere, sul proprio cedolino mensile, il dettaglio delle competenze accessorie pagate il medesimo mese, distinte per tipologie così come da elenchi di liquidazione caricati a sistema dalla scuola di appartenenza.</a:t>
            </a:r>
            <a:endParaRPr b="0" lang="en-US" sz="2000" spc="-1" strike="noStrike">
              <a:solidFill>
                <a:srgbClr val="ffffff"/>
              </a:solidFill>
              <a:latin typeface="Arial Rounded MT Bold"/>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ffffff"/>
              </a:solidFill>
              <a:latin typeface="Arial Rounded MT Bold"/>
            </a:endParaRPr>
          </a:p>
        </p:txBody>
      </p:sp>
      <p:sp>
        <p:nvSpPr>
          <p:cNvPr id="175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DBA36-110D-47AA-805B-F1859A40668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2"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Text Box 1"/>
          <p:cNvSpPr/>
          <p:nvPr/>
        </p:nvSpPr>
        <p:spPr>
          <a:xfrm>
            <a:off x="108000" y="549360"/>
            <a:ext cx="8928000" cy="615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OPERATIVITÀ</a:t>
            </a:r>
            <a:endParaRPr b="0" lang="en-US" sz="2400" spc="-1" strike="noStrike">
              <a:solidFill>
                <a:srgbClr val="ffffff"/>
              </a:solidFill>
              <a:latin typeface="Arial Rounded MT Bold"/>
            </a:endParaRPr>
          </a:p>
          <a:p>
            <a:pPr algn="ct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u="sng">
                <a:solidFill>
                  <a:srgbClr val="ffff00"/>
                </a:solidFill>
                <a:uFillTx/>
                <a:latin typeface="Times New Roman"/>
              </a:rPr>
              <a:t>L’accesso al sistema è consentito agli utenti abilitati ai seguenti ruol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1. Operatore </a:t>
            </a:r>
            <a:r>
              <a:rPr b="1" lang="it-IT" sz="2200" spc="-1" strike="noStrike">
                <a:solidFill>
                  <a:srgbClr val="ffffff"/>
                </a:solidFill>
                <a:latin typeface="Times New Roman"/>
              </a:rPr>
              <a:t>- Il ruolo di </a:t>
            </a:r>
            <a:r>
              <a:rPr b="1" lang="it-IT" sz="2200" spc="-1" strike="noStrike">
                <a:solidFill>
                  <a:srgbClr val="ffff00"/>
                </a:solidFill>
                <a:latin typeface="Times New Roman"/>
              </a:rPr>
              <a:t>operatore</a:t>
            </a:r>
            <a:r>
              <a:rPr b="1" lang="it-IT" sz="2200" spc="-1" strike="noStrike">
                <a:solidFill>
                  <a:srgbClr val="ffffff"/>
                </a:solidFill>
                <a:latin typeface="Times New Roman"/>
              </a:rPr>
              <a:t>, per tutte le funzioni riguardanti le competenze accessorie, viene assegnato, per ogni scuola, alle persone che si occupano della predisposizione degli elenchi di liquidazione. Tutti gli assistenti amministrativi di ruolo e supplenti annuali sono abilitati automaticamente a detto ruolo. il Dirigente scolastico può abilitare personalmente altri assistenti amministrativi, anche supplenti brevi, eventualmente entrati in servizio successivamente alle operazioni di abilitazione automatica, utilizzando le apposite funzioni di Gestione Utenza, ricorrendo al referente provinciale per la sicurezza informatica solo in caso di impossibilità ad effettuare tali operazion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2. Responsabile </a:t>
            </a:r>
            <a:r>
              <a:rPr b="1" lang="it-IT" sz="2200" spc="-1" strike="noStrike">
                <a:solidFill>
                  <a:srgbClr val="ffffff"/>
                </a:solidFill>
                <a:latin typeface="Times New Roman"/>
              </a:rPr>
              <a:t>- Il ruolo di </a:t>
            </a:r>
            <a:r>
              <a:rPr b="1" lang="it-IT" sz="2200" spc="-1" strike="noStrike">
                <a:solidFill>
                  <a:srgbClr val="ffff00"/>
                </a:solidFill>
                <a:latin typeface="Times New Roman"/>
              </a:rPr>
              <a:t>responsabile</a:t>
            </a:r>
            <a:r>
              <a:rPr b="1" lang="it-IT" sz="2200" spc="-1" strike="noStrike">
                <a:solidFill>
                  <a:srgbClr val="ffffff"/>
                </a:solidFill>
                <a:latin typeface="Times New Roman"/>
              </a:rPr>
              <a:t> per le funzioni riguardanti competenze accessorie viene assegnato, per ogni Istituto, al dirigente e al direttore, che devono validare gli elenchi di liquidazione; eventuali integrazioni di tali ruoli possono essere richiesti al proprio referente per la sicurezza provinciale o regionale.</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5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12585-0207-4936-9E68-B87F63BC261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5"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Text Box 1"/>
          <p:cNvSpPr/>
          <p:nvPr/>
        </p:nvSpPr>
        <p:spPr>
          <a:xfrm>
            <a:off x="108000" y="692280"/>
            <a:ext cx="8928000" cy="6049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SPT</a:t>
            </a:r>
            <a:r>
              <a:rPr b="1" lang="it-IT" sz="1800" spc="-1" strike="noStrike">
                <a:solidFill>
                  <a:srgbClr val="ffffff"/>
                </a:solidFill>
                <a:latin typeface="Times New Roman"/>
              </a:rPr>
              <a:t> dà evidenza </a:t>
            </a:r>
            <a:r>
              <a:rPr b="1" lang="it-IT" sz="1800" spc="-1" strike="noStrike">
                <a:solidFill>
                  <a:srgbClr val="ffff00"/>
                </a:solidFill>
                <a:latin typeface="Times New Roman"/>
              </a:rPr>
              <a:t>dell’ultimo giorno </a:t>
            </a:r>
            <a:r>
              <a:rPr b="1" lang="it-IT" sz="1800" spc="-1" strike="noStrike">
                <a:solidFill>
                  <a:srgbClr val="ffffff"/>
                </a:solidFill>
                <a:latin typeface="Times New Roman"/>
              </a:rPr>
              <a:t>utile perché elenchi di liquidazione, che abbiano superato positivamente il controllo di disponibilità sull’assegnazione di riferimento, siano presi in considerazione per la rata in lavorazione.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I linea di massima l’ultimo giorno utile sarà  previsto </a:t>
            </a:r>
            <a:r>
              <a:rPr b="1" lang="it-IT" sz="1800" spc="-1" strike="noStrike">
                <a:solidFill>
                  <a:srgbClr val="ffff00"/>
                </a:solidFill>
                <a:latin typeface="Times New Roman"/>
              </a:rPr>
              <a:t>nell’ultima settimana del mese </a:t>
            </a:r>
            <a:r>
              <a:rPr b="1" lang="it-IT" sz="1800" spc="-1" strike="noStrike">
                <a:solidFill>
                  <a:srgbClr val="ffffff"/>
                </a:solidFill>
                <a:latin typeface="Times New Roman"/>
              </a:rPr>
              <a:t>ed  indica il giorno in cui le linee di collegamento con la banca dati </a:t>
            </a:r>
            <a:r>
              <a:rPr b="1" lang="it-IT" sz="1800" spc="-1" strike="noStrike">
                <a:solidFill>
                  <a:srgbClr val="ffff00"/>
                </a:solidFill>
                <a:latin typeface="Times New Roman"/>
              </a:rPr>
              <a:t>SPT</a:t>
            </a:r>
            <a:r>
              <a:rPr b="1" lang="it-IT" sz="1800" spc="-1" strike="noStrike">
                <a:solidFill>
                  <a:srgbClr val="ffffff"/>
                </a:solidFill>
                <a:latin typeface="Times New Roman"/>
              </a:rPr>
              <a:t> vengono chiuse per consentire le operazioni di emissione degli stipendi per la rata appena conclusa.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Tutte le </a:t>
            </a:r>
            <a:r>
              <a:rPr b="1" lang="it-IT" sz="1800" spc="-1" strike="noStrike">
                <a:solidFill>
                  <a:srgbClr val="ffff00"/>
                </a:solidFill>
                <a:latin typeface="Times New Roman"/>
              </a:rPr>
              <a:t>liquidazioni</a:t>
            </a:r>
            <a:r>
              <a:rPr b="1" lang="it-IT" sz="1800" spc="-1" strike="noStrike">
                <a:solidFill>
                  <a:srgbClr val="ffffff"/>
                </a:solidFill>
                <a:latin typeface="Times New Roman"/>
              </a:rPr>
              <a:t> per le quali non risulta concluso l’iter procedimentale, potranno essere pagate con la mensilità successiva.</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iemissione</a:t>
            </a:r>
            <a:r>
              <a:rPr b="1" lang="it-IT" sz="1800" spc="-1" strike="noStrike">
                <a:solidFill>
                  <a:srgbClr val="ffffff"/>
                </a:solidFill>
                <a:latin typeface="Times New Roman"/>
              </a:rPr>
              <a:t> delle somme restituite per bonifici non andati a buon fine e di quelle non pagate entro il termine di esigibilità rimane a carico delle </a:t>
            </a:r>
            <a:r>
              <a:rPr b="1" lang="it-IT" sz="1800" spc="-1" strike="noStrike">
                <a:solidFill>
                  <a:srgbClr val="ffff00"/>
                </a:solidFill>
                <a:latin typeface="Times New Roman"/>
              </a:rPr>
              <a:t>Ragionerie</a:t>
            </a:r>
            <a:r>
              <a:rPr b="1" lang="it-IT" sz="1800" spc="-1" strike="noStrike">
                <a:solidFill>
                  <a:srgbClr val="ffffff"/>
                </a:solidFill>
                <a:latin typeface="Times New Roman"/>
              </a:rPr>
              <a:t> Territoriali dello Stato.</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Times New Roman"/>
              </a:rPr>
              <a:t>SPT</a:t>
            </a:r>
            <a:r>
              <a:rPr b="1" lang="it-IT" sz="1800" spc="-1" strike="noStrike">
                <a:solidFill>
                  <a:srgbClr val="ffffff"/>
                </a:solidFill>
                <a:latin typeface="Times New Roman"/>
              </a:rPr>
              <a:t> informerà le Ragionerie degli eventuali titoli stornati e/o restituiti. </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Previa acquisizione, da parte delle </a:t>
            </a:r>
            <a:r>
              <a:rPr b="1" lang="it-IT" sz="1800" spc="-1" strike="noStrike">
                <a:solidFill>
                  <a:srgbClr val="ffff00"/>
                </a:solidFill>
                <a:latin typeface="Times New Roman"/>
              </a:rPr>
              <a:t>Scuole</a:t>
            </a:r>
            <a:r>
              <a:rPr b="1" lang="it-IT" sz="1800" spc="-1" strike="noStrike">
                <a:solidFill>
                  <a:srgbClr val="ffffff"/>
                </a:solidFill>
                <a:latin typeface="Times New Roman"/>
              </a:rPr>
              <a:t>, delle rettifiche da apportare al bonifico non andato a buon fine, il pagamento stornato è a cura del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dello Stato competente.</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competente comunicherà alla </a:t>
            </a:r>
            <a:r>
              <a:rPr b="1" lang="it-IT" sz="1800" spc="-1" strike="noStrike">
                <a:solidFill>
                  <a:srgbClr val="ffff00"/>
                </a:solidFill>
                <a:latin typeface="Times New Roman"/>
              </a:rPr>
              <a:t>scuola</a:t>
            </a:r>
            <a:r>
              <a:rPr b="1" lang="it-IT" sz="1800" spc="-1" strike="noStrike">
                <a:solidFill>
                  <a:srgbClr val="ffffff"/>
                </a:solidFill>
                <a:latin typeface="Times New Roman"/>
              </a:rPr>
              <a:t> i titoli stornati o restituiti.</a:t>
            </a:r>
            <a:endParaRPr b="0" lang="en-US" sz="1800" spc="-1" strike="noStrike">
              <a:solidFill>
                <a:srgbClr val="ffffff"/>
              </a:solidFill>
              <a:latin typeface="Arial Rounded MT Bold"/>
            </a:endParaRPr>
          </a:p>
          <a:p>
            <a:pPr algn="just">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Times New Roman"/>
              </a:rPr>
              <a:t>La </a:t>
            </a:r>
            <a:r>
              <a:rPr b="1" lang="it-IT" sz="1800" spc="-1" strike="noStrike">
                <a:solidFill>
                  <a:srgbClr val="ffff00"/>
                </a:solidFill>
                <a:latin typeface="Times New Roman"/>
              </a:rPr>
              <a:t>Ragioneria</a:t>
            </a:r>
            <a:r>
              <a:rPr b="1" lang="it-IT" sz="1800" spc="-1" strike="noStrike">
                <a:solidFill>
                  <a:srgbClr val="ffffff"/>
                </a:solidFill>
                <a:latin typeface="Times New Roman"/>
              </a:rPr>
              <a:t> Territoriale ,dopo aver rimosso l’anomalia riscontrata, richiederà</a:t>
            </a:r>
            <a:r>
              <a:rPr b="1" lang="it-IT" sz="1800" spc="-1" strike="noStrike">
                <a:solidFill>
                  <a:srgbClr val="ffff00"/>
                </a:solidFill>
                <a:latin typeface="Times New Roman"/>
              </a:rPr>
              <a:t> SPT </a:t>
            </a:r>
            <a:r>
              <a:rPr b="1" lang="it-IT" sz="1800" spc="-1" strike="noStrike">
                <a:solidFill>
                  <a:srgbClr val="ffffff"/>
                </a:solidFill>
                <a:latin typeface="Times New Roman"/>
              </a:rPr>
              <a:t>di riemettere il titolo di pagamento relativo alla quota del netto dipendente.</a:t>
            </a: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75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E34DE-D8B8-439E-A082-DA0DF5EF8BC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58" name="Text Box 3"/>
          <p:cNvSpPr/>
          <p:nvPr/>
        </p:nvSpPr>
        <p:spPr>
          <a:xfrm>
            <a:off x="685800" y="1764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Text Box 1"/>
          <p:cNvSpPr/>
          <p:nvPr/>
        </p:nvSpPr>
        <p:spPr>
          <a:xfrm>
            <a:off x="108000" y="765000"/>
            <a:ext cx="9036000" cy="629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LE TIPOLOGIE DI COMPETENZE ACCESSORIE GESTITE DALLE SCUOL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4000" spc="-1" strike="noStrike">
                <a:solidFill>
                  <a:srgbClr val="ffff00"/>
                </a:solidFill>
                <a:latin typeface="Times New Roman"/>
              </a:rPr>
              <a:t>1. </a:t>
            </a:r>
            <a:r>
              <a:rPr b="0" lang="it-IT" sz="4000" spc="-1" strike="noStrike">
                <a:solidFill>
                  <a:srgbClr val="ffffff"/>
                </a:solidFill>
                <a:latin typeface="Times New Roman"/>
              </a:rPr>
              <a:t>Compensi erogati a carico  disponibilità assegnate da enti terzi (Comune, Provincia Regione, U.E. PON-FSE, PON FESR, </a:t>
            </a:r>
            <a:r>
              <a:rPr b="0" lang="it-IT" sz="3200" spc="-1" strike="noStrike">
                <a:solidFill>
                  <a:srgbClr val="ffffff"/>
                </a:solidFill>
                <a:latin typeface="Times New Roman"/>
              </a:rPr>
              <a:t>etc.);</a:t>
            </a:r>
            <a:endParaRPr b="0" lang="en-US" sz="3200" spc="-1" strike="noStrike">
              <a:solidFill>
                <a:srgbClr val="ffffff"/>
              </a:solidFill>
              <a:latin typeface="Arial Rounded MT Bold"/>
            </a:endParaRPr>
          </a:p>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4000" spc="-1" strike="noStrike">
                <a:solidFill>
                  <a:srgbClr val="ffff00"/>
                </a:solidFill>
                <a:latin typeface="Times New Roman"/>
              </a:rPr>
              <a:t>2. </a:t>
            </a:r>
            <a:r>
              <a:rPr b="0" lang="it-IT" sz="4000" spc="-1" strike="noStrike">
                <a:solidFill>
                  <a:srgbClr val="ffffff"/>
                </a:solidFill>
                <a:latin typeface="Times New Roman"/>
              </a:rPr>
              <a:t>Compensi per il personale coinvolto nelle attività di cui all’art. 9 del C.C.N.L. (aree a rischio ed a forte processo immigratorio).</a:t>
            </a:r>
            <a:endParaRPr b="0" lang="en-US" sz="4000" spc="-1" strike="noStrike">
              <a:solidFill>
                <a:srgbClr val="ffffff"/>
              </a:solidFill>
              <a:latin typeface="Arial Rounded MT Bold"/>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Rounded MT Bold"/>
            </a:endParaRPr>
          </a:p>
        </p:txBody>
      </p:sp>
      <p:sp>
        <p:nvSpPr>
          <p:cNvPr id="176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966E0-3CBC-4CC2-90D0-C4DDEB90C23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61" name="Text Box 3"/>
          <p:cNvSpPr/>
          <p:nvPr/>
        </p:nvSpPr>
        <p:spPr>
          <a:xfrm>
            <a:off x="685800" y="-157320"/>
            <a:ext cx="7772400" cy="1006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6000" spc="-1" strike="noStrike">
                <a:solidFill>
                  <a:srgbClr val="ffcc66"/>
                </a:solidFill>
                <a:latin typeface="Arial"/>
              </a:rPr>
              <a:t>CEDOLINO UNICO</a:t>
            </a:r>
            <a:endParaRPr b="0" lang="en-US" sz="6000" spc="-1" strike="noStrike">
              <a:solidFill>
                <a:srgbClr val="ffffff"/>
              </a:solidFill>
              <a:latin typeface="Arial Rounded MT Bold"/>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Text Box 1"/>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
        <p:nvSpPr>
          <p:cNvPr id="1763" name="Text Box 2"/>
          <p:cNvSpPr/>
          <p:nvPr/>
        </p:nvSpPr>
        <p:spPr>
          <a:xfrm>
            <a:off x="108000" y="549360"/>
            <a:ext cx="8928000" cy="661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Times New Roman"/>
              </a:rPr>
              <a:t>TIPOLOGIE DI COMPETENZE ACCESSORIE  GESTITE DA STP  TRAMITE CEDOLINO UNICO</a:t>
            </a:r>
            <a:endParaRPr b="0" lang="en-US" sz="28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a:t>
            </a:r>
            <a:r>
              <a:rPr b="1" lang="it-IT" sz="2200" spc="-1" strike="noStrike">
                <a:solidFill>
                  <a:srgbClr val="ffffff"/>
                </a:solidFill>
                <a:latin typeface="Times New Roman"/>
              </a:rPr>
              <a:t>	</a:t>
            </a:r>
            <a:r>
              <a:rPr b="1" lang="it-IT" sz="2200" spc="-1" strike="noStrike">
                <a:solidFill>
                  <a:srgbClr val="ffffff"/>
                </a:solidFill>
                <a:latin typeface="Times New Roman"/>
              </a:rPr>
              <a:t>F.I.S. con riferimento a tutti gli istituti contrattuali di cui all'art.</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88 del CCNL 29-11-2007:</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a:t>
            </a:r>
            <a:r>
              <a:rPr b="1" lang="it-IT" sz="2200" spc="-1" strike="noStrike">
                <a:solidFill>
                  <a:srgbClr val="ffffff"/>
                </a:solidFill>
                <a:latin typeface="Times New Roman"/>
              </a:rPr>
              <a:t>	</a:t>
            </a:r>
            <a:r>
              <a:rPr b="1" lang="it-IT" sz="2200" spc="-1" strike="noStrike">
                <a:solidFill>
                  <a:srgbClr val="ffffff"/>
                </a:solidFill>
                <a:latin typeface="Times New Roman"/>
              </a:rPr>
              <a:t>particolare impegno professionale docente in aul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2.</a:t>
            </a:r>
            <a:r>
              <a:rPr b="1" lang="it-IT" sz="2200" spc="-1" strike="noStrike">
                <a:solidFill>
                  <a:srgbClr val="ffffff"/>
                </a:solidFill>
                <a:latin typeface="Times New Roman"/>
              </a:rPr>
              <a:t>	</a:t>
            </a:r>
            <a:r>
              <a:rPr b="1" lang="it-IT" sz="2200" spc="-1" strike="noStrike">
                <a:solidFill>
                  <a:srgbClr val="ffffff"/>
                </a:solidFill>
                <a:latin typeface="Times New Roman"/>
              </a:rPr>
              <a:t>attività aggiuntive di insegnament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3.</a:t>
            </a:r>
            <a:r>
              <a:rPr b="1" lang="it-IT" sz="2200" spc="-1" strike="noStrike">
                <a:solidFill>
                  <a:srgbClr val="ffffff"/>
                </a:solidFill>
                <a:latin typeface="Times New Roman"/>
              </a:rPr>
              <a:t>	</a:t>
            </a:r>
            <a:r>
              <a:rPr b="1" lang="it-IT" sz="2200" spc="-1" strike="noStrike">
                <a:solidFill>
                  <a:srgbClr val="ffffff"/>
                </a:solidFill>
                <a:latin typeface="Times New Roman"/>
              </a:rPr>
              <a:t>ore aggiuntive per corsi di recuper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4.</a:t>
            </a:r>
            <a:r>
              <a:rPr b="1" lang="it-IT" sz="2200" spc="-1" strike="noStrike">
                <a:solidFill>
                  <a:srgbClr val="ffffff"/>
                </a:solidFill>
                <a:latin typeface="Times New Roman"/>
              </a:rPr>
              <a:t>	</a:t>
            </a:r>
            <a:r>
              <a:rPr b="1" lang="it-IT" sz="2200" spc="-1" strike="noStrike">
                <a:solidFill>
                  <a:srgbClr val="ffffff"/>
                </a:solidFill>
                <a:latin typeface="Times New Roman"/>
              </a:rPr>
              <a:t>attività aggiuntive funzionali all’insegnament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5.</a:t>
            </a:r>
            <a:r>
              <a:rPr b="1" lang="it-IT" sz="2200" spc="-1" strike="noStrike">
                <a:solidFill>
                  <a:srgbClr val="ffffff"/>
                </a:solidFill>
                <a:latin typeface="Times New Roman"/>
              </a:rPr>
              <a:t>	</a:t>
            </a:r>
            <a:r>
              <a:rPr b="1" lang="it-IT" sz="2200" spc="-1" strike="noStrike">
                <a:solidFill>
                  <a:srgbClr val="ffffff"/>
                </a:solidFill>
                <a:latin typeface="Times New Roman"/>
              </a:rPr>
              <a:t>prestazioni aggiuntive A.T.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6.</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notturn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7.</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festiv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8.</a:t>
            </a:r>
            <a:r>
              <a:rPr b="1" lang="it-IT" sz="2200" spc="-1" strike="noStrike">
                <a:solidFill>
                  <a:srgbClr val="ffffff"/>
                </a:solidFill>
                <a:latin typeface="Times New Roman"/>
              </a:rPr>
              <a:t>	</a:t>
            </a:r>
            <a:r>
              <a:rPr b="1" lang="it-IT" sz="2200" spc="-1" strike="noStrike">
                <a:solidFill>
                  <a:srgbClr val="ffffff"/>
                </a:solidFill>
                <a:latin typeface="Times New Roman"/>
              </a:rPr>
              <a:t>indennità per turno notturno/festiv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9.</a:t>
            </a:r>
            <a:r>
              <a:rPr b="1" lang="it-IT" sz="2200" spc="-1" strike="noStrike">
                <a:solidFill>
                  <a:srgbClr val="ffffff"/>
                </a:solidFill>
                <a:latin typeface="Times New Roman"/>
              </a:rPr>
              <a:t>	</a:t>
            </a:r>
            <a:r>
              <a:rPr b="1" lang="it-IT" sz="2200" spc="-1" strike="noStrike">
                <a:solidFill>
                  <a:srgbClr val="ffffff"/>
                </a:solidFill>
                <a:latin typeface="Times New Roman"/>
              </a:rPr>
              <a:t>indennità di bilinguism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0.</a:t>
            </a:r>
            <a:r>
              <a:rPr b="1" lang="it-IT" sz="2200" spc="-1" strike="noStrike">
                <a:solidFill>
                  <a:srgbClr val="ffffff"/>
                </a:solidFill>
                <a:latin typeface="Times New Roman"/>
              </a:rPr>
              <a:t>	</a:t>
            </a:r>
            <a:r>
              <a:rPr b="1" lang="it-IT" sz="2200" spc="-1" strike="noStrike">
                <a:solidFill>
                  <a:srgbClr val="ffffff"/>
                </a:solidFill>
                <a:latin typeface="Times New Roman"/>
              </a:rPr>
              <a:t>indennità di trilinguismo;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1.    indennità di direzione, al D.S.G.A.;</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64" name="Text Box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3E8B8-11B7-42F5-8DFF-D268C0B1371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Text Box 1"/>
          <p:cNvSpPr/>
          <p:nvPr/>
        </p:nvSpPr>
        <p:spPr>
          <a:xfrm>
            <a:off x="0" y="765000"/>
            <a:ext cx="9144000" cy="643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2.   compenso al sostituto del D.S.G.A., quota fissa e variabile indennità di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direzione;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3.   incarichi specifici del personale ATA (art. 47 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4.   compenso ai collaboratori del D.S.;</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5.   compenso funzioni strumentali al piano dell'offerta formativa (art.33</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6.   compenso per particolari impegni connessi alla valutazione alunn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7.   compenso per ogni altra attività deliberata nell’ambito del P.O.F.;</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8.   compenso per le attività complementari di educazione fisica e per il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docente  coordinatore provinciale educazione fisica (art. 87 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19.   compenso ore eccedenti per la sostituzione dei colleghi assenti (art. 30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CNL);</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20.   compenso ai componenti delle commissioni degli Esami di Sta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conclusivi dei corsi di studio della scuola secondaria di secondo grad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6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3A345-8AD4-41E6-B84A-1291067C28C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67" name="Text Box 3"/>
          <p:cNvSpPr/>
          <p:nvPr/>
        </p:nvSpPr>
        <p:spPr>
          <a:xfrm>
            <a:off x="685800" y="-7632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Text Box 1"/>
          <p:cNvSpPr/>
          <p:nvPr/>
        </p:nvSpPr>
        <p:spPr>
          <a:xfrm>
            <a:off x="108000" y="476280"/>
            <a:ext cx="8928000" cy="626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IL M.E.F. CON DECRETO 1° DICEMBRE 2010</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i soggetti a cui applicare la procedura di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pagamento (art.1 c. 3);</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per le scuole, i soggetti che autorizzano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i pagamenti tramite SPT (art.8 c. 3);</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stabilito i controlli sugli atti di pagamento effettuati trami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Cedolino Unico (art.9 c. 5);</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stabilito le modalità di utilizzo dei fondi giacenti presso l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scuole (art.16 c. 3);</a:t>
            </a:r>
            <a:endParaRPr b="0" lang="en-US" sz="2400" spc="-1" strike="noStrike">
              <a:solidFill>
                <a:srgbClr val="ffffff"/>
              </a:solidFill>
              <a:latin typeface="Arial Rounded MT Bold"/>
            </a:endParaRPr>
          </a:p>
          <a:p>
            <a:pPr algn="ct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IL M.E.F. CON CIRCOLARE N.39 DEL 22 DICEMBRE 2010</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previsto per la scuola, specifiche modalità  attuative per</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l’applicazione del Cedolino Unico. (punto 13 della circolar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ha individuato le scuole quali </a:t>
            </a:r>
            <a:r>
              <a:rPr b="1" lang="it-IT" sz="2400" spc="-1" strike="noStrike">
                <a:solidFill>
                  <a:srgbClr val="ffff00"/>
                </a:solidFill>
                <a:latin typeface="Times New Roman"/>
              </a:rPr>
              <a:t>Punti Ordinanti di Spesa </a:t>
            </a:r>
            <a:r>
              <a:rPr b="1" lang="it-IT" sz="2400" spc="-1" strike="noStrike">
                <a:solidFill>
                  <a:srgbClr val="ffffff"/>
                </a:solidFill>
                <a:latin typeface="Times New Roman"/>
              </a:rPr>
              <a:t>(P.O.S.).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punto 5.1 della circolare);</a:t>
            </a:r>
            <a:endParaRPr b="0" lang="en-US" sz="2400" spc="-1" strike="noStrike">
              <a:solidFill>
                <a:srgbClr val="ffffff"/>
              </a:solidFill>
              <a:latin typeface="Arial Rounded MT Bold"/>
            </a:endParaRPr>
          </a:p>
        </p:txBody>
      </p:sp>
      <p:sp>
        <p:nvSpPr>
          <p:cNvPr id="176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29D93-007A-4B70-A32D-EF30307532B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0" name="Text Box 3"/>
          <p:cNvSpPr/>
          <p:nvPr/>
        </p:nvSpPr>
        <p:spPr>
          <a:xfrm>
            <a:off x="685800" y="-112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Text Box 1"/>
          <p:cNvSpPr/>
          <p:nvPr/>
        </p:nvSpPr>
        <p:spPr>
          <a:xfrm>
            <a:off x="108000" y="549360"/>
            <a:ext cx="9036000" cy="6491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00ff00"/>
                </a:solidFill>
                <a:latin typeface="Times New Roman"/>
              </a:rPr>
              <a:t>LIQUIDAZIONE ED ORDINAZIONE DELLE COMPETENZE ACCESSORIE</a:t>
            </a:r>
            <a:endParaRPr b="0" lang="en-US" sz="20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Le scuole , sulla base del tipo di compenso, individuano l’importo da liquidare al lordo dipendente.</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SPT provvede ai calcoli di liquidazione del netto, degli oneri a carico del dipendente, dell’IRPEF, degli oneri a carico del datore di lavoro, dell’IRAP e in generale di ogni onere riflesso, sulla base del tipo di compenso e del tipo di contratto di lavoro del beneficiario comunicato dalla scuola.</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SPT applicherà inoltre la tassazione, corrente o separata, in funzione del periodo di riferimento.</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Times New Roman"/>
              </a:rPr>
              <a:t>La scuola deve inserire su apposito applicativo, reso disponibile dal SPT, gli elenchi di liquidazione recanti:</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1.</a:t>
            </a:r>
            <a:r>
              <a:rPr b="1" lang="it-IT" sz="2400" spc="-1" strike="noStrike">
                <a:solidFill>
                  <a:srgbClr val="ffffff"/>
                </a:solidFill>
                <a:latin typeface="Times New Roman"/>
              </a:rPr>
              <a:t>	</a:t>
            </a:r>
            <a:r>
              <a:rPr b="1" lang="it-IT" sz="2400" spc="-1" strike="noStrike">
                <a:solidFill>
                  <a:srgbClr val="ffffff"/>
                </a:solidFill>
                <a:latin typeface="Times New Roman"/>
              </a:rPr>
              <a:t>l’indicazione specifica del beneficiario </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2.</a:t>
            </a:r>
            <a:r>
              <a:rPr b="1" lang="it-IT" sz="2400" spc="-1" strike="noStrike">
                <a:solidFill>
                  <a:srgbClr val="ffffff"/>
                </a:solidFill>
                <a:latin typeface="Times New Roman"/>
              </a:rPr>
              <a:t>	</a:t>
            </a:r>
            <a:r>
              <a:rPr b="1" lang="it-IT" sz="2400" spc="-1" strike="noStrike">
                <a:solidFill>
                  <a:srgbClr val="ffffff"/>
                </a:solidFill>
                <a:latin typeface="Times New Roman"/>
              </a:rPr>
              <a:t>la tipologia contrattuale del compenso </a:t>
            </a:r>
            <a:endParaRPr b="0" lang="en-US" sz="2400" spc="-1" strike="noStrike">
              <a:solidFill>
                <a:srgbClr val="ffffff"/>
              </a:solidFill>
              <a:latin typeface="Arial Rounded MT Bold"/>
            </a:endParaRPr>
          </a:p>
          <a:p>
            <a:pPr>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Times New Roman"/>
              </a:rPr>
              <a:t>3.</a:t>
            </a:r>
            <a:r>
              <a:rPr b="1" lang="it-IT" sz="2400" spc="-1" strike="noStrike">
                <a:solidFill>
                  <a:srgbClr val="ffffff"/>
                </a:solidFill>
                <a:latin typeface="Times New Roman"/>
              </a:rPr>
              <a:t>	</a:t>
            </a:r>
            <a:r>
              <a:rPr b="1" lang="it-IT" sz="2400" spc="-1" strike="noStrike">
                <a:solidFill>
                  <a:srgbClr val="ffffff"/>
                </a:solidFill>
                <a:latin typeface="Times New Roman"/>
              </a:rPr>
              <a:t>l’importo lordo dipenden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77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6F76E8-C29C-4DD8-B61E-41C8024A438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3" name="Text Box 3"/>
          <p:cNvSpPr/>
          <p:nvPr/>
        </p:nvSpPr>
        <p:spPr>
          <a:xfrm>
            <a:off x="685800" y="-3960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Text Box 1"/>
          <p:cNvSpPr/>
          <p:nvPr/>
        </p:nvSpPr>
        <p:spPr>
          <a:xfrm>
            <a:off x="0" y="836640"/>
            <a:ext cx="9036000" cy="624528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Anche con l’attuazione del Cedolino Unico alla liquidazione del lordo dipendente </a:t>
            </a:r>
            <a:r>
              <a:rPr b="1" lang="it-IT" sz="3200" spc="-1" strike="noStrike">
                <a:solidFill>
                  <a:srgbClr val="ffff00"/>
                </a:solidFill>
                <a:latin typeface="Times New Roman"/>
              </a:rPr>
              <a:t>provvede il D.S.G.A.</a:t>
            </a:r>
            <a:r>
              <a:rPr b="0" lang="it-IT" sz="3200" spc="-1" strike="noStrike">
                <a:solidFill>
                  <a:srgbClr val="ffffff"/>
                </a:solidFill>
                <a:latin typeface="Times New Roman"/>
              </a:rPr>
              <a:t>, previo accertamento del diritto del creditore (art. 11, comma 4, D.I. 44/2001).</a:t>
            </a:r>
            <a:endParaRPr b="0" lang="en-US" sz="3200" spc="-1" strike="noStrike">
              <a:solidFill>
                <a:srgbClr val="ffffff"/>
              </a:solidFill>
              <a:latin typeface="Arial Rounded MT Bold"/>
            </a:endParaRPr>
          </a:p>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In precedenza </a:t>
            </a:r>
            <a:r>
              <a:rPr b="0" lang="it-IT" sz="3200" spc="-1" strike="noStrike">
                <a:solidFill>
                  <a:srgbClr val="ffff00"/>
                </a:solidFill>
                <a:latin typeface="Times New Roman"/>
              </a:rPr>
              <a:t>le scuole </a:t>
            </a:r>
            <a:r>
              <a:rPr b="0" lang="it-IT" sz="3200" spc="-1" strike="noStrike">
                <a:solidFill>
                  <a:srgbClr val="ffffff"/>
                </a:solidFill>
                <a:latin typeface="Times New Roman"/>
              </a:rPr>
              <a:t>provvedevano direttamente all’ordinazione delle competenze accessorie del personale. </a:t>
            </a:r>
            <a:endParaRPr b="0" lang="en-US" sz="3200" spc="-1" strike="noStrike">
              <a:solidFill>
                <a:srgbClr val="ffffff"/>
              </a:solidFill>
              <a:latin typeface="Arial Rounded MT Bold"/>
            </a:endParaRPr>
          </a:p>
          <a:p>
            <a:pPr marL="341280" indent="-341280" algn="just">
              <a:lnSpc>
                <a:spcPct val="100000"/>
              </a:lnSpc>
              <a:spcBef>
                <a:spcPts val="799"/>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3200" spc="-1" strike="noStrike">
                <a:solidFill>
                  <a:srgbClr val="ffffff"/>
                </a:solidFill>
                <a:latin typeface="Times New Roman"/>
              </a:rPr>
              <a:t>Oggi si devono avvalere dell’intermediario </a:t>
            </a:r>
            <a:r>
              <a:rPr b="0" lang="it-IT" sz="3200" spc="-1" strike="noStrike">
                <a:solidFill>
                  <a:srgbClr val="ffff00"/>
                </a:solidFill>
                <a:latin typeface="Times New Roman"/>
              </a:rPr>
              <a:t>SPT </a:t>
            </a:r>
            <a:r>
              <a:rPr b="0" lang="it-IT" sz="3200" spc="-1" strike="noStrike">
                <a:solidFill>
                  <a:srgbClr val="ffffff"/>
                </a:solidFill>
                <a:latin typeface="Times New Roman"/>
              </a:rPr>
              <a:t>attraverso l’ordinazione dell’accessorio confermata  congiuntamente dal </a:t>
            </a:r>
            <a:r>
              <a:rPr b="1" lang="it-IT" sz="3200" spc="-1" strike="noStrike">
                <a:solidFill>
                  <a:srgbClr val="ffff00"/>
                </a:solidFill>
                <a:latin typeface="Times New Roman"/>
              </a:rPr>
              <a:t>Dirigente Scolastico e dal Direttore S.G.A.</a:t>
            </a:r>
            <a:endParaRPr b="0" lang="en-US" sz="3200" spc="-1" strike="noStrike">
              <a:solidFill>
                <a:srgbClr val="ffffff"/>
              </a:solidFill>
              <a:latin typeface="Arial Rounded MT Bold"/>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Arial Rounded MT Bold"/>
            </a:endParaRPr>
          </a:p>
        </p:txBody>
      </p:sp>
      <p:sp>
        <p:nvSpPr>
          <p:cNvPr id="177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42BCA-B567-427A-8BDE-17A7971F991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6"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1EEC0E-231D-4ECF-9516-111D0FAF132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57"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58" name="Text Box 3"/>
          <p:cNvSpPr/>
          <p:nvPr/>
        </p:nvSpPr>
        <p:spPr>
          <a:xfrm>
            <a:off x="179280" y="1022400"/>
            <a:ext cx="8785440" cy="5349960"/>
          </a:xfrm>
          <a:prstGeom prst="rect">
            <a:avLst/>
          </a:prstGeom>
          <a:noFill/>
          <a:ln w="0">
            <a:noFill/>
          </a:ln>
        </p:spPr>
        <p:style>
          <a:lnRef idx="0"/>
          <a:fillRef idx="0"/>
          <a:effectRef idx="0"/>
          <a:fontRef idx="minor"/>
        </p:style>
        <p:txBody>
          <a:bodyPr lIns="90000" rIns="90000" tIns="46800" bIns="46800" anchor="ctr">
            <a:noAutofit/>
          </a:bodyPr>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66ffff"/>
                </a:solidFill>
                <a:latin typeface="Calibri"/>
              </a:rPr>
              <a:t>PER SERVIZI O FORNITURE </a:t>
            </a:r>
            <a:r>
              <a:rPr b="1" lang="it-IT" sz="2800" spc="-1" strike="noStrike">
                <a:solidFill>
                  <a:srgbClr val="ffffff"/>
                </a:solidFill>
                <a:latin typeface="Calibri"/>
              </a:rPr>
              <a:t>di importo inferiore a </a:t>
            </a:r>
            <a:r>
              <a:rPr b="1" lang="it-IT" sz="2800" spc="-1" strike="noStrike">
                <a:solidFill>
                  <a:srgbClr val="ffff00"/>
                </a:solidFill>
                <a:latin typeface="Calibri"/>
              </a:rPr>
              <a:t>€.40.000</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 </a:t>
            </a:r>
            <a:r>
              <a:rPr b="1" lang="it-IT" sz="2800" spc="-1" strike="noStrike">
                <a:solidFill>
                  <a:srgbClr val="ffff00"/>
                </a:solidFill>
                <a:latin typeface="Calibri"/>
              </a:rPr>
              <a:t>art.125 c. 11 </a:t>
            </a:r>
            <a:r>
              <a:rPr b="1" lang="it-IT" sz="2800" spc="-1" strike="noStrike">
                <a:solidFill>
                  <a:srgbClr val="ffffff"/>
                </a:solidFill>
                <a:latin typeface="Calibri"/>
              </a:rPr>
              <a:t>è consentito “l’affidamento diretto” da parte del </a:t>
            </a:r>
            <a:r>
              <a:rPr b="1" lang="it-IT" sz="2800" spc="-1" strike="noStrike">
                <a:solidFill>
                  <a:srgbClr val="ffff00"/>
                </a:solidFill>
                <a:latin typeface="Calibri"/>
              </a:rPr>
              <a:t>“responsabile del procedimento” (c 8).</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Il Codice prevede, inoltre, che </a:t>
            </a:r>
            <a:r>
              <a:rPr b="1" lang="it-IT" sz="2800" spc="-1" strike="noStrike">
                <a:solidFill>
                  <a:srgbClr val="ffff00"/>
                </a:solidFill>
                <a:latin typeface="Calibri"/>
              </a:rPr>
              <a:t>l’affidatario</a:t>
            </a:r>
            <a:r>
              <a:rPr b="1" lang="it-IT" sz="2800" spc="-1" strike="noStrike">
                <a:solidFill>
                  <a:srgbClr val="ffffff"/>
                </a:solidFill>
                <a:latin typeface="Calibri"/>
              </a:rPr>
              <a:t> di </a:t>
            </a:r>
            <a:r>
              <a:rPr b="1" lang="it-IT" sz="2800" spc="-1" strike="noStrike">
                <a:solidFill>
                  <a:srgbClr val="66ffff"/>
                </a:solidFill>
                <a:latin typeface="Calibri"/>
              </a:rPr>
              <a:t>LAVORI, SERVIZI e FORNITURE </a:t>
            </a:r>
            <a:r>
              <a:rPr b="1" lang="it-IT" sz="2800" spc="-1" strike="noStrike">
                <a:solidFill>
                  <a:srgbClr val="ffffff"/>
                </a:solidFill>
                <a:latin typeface="Calibri"/>
              </a:rPr>
              <a:t>in </a:t>
            </a:r>
            <a:r>
              <a:rPr b="1" lang="it-IT" sz="2800" spc="-1" strike="noStrike">
                <a:solidFill>
                  <a:srgbClr val="ffff00"/>
                </a:solidFill>
                <a:latin typeface="Calibri"/>
              </a:rPr>
              <a:t>economia</a:t>
            </a:r>
            <a:r>
              <a:rPr b="1" lang="it-IT" sz="2800" spc="-1" strike="noStrike">
                <a:solidFill>
                  <a:srgbClr val="ffffff"/>
                </a:solidFill>
                <a:latin typeface="Calibri"/>
              </a:rPr>
              <a:t> debba</a:t>
            </a:r>
            <a:r>
              <a:rPr b="1" lang="it-IT" sz="2800" spc="-1" strike="noStrike">
                <a:solidFill>
                  <a:srgbClr val="ffcc66"/>
                </a:solidFill>
                <a:latin typeface="Calibri"/>
              </a:rPr>
              <a:t> </a:t>
            </a:r>
            <a:r>
              <a:rPr b="1" lang="it-IT" sz="2800" spc="-1" strike="noStrike">
                <a:solidFill>
                  <a:srgbClr val="ffffff"/>
                </a:solidFill>
                <a:latin typeface="Calibri"/>
              </a:rPr>
              <a:t>possedere</a:t>
            </a:r>
            <a:r>
              <a:rPr b="1" lang="it-IT" sz="2800" spc="-1" strike="noStrike">
                <a:solidFill>
                  <a:srgbClr val="ffcc66"/>
                </a:solidFill>
                <a:latin typeface="Calibri"/>
              </a:rPr>
              <a:t>  </a:t>
            </a:r>
            <a:r>
              <a:rPr b="1" lang="it-IT" sz="2800" spc="-1" strike="noStrike">
                <a:solidFill>
                  <a:srgbClr val="ffff00"/>
                </a:solidFill>
                <a:latin typeface="Calibri"/>
              </a:rPr>
              <a:t>seguenti requisiti:</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idoneità morale</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apacità tecnico-professionale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apacità economico-finanziaria</a:t>
            </a:r>
            <a:endParaRPr b="0" lang="en-US" sz="2800" spc="-1" strike="noStrike">
              <a:solidFill>
                <a:srgbClr val="ffffff"/>
              </a:solidFill>
              <a:latin typeface="Arial Rounded MT Bold"/>
            </a:endParaRPr>
          </a:p>
          <a:p>
            <a:pPr marL="343080" indent="-341640" algn="just">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rescritti per prestazioni di pari importo affidate con le procedure ordinarie di scelta del contraente</a:t>
            </a:r>
            <a:r>
              <a:rPr b="1" lang="it-IT" sz="2800" spc="-1" strike="noStrike">
                <a:solidFill>
                  <a:srgbClr val="ffcc66"/>
                </a:solidFill>
                <a:latin typeface="Calibri"/>
              </a:rPr>
              <a:t>.</a:t>
            </a:r>
            <a:endParaRPr b="0" lang="en-US" sz="2800" spc="-1" strike="noStrike">
              <a:solidFill>
                <a:srgbClr val="ffffff"/>
              </a:solidFill>
              <a:latin typeface="Arial Rounded MT Bold"/>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Text Box 1"/>
          <p:cNvSpPr/>
          <p:nvPr/>
        </p:nvSpPr>
        <p:spPr>
          <a:xfrm>
            <a:off x="179280" y="692280"/>
            <a:ext cx="8785440" cy="590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00"/>
                </a:solidFill>
                <a:latin typeface="Times New Roman"/>
              </a:rPr>
              <a:t>PAGAMENTO DELLE COMPETENZE ACCESSORIE</a:t>
            </a:r>
            <a:endParaRPr b="0" lang="en-US" sz="26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SPT</a:t>
            </a:r>
            <a:r>
              <a:rPr b="1" lang="it-IT" sz="2200" spc="-1" strike="noStrike">
                <a:solidFill>
                  <a:srgbClr val="ffffff"/>
                </a:solidFill>
                <a:latin typeface="Times New Roman"/>
              </a:rPr>
              <a:t> provvede a pagare le competenze fisse e quelle accessorie. Le modalità di estinzione sono le medesime già usate per il cedolino di ciascun dipendente. Il pagamento avviene a valere sulle disponibilità di bilancio iscritte nello stato di previsione del M.I.U.R.</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La scuola </a:t>
            </a:r>
            <a:r>
              <a:rPr b="1" lang="it-IT" sz="2200" spc="-1" strike="noStrike">
                <a:solidFill>
                  <a:srgbClr val="ffffff"/>
                </a:solidFill>
                <a:latin typeface="Times New Roman"/>
              </a:rPr>
              <a:t>può scegliere la cadenza temporale dei pagamenti per le attività svolte, eventualmente anche mensilmen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La somma limite </a:t>
            </a:r>
            <a:r>
              <a:rPr b="1" lang="it-IT" sz="2200" spc="-1" strike="noStrike">
                <a:solidFill>
                  <a:srgbClr val="ffffff"/>
                </a:solidFill>
                <a:latin typeface="Times New Roman"/>
              </a:rPr>
              <a:t>per i pagamenti dell’accessorio effettuati tramite Cedolino Unico, è pari, per ciascuna scuola e per ogni anno finanziario, alla relativa </a:t>
            </a:r>
            <a:r>
              <a:rPr b="1" lang="it-IT" sz="2200" spc="-1" strike="noStrike">
                <a:solidFill>
                  <a:srgbClr val="ffff00"/>
                </a:solidFill>
                <a:latin typeface="Times New Roman"/>
              </a:rPr>
              <a:t>disponibilità</a:t>
            </a:r>
            <a:r>
              <a:rPr b="1" lang="it-IT" sz="2200" spc="-1" strike="noStrike">
                <a:solidFill>
                  <a:srgbClr val="ffff00"/>
                </a:solidFill>
                <a:latin typeface="Times New Roman"/>
              </a:rPr>
              <a:t> </a:t>
            </a:r>
            <a:r>
              <a:rPr b="1" lang="it-IT" sz="2200" spc="-1" strike="noStrike">
                <a:solidFill>
                  <a:srgbClr val="ffffff"/>
                </a:solidFill>
                <a:latin typeface="Times New Roman"/>
              </a:rPr>
              <a:t>per il medesimo anno, </a:t>
            </a:r>
            <a:r>
              <a:rPr b="1" lang="it-IT" sz="2200" spc="-1" strike="noStrike">
                <a:solidFill>
                  <a:srgbClr val="ffff00"/>
                </a:solidFill>
                <a:latin typeface="Times New Roman"/>
              </a:rPr>
              <a:t>maggiorata</a:t>
            </a:r>
            <a:r>
              <a:rPr b="1" lang="it-IT" sz="2200" spc="-1" strike="noStrike">
                <a:solidFill>
                  <a:srgbClr val="ffffff"/>
                </a:solidFill>
                <a:latin typeface="Times New Roman"/>
              </a:rPr>
              <a:t> delle eventuali somme non utilizzate relative alla gestione effettuata tramite lo stesso Cedolino Unico in tutti gli anni pregress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Il cedolino dà </a:t>
            </a:r>
            <a:r>
              <a:rPr b="1" lang="it-IT" sz="2200" spc="-1" strike="noStrike">
                <a:solidFill>
                  <a:srgbClr val="ffff00"/>
                </a:solidFill>
                <a:latin typeface="Times New Roman"/>
              </a:rPr>
              <a:t>evidenza</a:t>
            </a:r>
            <a:r>
              <a:rPr b="1" lang="it-IT" sz="2200" spc="-1" strike="noStrike">
                <a:solidFill>
                  <a:srgbClr val="ffffff"/>
                </a:solidFill>
                <a:latin typeface="Times New Roman"/>
              </a:rPr>
              <a:t> al pagato, suddiviso per fattispecie contrattuale, così come risultante dagli </a:t>
            </a:r>
            <a:r>
              <a:rPr b="1" lang="it-IT" sz="2200" spc="-1" strike="noStrike">
                <a:solidFill>
                  <a:srgbClr val="ffff00"/>
                </a:solidFill>
                <a:latin typeface="Times New Roman"/>
              </a:rPr>
              <a:t>elenchi</a:t>
            </a:r>
            <a:r>
              <a:rPr b="1" lang="it-IT" sz="2200" spc="-1" strike="noStrike">
                <a:solidFill>
                  <a:srgbClr val="ffffff"/>
                </a:solidFill>
                <a:latin typeface="Times New Roman"/>
              </a:rPr>
              <a:t> </a:t>
            </a:r>
            <a:r>
              <a:rPr b="1" lang="it-IT" sz="2200" spc="-1" strike="noStrike">
                <a:solidFill>
                  <a:srgbClr val="ffff00"/>
                </a:solidFill>
                <a:latin typeface="Times New Roman"/>
              </a:rPr>
              <a:t>di liquidazione caricati a sistema dalla Scuola in tempo utile e validati dal Dirigente e dal Direttore. </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7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DDDE7-E0AA-4313-9ACE-566F453D0A6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79" name="Text Box 3"/>
          <p:cNvSpPr/>
          <p:nvPr/>
        </p:nvSpPr>
        <p:spPr>
          <a:xfrm>
            <a:off x="685800" y="-65160"/>
            <a:ext cx="7772400" cy="824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800" spc="-1" strike="noStrike">
                <a:solidFill>
                  <a:srgbClr val="ffcc66"/>
                </a:solidFill>
                <a:latin typeface="Arial"/>
              </a:rPr>
              <a:t>CEDOLINO UNICO</a:t>
            </a:r>
            <a:endParaRPr b="0" lang="en-US" sz="4800" spc="-1" strike="noStrike">
              <a:solidFill>
                <a:srgbClr val="ffffff"/>
              </a:solidFill>
              <a:latin typeface="Arial Rounded MT Bold"/>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Text Box 1"/>
          <p:cNvSpPr/>
          <p:nvPr/>
        </p:nvSpPr>
        <p:spPr>
          <a:xfrm>
            <a:off x="0" y="476280"/>
            <a:ext cx="9144000" cy="680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I controlli </a:t>
            </a:r>
            <a:r>
              <a:rPr b="1" lang="it-IT" sz="2200" spc="-1" strike="noStrike">
                <a:solidFill>
                  <a:srgbClr val="ffffff"/>
                </a:solidFill>
                <a:latin typeface="Times New Roman"/>
              </a:rPr>
              <a:t>rientrano nella competenza dei </a:t>
            </a:r>
            <a:r>
              <a:rPr b="1" lang="it-IT" sz="2200" spc="-1" strike="noStrike">
                <a:solidFill>
                  <a:srgbClr val="ffff00"/>
                </a:solidFill>
                <a:latin typeface="Times New Roman"/>
              </a:rPr>
              <a:t>revisori dei conti</a:t>
            </a:r>
            <a:r>
              <a:rPr b="1" lang="it-IT" sz="2200" spc="-1" strike="noStrike">
                <a:solidFill>
                  <a:srgbClr val="ffffff"/>
                </a:solidFill>
                <a:latin typeface="Times New Roman"/>
              </a:rPr>
              <a:t>, sia sulla contrattazione integrativa di Istituto (art. 6 CCNL/2007) che sulle dichiarazioni dei Punti Ordinanti della Spesa </a:t>
            </a:r>
            <a:r>
              <a:rPr b="1" lang="it-IT" sz="2200" spc="-1" strike="noStrike">
                <a:solidFill>
                  <a:srgbClr val="ffff00"/>
                </a:solidFill>
                <a:latin typeface="Times New Roman"/>
              </a:rPr>
              <a:t>P.O.S.  </a:t>
            </a:r>
            <a:r>
              <a:rPr b="1" lang="it-IT" sz="2200" spc="-1" strike="noStrike">
                <a:solidFill>
                  <a:srgbClr val="ffffff"/>
                </a:solidFill>
                <a:latin typeface="Times New Roman"/>
              </a:rPr>
              <a:t>in merito alle nuove procedure per il pagamento della competenze accessorie spettanti al personale della scuola.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00"/>
                </a:solidFill>
                <a:latin typeface="Times New Roman"/>
              </a:rPr>
              <a:t>SPT</a:t>
            </a:r>
            <a:r>
              <a:rPr b="1" lang="it-IT" sz="2200" spc="-1" strike="noStrike">
                <a:solidFill>
                  <a:srgbClr val="ffffff"/>
                </a:solidFill>
                <a:latin typeface="Times New Roman"/>
              </a:rPr>
              <a:t> provvede ai relativi pagamenti in qualità di </a:t>
            </a:r>
            <a:r>
              <a:rPr b="1" lang="it-IT" sz="2200" spc="-1" strike="noStrike">
                <a:solidFill>
                  <a:srgbClr val="ffff00"/>
                </a:solidFill>
                <a:latin typeface="Times New Roman"/>
              </a:rPr>
              <a:t>mero intermediario </a:t>
            </a:r>
            <a:r>
              <a:rPr b="1" lang="it-IT" sz="2200" spc="-1" strike="noStrike">
                <a:solidFill>
                  <a:srgbClr val="ffffff"/>
                </a:solidFill>
                <a:latin typeface="Times New Roman"/>
              </a:rPr>
              <a:t>(art. 58, comma 3, del D.I. n.44/2001).</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00"/>
                </a:solidFill>
                <a:latin typeface="Times New Roman"/>
              </a:rPr>
              <a:t>SPT</a:t>
            </a:r>
            <a:r>
              <a:rPr b="1" lang="it-IT" sz="2200" spc="-1" strike="noStrike">
                <a:solidFill>
                  <a:srgbClr val="ffffff"/>
                </a:solidFill>
                <a:latin typeface="Times New Roman"/>
              </a:rPr>
              <a:t> non accetta elenchi di liquidazione che determinino il pagamento di una somma, per l’anno finanziario, </a:t>
            </a:r>
            <a:r>
              <a:rPr b="1" lang="it-IT" sz="2200" spc="-1" strike="noStrike">
                <a:solidFill>
                  <a:srgbClr val="ffff00"/>
                </a:solidFill>
                <a:latin typeface="Times New Roman"/>
              </a:rPr>
              <a:t>superiore</a:t>
            </a:r>
            <a:r>
              <a:rPr b="1" lang="it-IT" sz="2200" spc="-1" strike="noStrike">
                <a:solidFill>
                  <a:srgbClr val="ffffff"/>
                </a:solidFill>
                <a:latin typeface="Times New Roman"/>
              </a:rPr>
              <a:t> alla somma limite per i pagamenti assegnata alla scuola per ciascuna </a:t>
            </a:r>
            <a:r>
              <a:rPr b="1" lang="it-IT" sz="2200" spc="-1" strike="noStrike">
                <a:solidFill>
                  <a:srgbClr val="ffff00"/>
                </a:solidFill>
                <a:latin typeface="Times New Roman"/>
              </a:rPr>
              <a:t>delle tre parti in cui si divide la somma disponibile che son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1. </a:t>
            </a:r>
            <a:r>
              <a:rPr b="1" lang="it-IT" sz="2200" spc="-1" strike="noStrike">
                <a:solidFill>
                  <a:srgbClr val="ffffff"/>
                </a:solidFill>
                <a:latin typeface="Times New Roman"/>
              </a:rPr>
              <a:t>quella relativa alla erogazione del fondo di Istituto ed alle altre voci accessorie previste dal contratto diverse dalle successiv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2. </a:t>
            </a:r>
            <a:r>
              <a:rPr b="1" lang="it-IT" sz="2200" spc="-1" strike="noStrike">
                <a:solidFill>
                  <a:srgbClr val="ffffff"/>
                </a:solidFill>
                <a:latin typeface="Times New Roman"/>
              </a:rPr>
              <a:t>quella relativa alle ore eccedenti per l’avviamento alla pratica sportiva e per la sostituzione dei colleghi assenti;</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3. </a:t>
            </a:r>
            <a:r>
              <a:rPr b="1" lang="it-IT" sz="2200" spc="-1" strike="noStrike">
                <a:solidFill>
                  <a:srgbClr val="ffffff"/>
                </a:solidFill>
                <a:latin typeface="Times New Roman"/>
              </a:rPr>
              <a:t>quella per gli esami di Stato conclusivi dei corsi di studio della scuola secondaria di secondo grado.</a:t>
            </a:r>
            <a:endParaRPr b="0" lang="en-US" sz="22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800" spc="-1" strike="noStrike">
                <a:solidFill>
                  <a:srgbClr val="ffffff"/>
                </a:solidFill>
                <a:latin typeface="Times New Roman"/>
              </a:rPr>
              <a:t>	</a:t>
            </a:r>
            <a:endParaRPr b="0" lang="en-US" sz="1800" spc="-1" strike="noStrike">
              <a:solidFill>
                <a:srgbClr val="ffffff"/>
              </a:solidFill>
              <a:latin typeface="Arial Rounded MT Bold"/>
            </a:endParaRPr>
          </a:p>
        </p:txBody>
      </p:sp>
      <p:sp>
        <p:nvSpPr>
          <p:cNvPr id="178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0956EC-5115-4EFD-9788-30F897ECD80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2" name="Text Box 3"/>
          <p:cNvSpPr/>
          <p:nvPr/>
        </p:nvSpPr>
        <p:spPr>
          <a:xfrm>
            <a:off x="685800" y="-57240"/>
            <a:ext cx="7772400" cy="519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ffcc66"/>
                </a:solidFill>
                <a:latin typeface="Arial"/>
              </a:rPr>
              <a:t>CEDOLINO UNICO</a:t>
            </a:r>
            <a:endParaRPr b="0" lang="en-US" sz="2800" spc="-1" strike="noStrike">
              <a:solidFill>
                <a:srgbClr val="ffffff"/>
              </a:solidFill>
              <a:latin typeface="Arial Rounded MT Bold"/>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Text Box 1"/>
          <p:cNvSpPr/>
          <p:nvPr/>
        </p:nvSpPr>
        <p:spPr>
          <a:xfrm>
            <a:off x="179280" y="404640"/>
            <a:ext cx="8856720" cy="634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00ff00"/>
                </a:solidFill>
                <a:latin typeface="Times New Roman"/>
              </a:rPr>
              <a:t>Il personale destinatario dell’accessorio, è individuato direttament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1. </a:t>
            </a:r>
            <a:r>
              <a:rPr b="1" lang="it-IT" sz="3200" spc="-1" strike="noStrike">
                <a:solidFill>
                  <a:srgbClr val="ffffff"/>
                </a:solidFill>
                <a:latin typeface="Times New Roman"/>
              </a:rPr>
              <a:t>dal </a:t>
            </a:r>
            <a:r>
              <a:rPr b="1" lang="it-IT" sz="3200" spc="-1" strike="noStrike">
                <a:solidFill>
                  <a:srgbClr val="ffff00"/>
                </a:solidFill>
                <a:latin typeface="Times New Roman"/>
              </a:rPr>
              <a:t>contratto collettivo nazionale </a:t>
            </a:r>
            <a:r>
              <a:rPr b="1" lang="it-IT" sz="3200" spc="-1" strike="noStrike">
                <a:solidFill>
                  <a:srgbClr val="ffffff"/>
                </a:solidFill>
                <a:latin typeface="Times New Roman"/>
              </a:rPr>
              <a:t>di lavoro (es. il direttore s.g.a. per l’indennità di direzione):</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2. </a:t>
            </a:r>
            <a:r>
              <a:rPr b="1" lang="it-IT" sz="3200" spc="-1" strike="noStrike">
                <a:solidFill>
                  <a:srgbClr val="ffffff"/>
                </a:solidFill>
                <a:latin typeface="Times New Roman"/>
              </a:rPr>
              <a:t>dalle </a:t>
            </a:r>
            <a:r>
              <a:rPr b="1" lang="it-IT" sz="3200" spc="-1" strike="noStrike">
                <a:solidFill>
                  <a:srgbClr val="ffff00"/>
                </a:solidFill>
                <a:latin typeface="Times New Roman"/>
              </a:rPr>
              <a:t>note di incarico </a:t>
            </a:r>
            <a:r>
              <a:rPr b="1" lang="it-IT" sz="3200" spc="-1" strike="noStrike">
                <a:solidFill>
                  <a:srgbClr val="ffffff"/>
                </a:solidFill>
                <a:latin typeface="Times New Roman"/>
              </a:rPr>
              <a:t>predisposte dal D.S. (o D.S.G.A. per il personale A.T.A.),  in coerenza con il contratto integrativo di Istituto perfezionato;</a:t>
            </a:r>
            <a:endParaRPr b="0" lang="en-US" sz="3200" spc="-1" strike="noStrike">
              <a:solidFill>
                <a:srgbClr val="ffffff"/>
              </a:solidFill>
              <a:latin typeface="Arial Rounded MT Bold"/>
            </a:endParaRPr>
          </a:p>
          <a:p>
            <a:pPr algn="just">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3. </a:t>
            </a:r>
            <a:r>
              <a:rPr b="1" lang="it-IT" sz="3200" spc="-1" strike="noStrike">
                <a:solidFill>
                  <a:srgbClr val="ffffff"/>
                </a:solidFill>
                <a:latin typeface="Times New Roman"/>
              </a:rPr>
              <a:t>da </a:t>
            </a:r>
            <a:r>
              <a:rPr b="1" lang="it-IT" sz="3200" spc="-1" strike="noStrike">
                <a:solidFill>
                  <a:srgbClr val="ffff00"/>
                </a:solidFill>
                <a:latin typeface="Times New Roman"/>
              </a:rPr>
              <a:t>decreti dell’Amministrazione </a:t>
            </a:r>
            <a:r>
              <a:rPr b="1" lang="it-IT" sz="3200" spc="-1" strike="noStrike">
                <a:solidFill>
                  <a:srgbClr val="ffffff"/>
                </a:solidFill>
                <a:latin typeface="Times New Roman"/>
              </a:rPr>
              <a:t>(es. i Commissari degli esami di Stato conclusivi dei corsi di studio della scuola secondaria di II°).</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78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096A8-032E-4EA8-9FD9-07C4E3EC469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5" name="Text Box 3"/>
          <p:cNvSpPr/>
          <p:nvPr/>
        </p:nvSpPr>
        <p:spPr>
          <a:xfrm>
            <a:off x="685800" y="-31680"/>
            <a:ext cx="7772400" cy="396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000" spc="-1" strike="noStrike">
                <a:solidFill>
                  <a:srgbClr val="ffcc66"/>
                </a:solidFill>
                <a:latin typeface="Arial"/>
              </a:rPr>
              <a:t>CEDOLINO UNICO</a:t>
            </a:r>
            <a:endParaRPr b="0" lang="en-US" sz="2000" spc="-1" strike="noStrike">
              <a:solidFill>
                <a:srgbClr val="ffffff"/>
              </a:solidFill>
              <a:latin typeface="Arial Rounded MT Bold"/>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Text Box 1"/>
          <p:cNvSpPr/>
          <p:nvPr/>
        </p:nvSpPr>
        <p:spPr>
          <a:xfrm>
            <a:off x="179280" y="836640"/>
            <a:ext cx="8856720" cy="55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 La responsabilità </a:t>
            </a:r>
            <a:r>
              <a:rPr b="1" lang="it-IT" sz="2200" spc="-1" strike="noStrike">
                <a:solidFill>
                  <a:srgbClr val="ffffff"/>
                </a:solidFill>
                <a:latin typeface="Times New Roman"/>
              </a:rPr>
              <a:t>della correttezza dei dati inseriti in merito al procedimento amministrativo dell’ordinazione delle competenze accessorie grava sul singolo </a:t>
            </a:r>
            <a:r>
              <a:rPr b="1" lang="it-IT" sz="2200" spc="-1" strike="noStrike">
                <a:solidFill>
                  <a:srgbClr val="ffff00"/>
                </a:solidFill>
                <a:latin typeface="Times New Roman"/>
              </a:rPr>
              <a:t>P.O.S. </a:t>
            </a:r>
            <a:r>
              <a:rPr b="1" lang="it-IT" sz="2200" spc="-1" strike="noStrike">
                <a:solidFill>
                  <a:srgbClr val="ffffff"/>
                </a:solidFill>
                <a:latin typeface="Times New Roman"/>
              </a:rPr>
              <a:t>la cui dichiarazione delle competenze accessorie spettanti al personale (c.d. liquidazione) deve essere validata e confermata  dalla la sottoscrizione congiunta, come previsto dal D.M. 1 dicembre 2010, da parte del Dirigente scolastico e dal Direttore S.G.A..</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 Il pagamento </a:t>
            </a:r>
            <a:r>
              <a:rPr b="1" lang="it-IT" sz="2200" spc="-1" strike="noStrike">
                <a:solidFill>
                  <a:srgbClr val="ffffff"/>
                </a:solidFill>
                <a:latin typeface="Times New Roman"/>
              </a:rPr>
              <a:t>delle competenze accessorie gestite tramite Cedolino Unico si effettua mediante </a:t>
            </a:r>
            <a:r>
              <a:rPr b="1" lang="it-IT" sz="2200" spc="-1" strike="noStrike">
                <a:solidFill>
                  <a:srgbClr val="ffff00"/>
                </a:solidFill>
                <a:latin typeface="Times New Roman"/>
              </a:rPr>
              <a:t>ordini collettivi </a:t>
            </a:r>
            <a:r>
              <a:rPr b="1" lang="it-IT" sz="2200" spc="-1" strike="noStrike">
                <a:solidFill>
                  <a:srgbClr val="ffffff"/>
                </a:solidFill>
                <a:latin typeface="Times New Roman"/>
              </a:rPr>
              <a:t>a valere sugli appositi capitoli di bilancio iscritti nello stato di previsione del M. I.U.R. per cui le scuole, pur essendo destinatarie di un’assegnazione, </a:t>
            </a:r>
            <a:r>
              <a:rPr b="1" lang="it-IT" sz="2200" spc="-1" strike="noStrike">
                <a:solidFill>
                  <a:srgbClr val="ffff00"/>
                </a:solidFill>
                <a:latin typeface="Times New Roman"/>
              </a:rPr>
              <a:t>non possono </a:t>
            </a:r>
            <a:r>
              <a:rPr b="1" lang="it-IT" sz="2200" spc="-1" strike="noStrike">
                <a:solidFill>
                  <a:srgbClr val="ffffff"/>
                </a:solidFill>
                <a:latin typeface="Times New Roman"/>
              </a:rPr>
              <a:t>più incassare le somme relative;</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Times New Roman"/>
              </a:rPr>
              <a:t> </a:t>
            </a:r>
            <a:r>
              <a:rPr b="1" lang="it-IT" sz="2200" spc="-1" strike="noStrike">
                <a:solidFill>
                  <a:srgbClr val="ffff00"/>
                </a:solidFill>
                <a:latin typeface="Times New Roman"/>
              </a:rPr>
              <a:t>-Sono state verificate  dal 1°gennaio 2011 </a:t>
            </a:r>
            <a:r>
              <a:rPr b="1" lang="it-IT" sz="2200" spc="-1" strike="noStrike">
                <a:solidFill>
                  <a:srgbClr val="ffffff"/>
                </a:solidFill>
                <a:latin typeface="Times New Roman"/>
              </a:rPr>
              <a:t>riduzioni significative dei tempi lavorativi e dell’impegno professionale delle segreterie scolastiche, relativamente alla mancata necessità di predisporre tabelle di liquidazione, mandati di pagamento, compilazione di deleghe, etc. .</a:t>
            </a:r>
            <a:endParaRPr b="0" lang="en-US" sz="22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78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9F6DD-8C26-413C-8DB3-6B5B0DA4A82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88" name="Text Box 3"/>
          <p:cNvSpPr/>
          <p:nvPr/>
        </p:nvSpPr>
        <p:spPr>
          <a:xfrm>
            <a:off x="685800" y="-4680"/>
            <a:ext cx="7772400" cy="701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000" spc="-1" strike="noStrike">
                <a:solidFill>
                  <a:srgbClr val="ffcc66"/>
                </a:solidFill>
                <a:latin typeface="Arial"/>
              </a:rPr>
              <a:t>CEDOLINO UNICO</a:t>
            </a:r>
            <a:endParaRPr b="0" lang="en-US" sz="4000" spc="-1" strike="noStrike">
              <a:solidFill>
                <a:srgbClr val="ffffff"/>
              </a:solidFill>
              <a:latin typeface="Arial Rounded MT Bold"/>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6BCA5-3961-4C1D-B6DD-EBC634F5AE2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90" name="Text Box 2"/>
          <p:cNvSpPr/>
          <p:nvPr/>
        </p:nvSpPr>
        <p:spPr>
          <a:xfrm>
            <a:off x="0" y="142920"/>
            <a:ext cx="9144000" cy="10879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Profondi grande impegno per acquisire  nuove conoscenze</a:t>
            </a:r>
            <a:endParaRPr b="0" lang="en-US" sz="3400" spc="-1" strike="noStrike">
              <a:solidFill>
                <a:srgbClr val="ffffff"/>
              </a:solidFill>
              <a:latin typeface="Arial Rounded MT Bold"/>
            </a:endParaRPr>
          </a:p>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e, nel contempo, non dimenticare quelle vecchie!</a:t>
            </a:r>
            <a:endParaRPr b="0" lang="en-US" sz="3400" spc="-1" strike="noStrike">
              <a:solidFill>
                <a:srgbClr val="ffffff"/>
              </a:solidFill>
              <a:latin typeface="Arial Rounded MT Bold"/>
            </a:endParaRPr>
          </a:p>
          <a:p>
            <a:pPr marL="343080" indent="-341640" algn="ctr">
              <a:lnSpc>
                <a:spcPct val="15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Solo così potrai insegnare ad  altri e, realmente, contrastare l’ignoranza che è la notte della mente, una notte di </a:t>
            </a:r>
            <a:endParaRPr b="0" lang="en-US" sz="3400" spc="-1" strike="noStrike">
              <a:solidFill>
                <a:srgbClr val="ffffff"/>
              </a:solidFill>
              <a:latin typeface="Arial Rounded MT Bold"/>
            </a:endParaRPr>
          </a:p>
          <a:p>
            <a:pPr marL="343080" indent="-341640" algn="ctr">
              <a:lnSpc>
                <a:spcPct val="15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400" spc="-1" strike="noStrike">
                <a:solidFill>
                  <a:srgbClr val="ffff00"/>
                </a:solidFill>
                <a:latin typeface="Monotype Corsiva"/>
              </a:rPr>
              <a:t>…</a:t>
            </a:r>
            <a:r>
              <a:rPr b="1" lang="it-IT" sz="3400" spc="-1" strike="noStrike">
                <a:solidFill>
                  <a:srgbClr val="ffff00"/>
                </a:solidFill>
                <a:latin typeface="Monotype Corsiva"/>
              </a:rPr>
              <a:t>buio profondo…, senza luna né stelle !»</a:t>
            </a:r>
            <a:endParaRPr b="0" lang="en-US" sz="3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Script MT Bold"/>
              </a:rPr>
              <a:t>                                        </a:t>
            </a:r>
            <a:r>
              <a:rPr b="1" lang="it-IT" sz="3200" spc="-1" strike="noStrike">
                <a:solidFill>
                  <a:srgbClr val="ffff00"/>
                </a:solidFill>
                <a:latin typeface="Monotype Corsiva"/>
              </a:rPr>
              <a:t>Platone</a:t>
            </a:r>
            <a:r>
              <a:rPr b="1" lang="it-IT" sz="4400" spc="-1" strike="noStrike">
                <a:solidFill>
                  <a:srgbClr val="ffff00"/>
                </a:solidFill>
                <a:latin typeface="Monotype Corsiva"/>
              </a:rPr>
              <a:t> </a:t>
            </a:r>
            <a:r>
              <a:rPr b="1" lang="it-IT" sz="2400" spc="-1" strike="noStrike">
                <a:solidFill>
                  <a:srgbClr val="ffff00"/>
                </a:solidFill>
                <a:latin typeface="Monotype Corsiva"/>
              </a:rPr>
              <a:t>(427 a.C. - 347 a.C. - Atene)</a:t>
            </a:r>
            <a:endParaRPr b="0" lang="en-US" sz="2400" spc="-1" strike="noStrike">
              <a:solidFill>
                <a:srgbClr val="ffffff"/>
              </a:solidFill>
              <a:latin typeface="Arial Rounded MT Bold"/>
            </a:endParaRPr>
          </a:p>
          <a:p>
            <a:pPr marL="343080" indent="-341640">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Script MT Bold"/>
              </a:rPr>
              <a:t>                                   </a:t>
            </a:r>
            <a:endParaRPr b="0" lang="en-US" sz="32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Monotype Corsiva"/>
              </a:rPr>
              <a:t>Un sincero ringraziamento per la cortese attenzione, </a:t>
            </a:r>
            <a:endParaRPr b="0" lang="en-US" sz="2600" spc="-1" strike="noStrike">
              <a:solidFill>
                <a:srgbClr val="ffffff"/>
              </a:solidFill>
              <a:latin typeface="Arial Rounded MT Bold"/>
            </a:endParaRPr>
          </a:p>
          <a:p>
            <a:pPr marL="343080" indent="-341640" algn="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Monotype Corsiva"/>
              </a:rPr>
              <a:t>                                        </a:t>
            </a:r>
            <a:r>
              <a:rPr b="1" lang="it-IT" sz="2600" spc="-1" strike="noStrike">
                <a:solidFill>
                  <a:srgbClr val="ffffff"/>
                </a:solidFill>
                <a:latin typeface="Monotype Corsiva"/>
              </a:rPr>
              <a:t>Salvatore Gallo!</a:t>
            </a:r>
            <a:endParaRPr b="0" lang="en-US" sz="26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600" spc="-1" strike="noStrike">
              <a:solidFill>
                <a:srgbClr val="ffffff"/>
              </a:solidFill>
              <a:latin typeface="Arial Rounded MT 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9" name=""/>
          <p:cNvGraphicFramePr/>
          <p:nvPr/>
        </p:nvGraphicFramePr>
        <p:xfrm>
          <a:off x="250920" y="620640"/>
          <a:ext cx="8643960" cy="5977080"/>
        </p:xfrm>
        <a:graphic>
          <a:graphicData uri="http://schemas.openxmlformats.org/drawingml/2006/table">
            <a:tbl>
              <a:tblPr/>
              <a:tblGrid>
                <a:gridCol w="2349360"/>
                <a:gridCol w="6294600"/>
              </a:tblGrid>
              <a:tr h="646200">
                <a:tc>
                  <a:txBody>
                    <a:bodyPr lIns="90000" rIns="90000" tIns="5724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ACRONIMO  o</a:t>
                      </a:r>
                      <a:endParaRPr b="0" lang="en-US" sz="1800" spc="-1" strike="noStrike">
                        <a:solidFill>
                          <a:srgbClr val="ffffff"/>
                        </a:solidFill>
                        <a:latin typeface="Arial Rounded MT Bold"/>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DENOMINAZION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ffff"/>
                    </a:solidFill>
                  </a:tcPr>
                </a:tc>
                <a:tc>
                  <a:txBody>
                    <a:bodyPr lIns="90000" rIns="90000" tIns="5724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CORRISPONDENTE SIGNIFICATO  DECRIPTATO</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DURC</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Documento Unico di Regolarità Contributiva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IP</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Identificativo Pratic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IG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Identificativo Gar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UP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Codice Unico Progett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RSS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 </a:t>
                      </a:r>
                      <a:r>
                        <a:rPr b="1" lang="it-IT" sz="1400" spc="-1" strike="noStrike">
                          <a:solidFill>
                            <a:srgbClr val="ff0066"/>
                          </a:solidFill>
                          <a:latin typeface="Times New Roman"/>
                        </a:rPr>
                        <a:t>Responsabile Simog  Stazione Appaltant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SIMOG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Sistema Informativo Monitoraggio Gar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V.C.P.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Autorità Vigilanza Contratti Pubblici -mail : https://anagrafe.avcp.it</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6159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P.V.</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Common Procurement Vocabulary -Vocabolario comune per appalti    </a:t>
                      </a:r>
                      <a:endParaRPr b="0" lang="en-US" sz="14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66"/>
                          </a:solidFill>
                          <a:latin typeface="Times New Roman"/>
                        </a:rPr>
                        <a:t>(designa la nomenclatura di riferimento per  gli appalti pubblici  ex Regolamento</a:t>
                      </a:r>
                      <a:r>
                        <a:rPr b="0" lang="it-IT" sz="1000" spc="-1" strike="noStrike">
                          <a:solidFill>
                            <a:srgbClr val="ff0066"/>
                          </a:solidFill>
                          <a:latin typeface="Times New Roman"/>
                        </a:rPr>
                        <a:t> </a:t>
                      </a:r>
                      <a:r>
                        <a:rPr b="1" lang="it-IT" sz="1000" spc="-1" strike="noStrike">
                          <a:solidFill>
                            <a:srgbClr val="ff0066"/>
                          </a:solidFill>
                          <a:latin typeface="Times New Roman"/>
                        </a:rPr>
                        <a:t>(CE) n.2195/2002, </a:t>
                      </a:r>
                      <a:endParaRPr b="0" lang="en-US" sz="10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66"/>
                          </a:solidFill>
                          <a:latin typeface="Times New Roman"/>
                        </a:rPr>
                        <a:t>assicurando nel contempo la corrispondenza con le altre</a:t>
                      </a:r>
                      <a:r>
                        <a:rPr b="0" lang="it-IT" sz="1000" spc="-1" strike="noStrike">
                          <a:solidFill>
                            <a:srgbClr val="ff0066"/>
                          </a:solidFill>
                          <a:latin typeface="Times New Roman"/>
                        </a:rPr>
                        <a:t> </a:t>
                      </a:r>
                      <a:r>
                        <a:rPr b="1" lang="it-IT" sz="1000" spc="-1" strike="noStrike">
                          <a:solidFill>
                            <a:srgbClr val="ff0066"/>
                          </a:solidFill>
                          <a:latin typeface="Times New Roman"/>
                        </a:rPr>
                        <a:t>nomenclature esistenti) </a:t>
                      </a:r>
                      <a:endParaRPr b="0" lang="en-US" sz="10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UTORITÀ</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Autorità vigilanza sui contratti pubblici di lavori, servizi e forniture, ex art.6</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CANDIDAT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Operatore che sarà invitato a presentare l’offert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81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OFFERENT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Operatore economico / Ditta che presenterà l’offert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31428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STAZIONE APPALTANTE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Istituzione Scolastica Autonoma che bandisce la gara</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30780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RUP</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Responsabile Unico Procedimento </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52236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ACCORD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L'accordo sugli appalti pubblici stipulato nel quadro dei negoziati multilaterali dell'Uruguay Round al livello internazionale</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490680">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d5"/>
                          </a:solidFill>
                          <a:latin typeface="Times New Roman"/>
                        </a:rPr>
                        <a:t>OSSERVATORIO</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47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ff0066"/>
                          </a:solidFill>
                          <a:latin typeface="Times New Roman"/>
                        </a:rPr>
                        <a:t>l'osservatorio dei contratti pubblici relativi a lavori, servizi forniture ex art.7</a:t>
                      </a:r>
                      <a:endParaRPr b="0" lang="en-US" sz="14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0" name="Text Box 11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467480-EF32-40E8-B43B-2D0D61BD368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1" name="Text Box 117"/>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2" name=""/>
          <p:cNvGraphicFramePr/>
          <p:nvPr/>
        </p:nvGraphicFramePr>
        <p:xfrm>
          <a:off x="684360" y="1052640"/>
          <a:ext cx="7850160" cy="5333760"/>
        </p:xfrm>
        <a:graphic>
          <a:graphicData uri="http://schemas.openxmlformats.org/drawingml/2006/table">
            <a:tbl>
              <a:tblPr/>
              <a:tblGrid>
                <a:gridCol w="4535280"/>
                <a:gridCol w="3314880"/>
              </a:tblGrid>
              <a:tr h="901440">
                <a:tc gridSpan="2">
                  <a:txBody>
                    <a:bodyPr lIns="90000" rIns="90000" tIns="6192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TABELLA  INDIVIDUAZIONE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PROCEDURE  di SCELTA  del CONTRAENTE</a:t>
                      </a:r>
                      <a:endParaRPr b="0" lang="en-US" sz="24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ff"/>
                          </a:solidFill>
                          <a:latin typeface="Arial Black"/>
                        </a:rPr>
                        <a:t>VALOR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46800" bIns="468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ff"/>
                          </a:solidFill>
                          <a:latin typeface="Arial Black"/>
                        </a:rPr>
                        <a:t>PROCEDURA</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2332080">
                <a:tc>
                  <a:txBody>
                    <a:bodyPr lIns="90000" rIns="90000" tIns="46800" bIns="4680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I  di VALORE INFERIORE  a </a:t>
                      </a:r>
                      <a:r>
                        <a:rPr b="1" lang="it-IT" sz="1800" spc="-1" strike="noStrike">
                          <a:solidFill>
                            <a:srgbClr val="ff0066"/>
                          </a:solidFill>
                          <a:latin typeface="Calibri"/>
                          <a:ea typeface="Calibri"/>
                        </a:rPr>
                        <a:t>€.2000 </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o al limite superiore fissato dal Consiglio di</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Istituto)</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N.B. Il limite fissato dal Consiglio dovrà</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comunque essere “rispettoso” del “costo</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complessivo” dell’attività svolta dalle singole</a:t>
                      </a:r>
                      <a:endParaRPr b="0" lang="en-US" sz="18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scuole </a:t>
                      </a:r>
                      <a:r>
                        <a:rPr b="1" lang="it-IT" sz="1800" spc="-1" strike="noStrike">
                          <a:solidFill>
                            <a:srgbClr val="ffff00"/>
                          </a:solidFill>
                          <a:latin typeface="Calibri"/>
                          <a:ea typeface="Calibri"/>
                        </a:rPr>
                        <a:t>.</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RT. 34 del D.I. n. 44/2001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t>
                      </a:r>
                      <a:r>
                        <a:rPr b="1" lang="it-IT" sz="1800" spc="-1" strike="noStrike">
                          <a:solidFill>
                            <a:srgbClr val="0000d5"/>
                          </a:solidFill>
                          <a:latin typeface="Calibri"/>
                          <a:ea typeface="Calibri"/>
                        </a:rPr>
                        <a:t>NUOVO  REGOLAMENTO</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 </a:t>
                      </a:r>
                      <a:r>
                        <a:rPr b="1" lang="it-IT" sz="1800" spc="-1" strike="noStrike">
                          <a:solidFill>
                            <a:srgbClr val="0000d5"/>
                          </a:solidFill>
                          <a:latin typeface="Calibri"/>
                          <a:ea typeface="Calibri"/>
                        </a:rPr>
                        <a:t>CONTABILITÀ delle I.S.A.”</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68264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I di VALORE SUPERIORE a</a:t>
                      </a:r>
                      <a:r>
                        <a:rPr b="1" lang="it-IT" sz="1800" spc="-1" strike="noStrike">
                          <a:solidFill>
                            <a:srgbClr val="0000d5"/>
                          </a:solidFill>
                          <a:latin typeface="Calibri"/>
                          <a:ea typeface="Calibri"/>
                        </a:rPr>
                        <a:t> </a:t>
                      </a:r>
                      <a:r>
                        <a:rPr b="1" lang="it-IT" sz="1800" spc="-1" strike="noStrike">
                          <a:solidFill>
                            <a:srgbClr val="ff0066"/>
                          </a:solidFill>
                          <a:latin typeface="Calibri"/>
                          <a:ea typeface="Calibri"/>
                        </a:rPr>
                        <a:t>€.2000 </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o al limite superiore fissato dal Consiglio di Istituto) MA, IN OGNI CASO, INFERIORE  a</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Calibri"/>
                          <a:ea typeface="Calibri"/>
                        </a:rPr>
                        <a:t>€</a:t>
                      </a:r>
                      <a:r>
                        <a:rPr b="1" lang="it-IT" sz="1800" spc="-1" strike="noStrike">
                          <a:solidFill>
                            <a:srgbClr val="ff0066"/>
                          </a:solidFill>
                          <a:latin typeface="Calibri"/>
                          <a:ea typeface="Calibri"/>
                        </a:rPr>
                        <a:t>. 20.000</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RATTAZIONE ORDINARIA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EX  ART. 34 del D.I. n. 44/2001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a:t>
                      </a:r>
                      <a:r>
                        <a:rPr b="1" lang="it-IT" sz="1800" spc="-1" strike="noStrike">
                          <a:solidFill>
                            <a:srgbClr val="0000d5"/>
                          </a:solidFill>
                          <a:latin typeface="Calibri"/>
                          <a:ea typeface="Calibri"/>
                        </a:rPr>
                        <a:t>NUOVO  REGOLAMENTO </a:t>
                      </a:r>
                      <a:endParaRPr b="0" lang="en-US" sz="1800" spc="-1" strike="noStrike">
                        <a:solidFill>
                          <a:srgbClr val="ffffff"/>
                        </a:solidFill>
                        <a:latin typeface="Arial Rounded MT Bold"/>
                      </a:endParaRPr>
                    </a:p>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d5"/>
                          </a:solidFill>
                          <a:latin typeface="Calibri"/>
                          <a:ea typeface="Calibri"/>
                        </a:rPr>
                        <a:t>CONTABILITÀ delle I.S.A.” </a:t>
                      </a:r>
                      <a:endParaRPr b="0" lang="en-US" sz="18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3" name="Text Box 28"/>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A452F2-46AD-4343-A9DD-7466B8C2A12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4" name="Text Box 29"/>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5" name=""/>
          <p:cNvGraphicFramePr/>
          <p:nvPr/>
        </p:nvGraphicFramePr>
        <p:xfrm>
          <a:off x="611280" y="914400"/>
          <a:ext cx="7994520" cy="5502240"/>
        </p:xfrm>
        <a:graphic>
          <a:graphicData uri="http://schemas.openxmlformats.org/drawingml/2006/table">
            <a:tbl>
              <a:tblPr/>
              <a:tblGrid>
                <a:gridCol w="3998880"/>
                <a:gridCol w="3995640"/>
              </a:tblGrid>
              <a:tr h="934920">
                <a:tc gridSpan="2">
                  <a:txBody>
                    <a:bodyPr lIns="90000" rIns="90000" tIns="6084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TABELLA  INDIVIDUAZIONE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d5"/>
                          </a:solidFill>
                          <a:latin typeface="Times New Roman"/>
                          <a:ea typeface="Times New Roman"/>
                        </a:rPr>
                        <a:t>PROCEDURE  di SCELTA  del CONTRAENTE</a:t>
                      </a:r>
                      <a:endParaRPr b="0" lang="en-US" sz="24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416160">
                <a:tc>
                  <a:txBody>
                    <a:bodyPr lIns="90000" rIns="900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66"/>
                          </a:solidFill>
                          <a:latin typeface="Arial Black"/>
                        </a:rPr>
                        <a:t>VALORE</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anchor="t">
                      <a:noAutofit/>
                    </a:bodyPr>
                    <a:p>
                      <a:pPr algn="ctr">
                        <a:lnSpc>
                          <a:spcPct val="11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0066"/>
                          </a:solidFill>
                          <a:latin typeface="Arial Black"/>
                        </a:rPr>
                        <a:t>PROCEDURA</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1639800">
                <a:tc>
                  <a:txBody>
                    <a:bodyPr lIns="90000" rIns="90000" tIns="57240" anchor="t">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di APPALTO di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VALORE SUPERIORE a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0066"/>
                          </a:solidFill>
                          <a:latin typeface="Times New Roman"/>
                        </a:rPr>
                        <a:t>€</a:t>
                      </a:r>
                      <a:r>
                        <a:rPr b="1" lang="it-IT" sz="1800" spc="-1" strike="noStrike">
                          <a:solidFill>
                            <a:srgbClr val="ff0066"/>
                          </a:solidFill>
                          <a:latin typeface="Times New Roman"/>
                        </a:rPr>
                        <a:t>. 20.000</a:t>
                      </a:r>
                      <a:r>
                        <a:rPr b="1" lang="it-IT" sz="1800" spc="-1" strike="noStrike">
                          <a:solidFill>
                            <a:srgbClr val="ff00ff"/>
                          </a:solidFill>
                          <a:latin typeface="Times New Roman"/>
                        </a:rPr>
                        <a:t> </a:t>
                      </a:r>
                      <a:r>
                        <a:rPr b="1" lang="it-IT" sz="1800" spc="-1" strike="noStrike">
                          <a:solidFill>
                            <a:srgbClr val="0033cc"/>
                          </a:solidFill>
                          <a:latin typeface="Times New Roman"/>
                        </a:rPr>
                        <a:t>MA INFERIORE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LLA SOGLIA COMUNITARIA </a:t>
                      </a:r>
                      <a:endParaRPr b="0" lang="en-US" sz="1800" spc="-1" strike="noStrike">
                        <a:solidFill>
                          <a:srgbClr val="ffffff"/>
                        </a:solidFill>
                        <a:latin typeface="Arial Rounded MT Bold"/>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di  </a:t>
                      </a:r>
                      <a:r>
                        <a:rPr b="1" lang="it-IT" sz="1800" spc="-1" strike="noStrike">
                          <a:solidFill>
                            <a:srgbClr val="ff0066"/>
                          </a:solidFill>
                          <a:latin typeface="Times New Roman"/>
                        </a:rPr>
                        <a:t>€.125.000</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RT. 125 CODICE CONTRATTI PUBBLICI - AFFIDAMENTO</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MEDIANTE PROCEDURA di</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 “</a:t>
                      </a:r>
                      <a:r>
                        <a:rPr b="1" lang="it-IT" sz="1800" spc="-1" strike="noStrike">
                          <a:solidFill>
                            <a:srgbClr val="0033cc"/>
                          </a:solidFill>
                          <a:latin typeface="Times New Roman"/>
                        </a:rPr>
                        <a:t>COTTIMO FIDUCIARIO”  </a:t>
                      </a:r>
                      <a:endParaRPr b="0" lang="en-US" sz="18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411200">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di APPALTO di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VALORE  SUPERIOR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ALLA SOGLIA COMUNITARIA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Di  </a:t>
                      </a:r>
                      <a:r>
                        <a:rPr b="1" lang="it-IT" sz="1800" spc="-1" strike="noStrike">
                          <a:solidFill>
                            <a:srgbClr val="ff0066"/>
                          </a:solidFill>
                          <a:latin typeface="Times New Roman"/>
                        </a:rPr>
                        <a:t>€.125.000</a:t>
                      </a: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90000" rIns="90000" tIns="57240" anchor="t">
                      <a:no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PROCEDURE di GAR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STABILITE DAL CODICE </a:t>
                      </a:r>
                      <a:endParaRPr b="0" lang="en-US" sz="1800" spc="-1" strike="noStrike">
                        <a:solidFill>
                          <a:srgbClr val="ffffff"/>
                        </a:solidFill>
                        <a:latin typeface="Arial Rounded MT Bold"/>
                      </a:endParaRPr>
                    </a:p>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Times New Roman"/>
                        </a:rPr>
                        <a:t>CONTRATTI PUBBLICI </a:t>
                      </a:r>
                      <a:endParaRPr b="0" lang="en-US" sz="1800" spc="-1" strike="noStrike">
                        <a:solidFill>
                          <a:srgbClr val="ffffff"/>
                        </a:solidFill>
                        <a:latin typeface="Arial Rounded MT Bol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Rounded MT Bold"/>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r h="1100160">
                <a:tc gridSpan="2">
                  <a:txBody>
                    <a:bodyPr lIns="90000" rIns="90000" tIns="58320" anchor="t">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ff0066"/>
                          </a:solidFill>
                          <a:latin typeface="Times New Roman"/>
                        </a:rPr>
                        <a:t>La scelta della procedura più idonea da adottare spetta :</a:t>
                      </a:r>
                      <a:endParaRPr b="0" lang="en-US" sz="2000" spc="-1" strike="noStrike">
                        <a:solidFill>
                          <a:srgbClr val="ffffff"/>
                        </a:solidFill>
                        <a:latin typeface="Arial Rounded MT Bold"/>
                      </a:endParaRPr>
                    </a:p>
                    <a:p>
                      <a:pPr algn="just">
                        <a:lnSpc>
                          <a:spcPct val="95000"/>
                        </a:lnSpc>
                        <a:spcBef>
                          <a:spcPts val="451"/>
                        </a:spcBef>
                        <a:buClr>
                          <a:srgbClr val="ff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ffcc66"/>
                          </a:solidFill>
                          <a:latin typeface="Times New Roman"/>
                        </a:rPr>
                        <a:t> </a:t>
                      </a:r>
                      <a:r>
                        <a:rPr b="1" lang="it-IT" sz="1800" spc="-1" strike="noStrike">
                          <a:solidFill>
                            <a:srgbClr val="0000d5"/>
                          </a:solidFill>
                          <a:latin typeface="Times New Roman"/>
                        </a:rPr>
                        <a:t>al Consiglio d’Istituto </a:t>
                      </a:r>
                      <a:r>
                        <a:rPr b="0" lang="it-IT" sz="1800" spc="-1" strike="noStrike">
                          <a:solidFill>
                            <a:srgbClr val="0000d5"/>
                          </a:solidFill>
                          <a:latin typeface="Times New Roman"/>
                        </a:rPr>
                        <a:t>per le materie espressamente affidategli dal D.I. n.44/2001. </a:t>
                      </a:r>
                      <a:endParaRPr b="0" lang="en-US" sz="1800" spc="-1" strike="noStrike">
                        <a:solidFill>
                          <a:srgbClr val="ffffff"/>
                        </a:solidFill>
                        <a:latin typeface="Arial Rounded MT Bold"/>
                      </a:endParaRPr>
                    </a:p>
                    <a:p>
                      <a:pPr algn="just">
                        <a:lnSpc>
                          <a:spcPct val="95000"/>
                        </a:lnSpc>
                        <a:spcBef>
                          <a:spcPts val="451"/>
                        </a:spcBef>
                        <a:buClr>
                          <a:srgbClr val="ff00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d5"/>
                          </a:solidFill>
                          <a:latin typeface="Times New Roman"/>
                        </a:rPr>
                        <a:t> </a:t>
                      </a:r>
                      <a:r>
                        <a:rPr b="1" lang="it-IT" sz="1800" spc="-1" strike="noStrike">
                          <a:solidFill>
                            <a:srgbClr val="0000d5"/>
                          </a:solidFill>
                          <a:latin typeface="Times New Roman"/>
                        </a:rPr>
                        <a:t>al Dirigente scolastico </a:t>
                      </a:r>
                      <a:r>
                        <a:rPr b="0" lang="it-IT" sz="1800" spc="-1" strike="noStrike">
                          <a:solidFill>
                            <a:srgbClr val="0000d5"/>
                          </a:solidFill>
                          <a:latin typeface="Times New Roman"/>
                        </a:rPr>
                        <a:t>in tutti gli altri casi.</a:t>
                      </a:r>
                      <a:endParaRPr b="0" lang="en-US" sz="18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2880">
                      <a:solidFill>
                        <a:srgbClr val="ffffff"/>
                      </a:solidFill>
                    </a:lnB>
                    <a:solidFill>
                      <a:srgbClr val="e7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bl>
          </a:graphicData>
        </a:graphic>
      </p:graphicFrame>
      <p:sp>
        <p:nvSpPr>
          <p:cNvPr id="1366" name="Text Box 3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AEB8CD-2905-43AB-A45A-DD205B80882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67" name="Text Box 3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8" name=""/>
          <p:cNvGraphicFramePr/>
          <p:nvPr/>
        </p:nvGraphicFramePr>
        <p:xfrm>
          <a:off x="468360" y="1197000"/>
          <a:ext cx="8210520" cy="5113440"/>
        </p:xfrm>
        <a:graphic>
          <a:graphicData uri="http://schemas.openxmlformats.org/drawingml/2006/table">
            <a:tbl>
              <a:tblPr/>
              <a:tblGrid>
                <a:gridCol w="2736720"/>
                <a:gridCol w="2737080"/>
                <a:gridCol w="2736720"/>
              </a:tblGrid>
              <a:tr h="1185840">
                <a:tc gridSpan="3">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33cc"/>
                          </a:solidFill>
                          <a:latin typeface="Calibri"/>
                          <a:ea typeface="Calibri"/>
                        </a:rPr>
                        <a:t>GLOSSARIO UTILE AI FINI DEL CIG</a:t>
                      </a:r>
                      <a:endParaRPr b="0" lang="en-US" sz="32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Calibri"/>
                          <a:ea typeface="Calibri"/>
                        </a:rPr>
                        <a:t>VECCHIA TERMINOLOGIA/NUOVA TERMINOLOGIA</a:t>
                      </a:r>
                      <a:r>
                        <a:rPr b="0" lang="it-IT" sz="1800" spc="-1" strike="noStrike">
                          <a:solidFill>
                            <a:srgbClr val="0033cc"/>
                          </a:solidFill>
                          <a:latin typeface="Calibri"/>
                          <a:ea typeface="Calibri"/>
                        </a:rPr>
                        <a:t> </a:t>
                      </a:r>
                      <a:endParaRPr b="0" lang="en-US" sz="18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33cc"/>
                          </a:solidFill>
                          <a:latin typeface="Calibri"/>
                          <a:ea typeface="Calibri"/>
                        </a:rPr>
                        <a:t>RIFERIMENTO ART. 54 DEL CODICE </a:t>
                      </a:r>
                      <a:endParaRPr b="0" lang="en-US" sz="18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660240">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ART. DEL CODICE DEGLI APPALTI</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ORMATIVA</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UOV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VECCHI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960480">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rt. 37 - art. 55</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t>
                      </a:r>
                      <a:r>
                        <a:rPr b="1" lang="en-US" sz="2000" spc="-1" strike="noStrike">
                          <a:solidFill>
                            <a:srgbClr val="0000bf"/>
                          </a:solidFill>
                          <a:latin typeface="Calibri"/>
                          <a:ea typeface="Times New Roman"/>
                        </a:rPr>
                        <a:t>procedure aperte”</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Tutte le procedure in cui un operatore può presentare un’offer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Pubblico incanto </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o asta pubblic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2306880">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rt. 3, c. 38 - art. 55</a:t>
                      </a:r>
                      <a:endParaRPr b="0" lang="en-US" sz="20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bf"/>
                          </a:solidFill>
                          <a:latin typeface="Calibri"/>
                          <a:ea typeface="Times New Roman"/>
                        </a:rPr>
                        <a:t>“</a:t>
                      </a:r>
                      <a:r>
                        <a:rPr b="1" lang="en-US" sz="2000" spc="-1" strike="noStrike">
                          <a:solidFill>
                            <a:srgbClr val="0000bf"/>
                          </a:solidFill>
                          <a:latin typeface="Calibri"/>
                          <a:ea typeface="Times New Roman"/>
                        </a:rPr>
                        <a:t>procedure ristrette”</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00bf"/>
                          </a:solidFill>
                          <a:latin typeface="Calibri"/>
                          <a:ea typeface="Times New Roman"/>
                        </a:rPr>
                        <a:t>Le procedure alle quali ogni operatore economico può chiedere di partecipare ma dove possono presentare un’offerta soltanto gli operatori invitati dalle stazioni appaltanti (scuole) </a:t>
                      </a:r>
                      <a:endParaRPr b="0" lang="en-US" sz="18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Licitazione priva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69" name="Text Box 37"/>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F9026-F5D8-4E82-8FD7-8C6DC92BA33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70" name="Text Box 38"/>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1" name=""/>
          <p:cNvGraphicFramePr/>
          <p:nvPr/>
        </p:nvGraphicFramePr>
        <p:xfrm>
          <a:off x="179280" y="1119240"/>
          <a:ext cx="8786880" cy="5262480"/>
        </p:xfrm>
        <a:graphic>
          <a:graphicData uri="http://schemas.openxmlformats.org/drawingml/2006/table">
            <a:tbl>
              <a:tblPr/>
              <a:tblGrid>
                <a:gridCol w="2787840"/>
                <a:gridCol w="4093920"/>
                <a:gridCol w="1905120"/>
              </a:tblGrid>
              <a:tr h="1122480">
                <a:tc gridSpan="3">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bf"/>
                          </a:solidFill>
                          <a:latin typeface="Calibri"/>
                          <a:ea typeface="Calibri"/>
                        </a:rPr>
                        <a:t>GLOSSARIO UTILE AI FINI DEL CIG</a:t>
                      </a:r>
                      <a:endParaRPr b="0" lang="en-US" sz="28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Calibri"/>
                        </a:rPr>
                        <a:t>VECCHIA TERMINOLOGIA/NUOVA TERMINOLOGIA</a:t>
                      </a:r>
                      <a:r>
                        <a:rPr b="0" lang="it-IT" sz="1600" spc="-1" strike="noStrike">
                          <a:solidFill>
                            <a:srgbClr val="0000bf"/>
                          </a:solidFill>
                          <a:latin typeface="Calibri"/>
                          <a:ea typeface="Calibri"/>
                        </a:rPr>
                        <a:t> </a:t>
                      </a:r>
                      <a:endParaRPr b="0" lang="en-US" sz="1600" spc="-1" strike="noStrike">
                        <a:solidFill>
                          <a:srgbClr val="ffffff"/>
                        </a:solidFill>
                        <a:latin typeface="Arial Rounded MT Bold"/>
                      </a:endParaRPr>
                    </a:p>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Calibri"/>
                        </a:rPr>
                        <a:t>RIFERIMENTO ART. 54 DEL CODICE </a:t>
                      </a:r>
                      <a:endParaRPr b="0" lang="en-US" sz="1600" spc="-1" strike="noStrike">
                        <a:solidFill>
                          <a:srgbClr val="ffffff"/>
                        </a:solidFill>
                        <a:latin typeface="Arial Rounded MT Bold"/>
                      </a:endParaRPr>
                    </a:p>
                  </a:txBody>
                  <a:tcPr anchor="t" marL="90000" marR="90000">
                    <a:lnL w="2880">
                      <a:solidFill>
                        <a:srgbClr val="ffffff"/>
                      </a:solidFill>
                    </a:lnL>
                    <a:lnR>
                      <a:noFill/>
                    </a:lnR>
                    <a:lnT w="2880">
                      <a:solidFill>
                        <a:srgbClr val="ffffff"/>
                      </a:solidFill>
                    </a:lnT>
                    <a:lnB w="9360">
                      <a:solidFill>
                        <a:srgbClr val="ffffff"/>
                      </a:solidFill>
                    </a:lnB>
                    <a:solidFill>
                      <a:srgbClr val="00fff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Arial Rounded MT Bold"/>
                      </a:endParaRPr>
                    </a:p>
                  </a:txBody>
                  <a:tcPr anchor="t" marL="90000" marR="90000">
                    <a:lnL>
                      <a:noFill/>
                    </a:lnL>
                    <a:lnR>
                      <a:noFill/>
                    </a:lnR>
                    <a:lnT>
                      <a:noFill/>
                    </a:lnT>
                    <a:lnB>
                      <a:noFill/>
                    </a:lnB>
                    <a:solidFill>
                      <a:srgbClr val="729fcf"/>
                    </a:solidFill>
                  </a:tcPr>
                </a:tc>
              </a:tr>
              <a:tr h="701640">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ART. DEL CODICE </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DEGLI APPALTI</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ffff"/>
                    </a:solidFill>
                  </a:tcPr>
                </a:tc>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ORMATIVA</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NUOVA 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c>
                  <a:txBody>
                    <a:bodyPr lIns="90000" rIns="90000" tIns="5976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VECCHIA </a:t>
                      </a:r>
                      <a:endParaRPr b="0" lang="en-US" sz="1600" spc="-1" strike="noStrike">
                        <a:solidFill>
                          <a:srgbClr val="ffffff"/>
                        </a:solidFill>
                        <a:latin typeface="Arial Rounded MT Bold"/>
                      </a:endParaRPr>
                    </a:p>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ff0066"/>
                          </a:solidFill>
                          <a:latin typeface="Arial"/>
                        </a:rPr>
                        <a:t>TERMINOLOGIA</a:t>
                      </a:r>
                      <a:endParaRPr b="0" lang="en-US" sz="1600" spc="-1" strike="noStrike">
                        <a:solidFill>
                          <a:srgbClr val="ffffff"/>
                        </a:solidFill>
                        <a:latin typeface="Arial Rounded MT Bold"/>
                      </a:endParaRPr>
                    </a:p>
                  </a:txBody>
                  <a:tcPr anchor="t" marL="90000" marR="90000">
                    <a:lnL w="2880">
                      <a:solidFill>
                        <a:srgbClr val="ffffff"/>
                      </a:solidFill>
                    </a:lnL>
                    <a:lnR w="2880">
                      <a:solidFill>
                        <a:srgbClr val="ffffff"/>
                      </a:solidFill>
                    </a:lnR>
                    <a:lnT>
                      <a:noFill/>
                    </a:lnT>
                    <a:lnB w="2880">
                      <a:solidFill>
                        <a:srgbClr val="ffffff"/>
                      </a:solidFill>
                    </a:lnB>
                    <a:solidFill>
                      <a:srgbClr val="cbffff"/>
                    </a:solidFill>
                  </a:tcPr>
                </a:tc>
              </a:tr>
              <a:tr h="1633320">
                <a:tc>
                  <a:txBody>
                    <a:bodyPr lIns="68760" rIns="6876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rt. 3, c. 39 - art. 58</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t>
                      </a:r>
                      <a:r>
                        <a:rPr b="1" lang="it-IT" sz="1600" spc="-1" strike="noStrike">
                          <a:solidFill>
                            <a:srgbClr val="0000bf"/>
                          </a:solidFill>
                          <a:latin typeface="Calibri"/>
                          <a:ea typeface="Times New Roman"/>
                        </a:rPr>
                        <a:t>dialogo competitivo”</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La stazione appaltante dialoga con i candidati ammessi alla procedura al fine di trovare le soluzioni migliori e sulla base delle quali i candidati dovranno presentare le proprie offerte – Chiunque può chiedere di partecipare.</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Appalto </a:t>
                      </a:r>
                      <a:endParaRPr b="0" lang="en-US" sz="2000" spc="-1" strike="noStrike">
                        <a:solidFill>
                          <a:srgbClr val="ffffff"/>
                        </a:solidFill>
                        <a:latin typeface="Arial Rounded MT Bold"/>
                      </a:endParaRPr>
                    </a:p>
                    <a:p>
                      <a:pPr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concorso</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e7ffff"/>
                    </a:solidFill>
                  </a:tcPr>
                </a:tc>
              </a:tr>
              <a:tr h="1805040">
                <a:tc>
                  <a:txBody>
                    <a:bodyPr lIns="68760" rIns="6876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art.3 , c. 40  - artt. 56 e 57 “procedure negoziate”:</a:t>
                      </a:r>
                      <a:endParaRPr b="0" lang="en-US" sz="1600" spc="-1" strike="noStrike">
                        <a:solidFill>
                          <a:srgbClr val="ffffff"/>
                        </a:solidFill>
                        <a:latin typeface="Arial Rounded MT Bold"/>
                      </a:endParaRPr>
                    </a:p>
                    <a:p>
                      <a:pPr>
                        <a:lnSpc>
                          <a:spcPct val="102000"/>
                        </a:lnSpc>
                        <a:buClr>
                          <a:srgbClr val="0000b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previa pubblicazione  del </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bando   di gara</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b) senza previa pubblicazione </a:t>
                      </a:r>
                      <a:endParaRPr b="0" lang="en-US" sz="1600" spc="-1" strike="noStrike">
                        <a:solidFill>
                          <a:srgbClr val="ffffff"/>
                        </a:solidFill>
                        <a:latin typeface="Arial Rounded MT Bold"/>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    </a:t>
                      </a:r>
                      <a:r>
                        <a:rPr b="1" lang="it-IT" sz="1600" spc="-1" strike="noStrike">
                          <a:solidFill>
                            <a:srgbClr val="0000bf"/>
                          </a:solidFill>
                          <a:latin typeface="Calibri"/>
                          <a:ea typeface="Times New Roman"/>
                        </a:rPr>
                        <a:t>del bando di gara</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Sono le procedure in cui le stazioni appaltanti consultano gli operatori economici da loro scelti e negoziano con uno o più di essi le condizioni dell'appalto. </a:t>
                      </a:r>
                      <a:endParaRPr b="0" lang="en-US" sz="1600" spc="-1" strike="noStrike">
                        <a:solidFill>
                          <a:srgbClr val="ffffff"/>
                        </a:solidFill>
                        <a:latin typeface="Arial Rounded MT Bold"/>
                      </a:endParaRPr>
                    </a:p>
                    <a:p>
                      <a:pPr algn="just">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a:solidFill>
                            <a:srgbClr val="0000bf"/>
                          </a:solidFill>
                          <a:latin typeface="Calibri"/>
                          <a:ea typeface="Times New Roman"/>
                        </a:rPr>
                        <a:t>Il cottimo fiduciario costituisce procedura negoziata.</a:t>
                      </a:r>
                      <a:endParaRPr b="0" lang="en-US" sz="16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c>
                  <a:txBody>
                    <a:bodyPr lIns="68760" rIns="68760" tIns="0" bIns="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Trattativa </a:t>
                      </a:r>
                      <a:endParaRPr b="0" lang="en-US" sz="2000" spc="-1" strike="noStrike">
                        <a:solidFill>
                          <a:srgbClr val="ffffff"/>
                        </a:solidFill>
                        <a:latin typeface="Arial Rounded MT Bold"/>
                      </a:endParaRPr>
                    </a:p>
                    <a:p>
                      <a:pPr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a:solidFill>
                            <a:srgbClr val="0000bf"/>
                          </a:solidFill>
                          <a:latin typeface="Calibri"/>
                          <a:ea typeface="Times New Roman"/>
                        </a:rPr>
                        <a:t>privata</a:t>
                      </a:r>
                      <a:endParaRPr b="0" lang="en-US" sz="2000" spc="-1" strike="noStrike">
                        <a:solidFill>
                          <a:srgbClr val="ffffff"/>
                        </a:solidFill>
                        <a:latin typeface="Arial Rounded MT Bold"/>
                      </a:endParaRPr>
                    </a:p>
                  </a:txBody>
                  <a:tcPr anchor="t" marL="68760" marR="68760">
                    <a:lnL w="2880">
                      <a:solidFill>
                        <a:srgbClr val="ffffff"/>
                      </a:solidFill>
                    </a:lnL>
                    <a:lnR w="2880">
                      <a:solidFill>
                        <a:srgbClr val="ffffff"/>
                      </a:solidFill>
                    </a:lnR>
                    <a:lnT w="2880">
                      <a:solidFill>
                        <a:srgbClr val="ffffff"/>
                      </a:solidFill>
                    </a:lnT>
                    <a:lnB w="2880">
                      <a:solidFill>
                        <a:srgbClr val="ffffff"/>
                      </a:solidFill>
                    </a:lnB>
                    <a:solidFill>
                      <a:srgbClr val="cbffff"/>
                    </a:solidFill>
                  </a:tcPr>
                </a:tc>
              </a:tr>
            </a:tbl>
          </a:graphicData>
        </a:graphic>
      </p:graphicFrame>
      <p:sp>
        <p:nvSpPr>
          <p:cNvPr id="1372" name="Text Box 37"/>
          <p:cNvSpPr/>
          <p:nvPr/>
        </p:nvSpPr>
        <p:spPr>
          <a:xfrm>
            <a:off x="594036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4FD01-A5FF-4D73-AC8D-303B79AD391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73" name="Text Box 38"/>
          <p:cNvSpPr/>
          <p:nvPr/>
        </p:nvSpPr>
        <p:spPr>
          <a:xfrm>
            <a:off x="685800" y="189000"/>
            <a:ext cx="777240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Text Box 1"/>
          <p:cNvSpPr/>
          <p:nvPr/>
        </p:nvSpPr>
        <p:spPr>
          <a:xfrm>
            <a:off x="755640" y="1484280"/>
            <a:ext cx="7993080" cy="504036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La deliberazione del 3 novembre</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2010 per l’attuazione dell’art. 1,</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commi 65 e 67, legge 23/12/2005</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n.266 resa esecutiva con il D.P.C.M.</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3/12/2010, in vigore dal 1°gennaio</a:t>
            </a:r>
            <a:endParaRPr b="0" lang="en-US" sz="4000" spc="-1" strike="noStrike">
              <a:solidFill>
                <a:srgbClr val="ffffff"/>
              </a:solidFill>
              <a:latin typeface="Arial Rounded MT Bold"/>
            </a:endParaRPr>
          </a:p>
          <a:p>
            <a:pPr marL="343080" indent="-341640" algn="just">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00"/>
                </a:solidFill>
                <a:latin typeface="Times New Roman"/>
              </a:rPr>
              <a:t>2011, ha stabilito  che:</a:t>
            </a:r>
            <a:endParaRPr b="0" lang="en-US" sz="4000" spc="-1" strike="noStrike">
              <a:solidFill>
                <a:srgbClr val="ffffff"/>
              </a:solidFill>
              <a:latin typeface="Arial Rounded MT Bold"/>
            </a:endParaRPr>
          </a:p>
        </p:txBody>
      </p:sp>
      <p:sp>
        <p:nvSpPr>
          <p:cNvPr id="1375" name="Text Box 2"/>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Text Box 1"/>
          <p:cNvSpPr/>
          <p:nvPr/>
        </p:nvSpPr>
        <p:spPr>
          <a:xfrm>
            <a:off x="179280" y="907920"/>
            <a:ext cx="8785440" cy="56912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Times New Roman"/>
              </a:rPr>
              <a:t>Articolo 2</a:t>
            </a:r>
            <a:r>
              <a:rPr b="0" lang="it-IT" sz="3600" spc="-1" strike="noStrike">
                <a:solidFill>
                  <a:srgbClr val="ffff00"/>
                </a:solidFill>
                <a:latin typeface="Times New Roman"/>
              </a:rPr>
              <a:t> </a:t>
            </a:r>
            <a:br>
              <a:rPr sz="3600"/>
            </a:br>
            <a:r>
              <a:rPr b="1" i="1" lang="it-IT" sz="3600" spc="-1" strike="noStrike">
                <a:solidFill>
                  <a:srgbClr val="ffff00"/>
                </a:solidFill>
                <a:latin typeface="Times New Roman"/>
              </a:rPr>
              <a:t>Soggetti tenuti alla contribuzione</a:t>
            </a:r>
            <a:endParaRPr b="0" lang="en-US" sz="3600" spc="-1" strike="noStrike">
              <a:solidFill>
                <a:srgbClr val="ffffff"/>
              </a:solidFill>
              <a:latin typeface="Arial Rounded MT Bold"/>
            </a:endParaRPr>
          </a:p>
          <a:p>
            <a:pPr marL="343080" indent="-341640" algn="ctr">
              <a:lnSpc>
                <a:spcPct val="8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1. Sono obbligati alla contribuzione a favore dell’Autorità, nell’entità e con le modalità previste dal presente provvedimento, i seguenti soggetti pubblici e privati:</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 le stazioni appaltanti e gli enti aggiudicatori di cui agli articoli 32 e 207 del decreto legislativo 12 aprile 2006, n. 163, anche nel caso in cui la procedura di affidamento sia espletata all’estero</a:t>
            </a:r>
            <a:r>
              <a:rPr b="1" lang="it-IT" sz="2600" spc="-1" strike="noStrike">
                <a:solidFill>
                  <a:srgbClr val="ffffff"/>
                </a:solidFill>
                <a:latin typeface="Times New Roman"/>
              </a:rPr>
              <a:t>;</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b) gli operatori economici, nazionali e esteri, che intendano partecipare a procedure di scelta del contraente attivate dai soggetti di cui alla lettera a);</a:t>
            </a:r>
            <a:endParaRPr b="0" lang="en-US" sz="2600" spc="-1" strike="noStrike">
              <a:solidFill>
                <a:srgbClr val="ffffff"/>
              </a:solidFill>
              <a:latin typeface="Arial Rounded MT Bold"/>
            </a:endParaRPr>
          </a:p>
          <a:p>
            <a:pPr marL="343080" indent="-341640" algn="just">
              <a:lnSpc>
                <a:spcPct val="80000"/>
              </a:lnSpc>
              <a:spcBef>
                <a:spcPts val="64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ff"/>
                </a:solidFill>
                <a:latin typeface="Times New Roman"/>
              </a:rPr>
              <a:t>c) gli organismi di attestazione di cui all’art. 40, comma 3, del decreto legislativo 12 aprile 2006, n. 163.</a:t>
            </a:r>
            <a:endParaRPr b="0" lang="en-US" sz="2600" spc="-1" strike="noStrike">
              <a:solidFill>
                <a:srgbClr val="ffffff"/>
              </a:solidFill>
              <a:latin typeface="Arial Rounded MT Bold"/>
            </a:endParaRPr>
          </a:p>
        </p:txBody>
      </p:sp>
      <p:sp>
        <p:nvSpPr>
          <p:cNvPr id="1377" name="Text Box 2"/>
          <p:cNvSpPr/>
          <p:nvPr/>
        </p:nvSpPr>
        <p:spPr>
          <a:xfrm>
            <a:off x="68436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3B9159-5634-4A57-9192-C3EF2C5027F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27" name="Text Box 2"/>
          <p:cNvSpPr/>
          <p:nvPr/>
        </p:nvSpPr>
        <p:spPr>
          <a:xfrm>
            <a:off x="0" y="1500120"/>
            <a:ext cx="8964720" cy="479448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Il Codice dei Contratti Pubblici all’art. 121 dispone </a:t>
            </a:r>
            <a:r>
              <a:rPr b="1" lang="it-IT" sz="2800" spc="-1" strike="noStrike">
                <a:solidFill>
                  <a:srgbClr val="ffff00"/>
                </a:solidFill>
                <a:latin typeface="Calibri"/>
              </a:rPr>
              <a:t>“… ai contratti pubblici aventi per oggetto lavori, servizi, forniture </a:t>
            </a:r>
            <a:r>
              <a:rPr b="1" lang="it-IT" sz="2800" spc="-1" strike="noStrike">
                <a:solidFill>
                  <a:srgbClr val="ffffff"/>
                </a:solidFill>
                <a:latin typeface="Calibri"/>
              </a:rPr>
              <a:t>di importo inferiore alle soglie di rilevanza comunitaria,</a:t>
            </a:r>
            <a:r>
              <a:rPr b="1" lang="it-IT" sz="2800" spc="-1" strike="noStrike">
                <a:solidFill>
                  <a:srgbClr val="ffff00"/>
                </a:solidFill>
                <a:latin typeface="Calibri"/>
              </a:rPr>
              <a:t> si applicano oltre alle disposizioni della parte I, della parte IV e della parte V, </a:t>
            </a:r>
            <a:r>
              <a:rPr b="1" lang="it-IT" sz="2800" spc="-1" strike="noStrike">
                <a:solidFill>
                  <a:srgbClr val="ffffff"/>
                </a:solidFill>
                <a:latin typeface="Calibri"/>
              </a:rPr>
              <a:t>anche le disposizioni della parte II (contratti sopra soglia comunitaria), </a:t>
            </a:r>
            <a:r>
              <a:rPr b="1" lang="it-IT" sz="2800" spc="-1" strike="noStrike">
                <a:solidFill>
                  <a:srgbClr val="ffff00"/>
                </a:solidFill>
                <a:latin typeface="Calibri"/>
              </a:rPr>
              <a:t>in quanto non derogate dalle norme del presente titolo…”.</a:t>
            </a:r>
            <a:endParaRPr b="0" lang="en-US" sz="2800" spc="-1" strike="noStrike">
              <a:solidFill>
                <a:srgbClr val="ffffff"/>
              </a:solidFill>
              <a:latin typeface="Arial Rounded MT Bold"/>
            </a:endParaRPr>
          </a:p>
          <a:p>
            <a:pPr marL="341280" indent="-341280">
              <a:lnSpc>
                <a:spcPct val="100000"/>
              </a:lnSpc>
              <a:spcBef>
                <a:spcPts val="601"/>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ffffff"/>
                </a:solidFill>
                <a:latin typeface="Calibri"/>
              </a:rPr>
              <a:t>Ne consegue che la normativa del C.C.P  </a:t>
            </a:r>
            <a:r>
              <a:rPr b="1" lang="it-IT" sz="2400" spc="-1" strike="noStrike">
                <a:solidFill>
                  <a:srgbClr val="ffff00"/>
                </a:solidFill>
                <a:latin typeface="Calibri"/>
              </a:rPr>
              <a:t>trova  applicazione </a:t>
            </a:r>
            <a:r>
              <a:rPr b="1" lang="it-IT" sz="2400" spc="-1" strike="noStrike">
                <a:solidFill>
                  <a:srgbClr val="ffffff"/>
                </a:solidFill>
                <a:latin typeface="Calibri"/>
              </a:rPr>
              <a:t>per i contratti di valore  </a:t>
            </a:r>
            <a:r>
              <a:rPr b="1" lang="it-IT" sz="2400" spc="-1" strike="noStrike">
                <a:solidFill>
                  <a:srgbClr val="ffff00"/>
                </a:solidFill>
                <a:latin typeface="Calibri"/>
              </a:rPr>
              <a:t>sia sotto che sopra </a:t>
            </a:r>
            <a:r>
              <a:rPr b="1" lang="it-IT" sz="2400" spc="-1" strike="noStrike">
                <a:solidFill>
                  <a:srgbClr val="ffffff"/>
                </a:solidFill>
                <a:latin typeface="Calibri"/>
              </a:rPr>
              <a:t>soglia di rilevanza europea.</a:t>
            </a:r>
            <a:endParaRPr b="0" lang="en-US" sz="2400" spc="-1" strike="noStrike">
              <a:solidFill>
                <a:srgbClr val="ffffff"/>
              </a:solidFill>
              <a:latin typeface="Arial Rounded MT Bold"/>
            </a:endParaRPr>
          </a:p>
          <a:p>
            <a:pPr marL="341280" indent="-34128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Rounded MT Bold"/>
            </a:endParaRPr>
          </a:p>
        </p:txBody>
      </p:sp>
      <p:sp>
        <p:nvSpPr>
          <p:cNvPr id="1328"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1"/>
          <p:cNvSpPr/>
          <p:nvPr/>
        </p:nvSpPr>
        <p:spPr>
          <a:xfrm>
            <a:off x="0" y="692280"/>
            <a:ext cx="8964720" cy="60055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rticolo 3 </a:t>
            </a:r>
            <a:br>
              <a:rPr sz="2600"/>
            </a:br>
            <a:r>
              <a:rPr b="1" i="1" lang="it-IT" sz="2600" spc="-1" strike="noStrike">
                <a:solidFill>
                  <a:srgbClr val="ffff00"/>
                </a:solidFill>
                <a:latin typeface="Times New Roman"/>
              </a:rPr>
              <a:t>Esenzioni dalla contribuzione</a:t>
            </a:r>
            <a:endParaRPr b="0" lang="en-US" sz="2600" spc="-1" strike="noStrike">
              <a:solidFill>
                <a:srgbClr val="ffffff"/>
              </a:solidFill>
              <a:latin typeface="Arial Rounded MT Bold"/>
            </a:endParaRPr>
          </a:p>
          <a:p>
            <a:pPr marL="343080" indent="-341640" algn="ctr">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Times New Roman"/>
              </a:rPr>
              <a:t>1. Sono esentate dall’obbligo della contribuzione esclusivamente le seguenti fattispecie:</a:t>
            </a:r>
            <a:endParaRPr b="0" lang="en-US" sz="24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Times New Roman"/>
              </a:rPr>
              <a:t>a) i contratti di lavori, servizi e forniture di importo inferiore a 40.000 euro per i soggetti di cui all’art. 2, lettera a); </a:t>
            </a:r>
            <a:r>
              <a:rPr b="1" lang="it-IT" sz="2400" spc="-1" strike="noStrike">
                <a:solidFill>
                  <a:srgbClr val="ffffff"/>
                </a:solidFill>
                <a:latin typeface="Times New Roman"/>
              </a:rPr>
              <a:t>(STAZIONI APPALTANTI)</a:t>
            </a:r>
            <a:endParaRPr b="0" lang="en-US" sz="24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Times New Roman"/>
              </a:rPr>
              <a:t>b) i contratti di lavori, servizi e forniture di importo inferiore a 150.000 euro per i soggetti di cui all’art. 2, lettera b). </a:t>
            </a:r>
            <a:r>
              <a:rPr b="1" lang="it-IT" sz="2400" spc="-1" strike="noStrike">
                <a:solidFill>
                  <a:srgbClr val="ffffff"/>
                </a:solidFill>
                <a:latin typeface="Times New Roman"/>
              </a:rPr>
              <a:t>(OPERATORI ECONOMICI)</a:t>
            </a:r>
            <a:endParaRPr b="0" lang="en-US" sz="2400" spc="-1" strike="noStrike">
              <a:solidFill>
                <a:srgbClr val="ffffff"/>
              </a:solidFill>
              <a:latin typeface="Arial Rounded MT Bold"/>
            </a:endParaRPr>
          </a:p>
          <a:p>
            <a:pPr marL="343080" indent="-341640">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8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Times New Roman"/>
              </a:rPr>
              <a:t>Articolo 4</a:t>
            </a:r>
            <a:r>
              <a:rPr b="0" lang="it-IT" sz="2600" spc="-1" strike="noStrike">
                <a:solidFill>
                  <a:srgbClr val="ffff00"/>
                </a:solidFill>
                <a:latin typeface="Times New Roman"/>
              </a:rPr>
              <a:t> </a:t>
            </a:r>
            <a:br>
              <a:rPr sz="2600"/>
            </a:br>
            <a:r>
              <a:rPr b="1" i="1" lang="it-IT" sz="2600" spc="-1" strike="noStrike">
                <a:solidFill>
                  <a:srgbClr val="ffff00"/>
                </a:solidFill>
                <a:latin typeface="Times New Roman"/>
              </a:rPr>
              <a:t>Entità della contribuzione</a:t>
            </a:r>
            <a:endParaRPr b="0" lang="en-US" sz="2600" spc="-1" strike="noStrike">
              <a:solidFill>
                <a:srgbClr val="ffffff"/>
              </a:solidFill>
              <a:latin typeface="Arial Rounded MT Bold"/>
            </a:endParaRPr>
          </a:p>
          <a:p>
            <a:pPr marL="343080" indent="-341640" algn="ctr">
              <a:lnSpc>
                <a:spcPct val="8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just">
              <a:lnSpc>
                <a:spcPct val="80000"/>
              </a:lnSpc>
              <a:spcBef>
                <a:spcPts val="60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ff"/>
                </a:solidFill>
                <a:latin typeface="Times New Roman"/>
              </a:rPr>
              <a:t>1. I soggetti di cui all’articolo 2, lettere a) e b), sono tenuti a versare a favore dell’Autorità per la vigilanza sui contratti pubblici di lavori, servizi e forniture, con le modalità e i termini di cui all’articolo 5 del presente provvedimento, i seguenti contributi in relazione all’importo posto a base di gara:</a:t>
            </a:r>
            <a:endParaRPr b="0" lang="en-US" sz="2400" spc="-1" strike="noStrike">
              <a:solidFill>
                <a:srgbClr val="ffffff"/>
              </a:solidFill>
              <a:latin typeface="Arial Rounded MT Bold"/>
            </a:endParaRPr>
          </a:p>
        </p:txBody>
      </p:sp>
      <p:sp>
        <p:nvSpPr>
          <p:cNvPr id="1379" name="Text Box 2"/>
          <p:cNvSpPr/>
          <p:nvPr/>
        </p:nvSpPr>
        <p:spPr>
          <a:xfrm>
            <a:off x="685800" y="-34920"/>
            <a:ext cx="7772400" cy="763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Text Box 1"/>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400" spc="-1" strike="noStrike">
                <a:solidFill>
                  <a:srgbClr val="ffcc66"/>
                </a:solidFill>
                <a:latin typeface="Arial"/>
              </a:rPr>
              <a:t>Codice dei contratti pubblici</a:t>
            </a:r>
            <a:endParaRPr b="0" lang="en-US" sz="4400" spc="-1" strike="noStrike">
              <a:solidFill>
                <a:srgbClr val="ffffff"/>
              </a:solidFill>
              <a:latin typeface="Arial Rounded MT Bold"/>
            </a:endParaRPr>
          </a:p>
        </p:txBody>
      </p:sp>
      <p:grpSp>
        <p:nvGrpSpPr>
          <p:cNvPr id="1381" name="Group 2"/>
          <p:cNvGrpSpPr/>
          <p:nvPr/>
        </p:nvGrpSpPr>
        <p:grpSpPr>
          <a:xfrm>
            <a:off x="179280" y="1052640"/>
            <a:ext cx="8785440" cy="5576760"/>
            <a:chOff x="179280" y="1052640"/>
            <a:chExt cx="8785440" cy="5576760"/>
          </a:xfrm>
        </p:grpSpPr>
        <p:sp>
          <p:nvSpPr>
            <p:cNvPr id="1382" name="Rectangle 3"/>
            <p:cNvSpPr/>
            <p:nvPr/>
          </p:nvSpPr>
          <p:spPr>
            <a:xfrm>
              <a:off x="179280" y="1052640"/>
              <a:ext cx="424836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Importo a base di gara</a:t>
              </a:r>
              <a:endParaRPr b="0" lang="en-US" sz="2400" spc="-1" strike="noStrike">
                <a:solidFill>
                  <a:srgbClr val="ffffff"/>
                </a:solidFill>
                <a:latin typeface="Arial Rounded MT Bold"/>
              </a:endParaRPr>
            </a:p>
          </p:txBody>
        </p:sp>
        <p:sp>
          <p:nvSpPr>
            <p:cNvPr id="1383" name="Rectangle 4"/>
            <p:cNvSpPr/>
            <p:nvPr/>
          </p:nvSpPr>
          <p:spPr>
            <a:xfrm>
              <a:off x="4427640" y="1052640"/>
              <a:ext cx="237636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Stazioni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Appaltanti</a:t>
              </a:r>
              <a:endParaRPr b="0" lang="en-US" sz="2400" spc="-1" strike="noStrike">
                <a:solidFill>
                  <a:srgbClr val="ffffff"/>
                </a:solidFill>
                <a:latin typeface="Arial Rounded MT Bold"/>
              </a:endParaRPr>
            </a:p>
          </p:txBody>
        </p:sp>
        <p:sp>
          <p:nvSpPr>
            <p:cNvPr id="1384" name="Rectangle 5"/>
            <p:cNvSpPr/>
            <p:nvPr/>
          </p:nvSpPr>
          <p:spPr>
            <a:xfrm>
              <a:off x="6804000" y="1052640"/>
              <a:ext cx="2160720" cy="898200"/>
            </a:xfrm>
            <a:prstGeom prst="rect">
              <a:avLst/>
            </a:prstGeom>
            <a:noFill/>
            <a:ln w="0">
              <a:noFill/>
            </a:ln>
          </p:spPr>
          <p:style>
            <a:lnRef idx="0"/>
            <a:fillRef idx="0"/>
            <a:effectRef idx="0"/>
            <a:fontRef idx="minor"/>
          </p:style>
          <p:txBody>
            <a:bodyPr lIns="90000" rIns="90000" tIns="60840" bIns="46800" anchor="t">
              <a:noAutofit/>
            </a:bodyPr>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Operatori </a:t>
              </a:r>
              <a:endParaRPr b="0" lang="en-US" sz="2400" spc="-1" strike="noStrike">
                <a:solidFill>
                  <a:srgbClr val="ffffff"/>
                </a:solidFill>
                <a:latin typeface="Arial Rounded MT Bold"/>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00"/>
                  </a:solidFill>
                  <a:latin typeface="Times New Roman"/>
                </a:rPr>
                <a:t>Economici</a:t>
              </a:r>
              <a:endParaRPr b="0" lang="en-US" sz="2400" spc="-1" strike="noStrike">
                <a:solidFill>
                  <a:srgbClr val="ffffff"/>
                </a:solidFill>
                <a:latin typeface="Arial Rounded MT Bold"/>
              </a:endParaRPr>
            </a:p>
          </p:txBody>
        </p:sp>
        <p:sp>
          <p:nvSpPr>
            <p:cNvPr id="1385" name="Rectangle 6"/>
            <p:cNvSpPr/>
            <p:nvPr/>
          </p:nvSpPr>
          <p:spPr>
            <a:xfrm>
              <a:off x="179280" y="195084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Inferiore a €. 40.000</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6" name="Rectangle 7"/>
            <p:cNvSpPr/>
            <p:nvPr/>
          </p:nvSpPr>
          <p:spPr>
            <a:xfrm>
              <a:off x="4427640" y="1950840"/>
              <a:ext cx="237636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7" name="Rectangle 8"/>
            <p:cNvSpPr/>
            <p:nvPr/>
          </p:nvSpPr>
          <p:spPr>
            <a:xfrm>
              <a:off x="6804000" y="195084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r>
                <a:rPr b="0" lang="it-IT" sz="2800" spc="-1" strike="noStrike">
                  <a:solidFill>
                    <a:srgbClr val="ffffff"/>
                  </a:solidFill>
                  <a:latin typeface="Times New Roman"/>
                </a:rPr>
                <a:t> </a:t>
              </a:r>
              <a:endParaRPr b="0" lang="en-US" sz="2800" spc="-1" strike="noStrike">
                <a:solidFill>
                  <a:srgbClr val="ffffff"/>
                </a:solidFill>
                <a:latin typeface="Arial Rounded MT Bold"/>
              </a:endParaRPr>
            </a:p>
          </p:txBody>
        </p:sp>
        <p:sp>
          <p:nvSpPr>
            <p:cNvPr id="1388" name="Rectangle 9"/>
            <p:cNvSpPr/>
            <p:nvPr/>
          </p:nvSpPr>
          <p:spPr>
            <a:xfrm>
              <a:off x="179280" y="246960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40.000    a €. 150.000</a:t>
              </a:r>
              <a:endParaRPr b="0" lang="en-US" sz="2400" spc="-1" strike="noStrike">
                <a:solidFill>
                  <a:srgbClr val="ffffff"/>
                </a:solidFill>
                <a:latin typeface="Arial Rounded MT Bold"/>
              </a:endParaRPr>
            </a:p>
          </p:txBody>
        </p:sp>
        <p:sp>
          <p:nvSpPr>
            <p:cNvPr id="1389" name="Rectangle 10"/>
            <p:cNvSpPr/>
            <p:nvPr/>
          </p:nvSpPr>
          <p:spPr>
            <a:xfrm>
              <a:off x="4427640" y="2469600"/>
              <a:ext cx="237636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0,00</a:t>
              </a:r>
              <a:endParaRPr b="0" lang="en-US" sz="2800" spc="-1" strike="noStrike">
                <a:solidFill>
                  <a:srgbClr val="ffffff"/>
                </a:solidFill>
                <a:latin typeface="Arial Rounded MT Bold"/>
              </a:endParaRPr>
            </a:p>
          </p:txBody>
        </p:sp>
        <p:sp>
          <p:nvSpPr>
            <p:cNvPr id="1390" name="Rectangle 11"/>
            <p:cNvSpPr/>
            <p:nvPr/>
          </p:nvSpPr>
          <p:spPr>
            <a:xfrm>
              <a:off x="6804000" y="246960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Esente</a:t>
              </a:r>
              <a:endParaRPr b="0" lang="en-US" sz="2800" spc="-1" strike="noStrike">
                <a:solidFill>
                  <a:srgbClr val="ffffff"/>
                </a:solidFill>
                <a:latin typeface="Arial Rounded MT Bold"/>
              </a:endParaRPr>
            </a:p>
          </p:txBody>
        </p:sp>
        <p:sp>
          <p:nvSpPr>
            <p:cNvPr id="1391" name="Rectangle 12"/>
            <p:cNvSpPr/>
            <p:nvPr/>
          </p:nvSpPr>
          <p:spPr>
            <a:xfrm>
              <a:off x="179280" y="299016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150.000    a €. 300.000</a:t>
              </a:r>
              <a:endParaRPr b="0" lang="en-US" sz="2400" spc="-1" strike="noStrike">
                <a:solidFill>
                  <a:srgbClr val="ffffff"/>
                </a:solidFill>
                <a:latin typeface="Arial Rounded MT Bold"/>
              </a:endParaRPr>
            </a:p>
          </p:txBody>
        </p:sp>
        <p:sp>
          <p:nvSpPr>
            <p:cNvPr id="1392" name="Rectangle 13"/>
            <p:cNvSpPr/>
            <p:nvPr/>
          </p:nvSpPr>
          <p:spPr>
            <a:xfrm>
              <a:off x="4427640" y="2990160"/>
              <a:ext cx="2376360" cy="36360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25,00</a:t>
              </a:r>
              <a:endParaRPr b="0" lang="en-US" sz="2800" spc="-1" strike="noStrike">
                <a:solidFill>
                  <a:srgbClr val="ffffff"/>
                </a:solidFill>
                <a:latin typeface="Arial Rounded MT Bold"/>
              </a:endParaRPr>
            </a:p>
          </p:txBody>
        </p:sp>
        <p:sp>
          <p:nvSpPr>
            <p:cNvPr id="1393" name="Rectangle 14"/>
            <p:cNvSpPr/>
            <p:nvPr/>
          </p:nvSpPr>
          <p:spPr>
            <a:xfrm>
              <a:off x="6804000" y="299016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0,00</a:t>
              </a:r>
              <a:endParaRPr b="0" lang="en-US" sz="2800" spc="-1" strike="noStrike">
                <a:solidFill>
                  <a:srgbClr val="ffffff"/>
                </a:solidFill>
                <a:latin typeface="Arial Rounded MT Bold"/>
              </a:endParaRPr>
            </a:p>
          </p:txBody>
        </p:sp>
        <p:sp>
          <p:nvSpPr>
            <p:cNvPr id="1394" name="Rectangle 15"/>
            <p:cNvSpPr/>
            <p:nvPr/>
          </p:nvSpPr>
          <p:spPr>
            <a:xfrm>
              <a:off x="179280" y="351072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300.000    a €. 500.000</a:t>
              </a:r>
              <a:endParaRPr b="0" lang="en-US" sz="2400" spc="-1" strike="noStrike">
                <a:solidFill>
                  <a:srgbClr val="ffffff"/>
                </a:solidFill>
                <a:latin typeface="Arial Rounded MT Bold"/>
              </a:endParaRPr>
            </a:p>
          </p:txBody>
        </p:sp>
        <p:sp>
          <p:nvSpPr>
            <p:cNvPr id="1395" name="Rectangle 16"/>
            <p:cNvSpPr/>
            <p:nvPr/>
          </p:nvSpPr>
          <p:spPr>
            <a:xfrm>
              <a:off x="6804000" y="351072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5,00</a:t>
              </a:r>
              <a:endParaRPr b="0" lang="en-US" sz="2800" spc="-1" strike="noStrike">
                <a:solidFill>
                  <a:srgbClr val="ffffff"/>
                </a:solidFill>
                <a:latin typeface="Arial Rounded MT Bold"/>
              </a:endParaRPr>
            </a:p>
          </p:txBody>
        </p:sp>
        <p:sp>
          <p:nvSpPr>
            <p:cNvPr id="1396" name="Rectangle 17"/>
            <p:cNvSpPr/>
            <p:nvPr/>
          </p:nvSpPr>
          <p:spPr>
            <a:xfrm>
              <a:off x="179280" y="4029480"/>
              <a:ext cx="4248360" cy="5205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500.000    a €. 800.000</a:t>
              </a:r>
              <a:endParaRPr b="0" lang="en-US" sz="2400" spc="-1" strike="noStrike">
                <a:solidFill>
                  <a:srgbClr val="ffffff"/>
                </a:solidFill>
                <a:latin typeface="Arial Rounded MT Bold"/>
              </a:endParaRPr>
            </a:p>
          </p:txBody>
        </p:sp>
        <p:sp>
          <p:nvSpPr>
            <p:cNvPr id="1397" name="Rectangle 18"/>
            <p:cNvSpPr/>
            <p:nvPr/>
          </p:nvSpPr>
          <p:spPr>
            <a:xfrm>
              <a:off x="4427640" y="4029480"/>
              <a:ext cx="2376360" cy="259668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375,00</a:t>
              </a:r>
              <a:endParaRPr b="0" lang="en-US" sz="2800" spc="-1" strike="noStrike">
                <a:solidFill>
                  <a:srgbClr val="ffffff"/>
                </a:solidFill>
                <a:latin typeface="Arial Rounded MT Bold"/>
              </a:endParaRPr>
            </a:p>
          </p:txBody>
        </p:sp>
        <p:sp>
          <p:nvSpPr>
            <p:cNvPr id="1398" name="Rectangle 19"/>
            <p:cNvSpPr/>
            <p:nvPr/>
          </p:nvSpPr>
          <p:spPr>
            <a:xfrm>
              <a:off x="6804000" y="4029480"/>
              <a:ext cx="2160720" cy="5205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70,00</a:t>
              </a:r>
              <a:endParaRPr b="0" lang="en-US" sz="2800" spc="-1" strike="noStrike">
                <a:solidFill>
                  <a:srgbClr val="ffffff"/>
                </a:solidFill>
                <a:latin typeface="Arial Rounded MT Bold"/>
              </a:endParaRPr>
            </a:p>
          </p:txBody>
        </p:sp>
        <p:sp>
          <p:nvSpPr>
            <p:cNvPr id="1399" name="Rectangle 20"/>
            <p:cNvSpPr/>
            <p:nvPr/>
          </p:nvSpPr>
          <p:spPr>
            <a:xfrm>
              <a:off x="179280" y="455040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800.000    a €. 1.000.000</a:t>
              </a:r>
              <a:endParaRPr b="0" lang="en-US" sz="2400" spc="-1" strike="noStrike">
                <a:solidFill>
                  <a:srgbClr val="ffffff"/>
                </a:solidFill>
                <a:latin typeface="Arial Rounded MT Bold"/>
              </a:endParaRPr>
            </a:p>
          </p:txBody>
        </p:sp>
        <p:sp>
          <p:nvSpPr>
            <p:cNvPr id="1400" name="Rectangle 21"/>
            <p:cNvSpPr/>
            <p:nvPr/>
          </p:nvSpPr>
          <p:spPr>
            <a:xfrm>
              <a:off x="6804000" y="455040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80,00</a:t>
              </a:r>
              <a:endParaRPr b="0" lang="en-US" sz="2800" spc="-1" strike="noStrike">
                <a:solidFill>
                  <a:srgbClr val="ffffff"/>
                </a:solidFill>
                <a:latin typeface="Arial Rounded MT Bold"/>
              </a:endParaRPr>
            </a:p>
          </p:txBody>
        </p:sp>
        <p:sp>
          <p:nvSpPr>
            <p:cNvPr id="1401" name="Rectangle 22"/>
            <p:cNvSpPr/>
            <p:nvPr/>
          </p:nvSpPr>
          <p:spPr>
            <a:xfrm>
              <a:off x="179280" y="507096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1.000.000 a €. 5.000.000</a:t>
              </a:r>
              <a:endParaRPr b="0" lang="en-US" sz="2400" spc="-1" strike="noStrike">
                <a:solidFill>
                  <a:srgbClr val="ffffff"/>
                </a:solidFill>
                <a:latin typeface="Arial Rounded MT Bold"/>
              </a:endParaRPr>
            </a:p>
          </p:txBody>
        </p:sp>
        <p:sp>
          <p:nvSpPr>
            <p:cNvPr id="1402" name="Rectangle 23"/>
            <p:cNvSpPr/>
            <p:nvPr/>
          </p:nvSpPr>
          <p:spPr>
            <a:xfrm>
              <a:off x="4427640" y="5070960"/>
              <a:ext cx="237636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600,00</a:t>
              </a:r>
              <a:endParaRPr b="0" lang="en-US" sz="2800" spc="-1" strike="noStrike">
                <a:solidFill>
                  <a:srgbClr val="ffffff"/>
                </a:solidFill>
                <a:latin typeface="Arial Rounded MT Bold"/>
              </a:endParaRPr>
            </a:p>
          </p:txBody>
        </p:sp>
        <p:sp>
          <p:nvSpPr>
            <p:cNvPr id="1403" name="Rectangle 24"/>
            <p:cNvSpPr/>
            <p:nvPr/>
          </p:nvSpPr>
          <p:spPr>
            <a:xfrm>
              <a:off x="6804000" y="507096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140,00</a:t>
              </a:r>
              <a:endParaRPr b="0" lang="en-US" sz="2800" spc="-1" strike="noStrike">
                <a:solidFill>
                  <a:srgbClr val="ffffff"/>
                </a:solidFill>
                <a:latin typeface="Arial Rounded MT Bold"/>
              </a:endParaRPr>
            </a:p>
          </p:txBody>
        </p:sp>
        <p:sp>
          <p:nvSpPr>
            <p:cNvPr id="1404" name="Rectangle 25"/>
            <p:cNvSpPr/>
            <p:nvPr/>
          </p:nvSpPr>
          <p:spPr>
            <a:xfrm>
              <a:off x="179280" y="5589720"/>
              <a:ext cx="4248360" cy="52020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5.000.000 a €. 20.000.000</a:t>
              </a:r>
              <a:endParaRPr b="0" lang="en-US" sz="2400" spc="-1" strike="noStrike">
                <a:solidFill>
                  <a:srgbClr val="ffffff"/>
                </a:solidFill>
                <a:latin typeface="Arial Rounded MT Bold"/>
              </a:endParaRPr>
            </a:p>
          </p:txBody>
        </p:sp>
        <p:sp>
          <p:nvSpPr>
            <p:cNvPr id="1405" name="Rectangle 26"/>
            <p:cNvSpPr/>
            <p:nvPr/>
          </p:nvSpPr>
          <p:spPr>
            <a:xfrm>
              <a:off x="4427640" y="5589720"/>
              <a:ext cx="2376360" cy="103644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800,00</a:t>
              </a:r>
              <a:endParaRPr b="0" lang="en-US" sz="2800" spc="-1" strike="noStrike">
                <a:solidFill>
                  <a:srgbClr val="ffffff"/>
                </a:solidFill>
                <a:latin typeface="Arial Rounded MT Bold"/>
              </a:endParaRPr>
            </a:p>
          </p:txBody>
        </p:sp>
        <p:sp>
          <p:nvSpPr>
            <p:cNvPr id="1406" name="Rectangle 27"/>
            <p:cNvSpPr/>
            <p:nvPr/>
          </p:nvSpPr>
          <p:spPr>
            <a:xfrm>
              <a:off x="6804000" y="5589720"/>
              <a:ext cx="2160720" cy="52020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200,00</a:t>
              </a:r>
              <a:endParaRPr b="0" lang="en-US" sz="2800" spc="-1" strike="noStrike">
                <a:solidFill>
                  <a:srgbClr val="ffffff"/>
                </a:solidFill>
                <a:latin typeface="Arial Rounded MT Bold"/>
              </a:endParaRPr>
            </a:p>
          </p:txBody>
        </p:sp>
        <p:sp>
          <p:nvSpPr>
            <p:cNvPr id="1407" name="Rectangle 28"/>
            <p:cNvSpPr/>
            <p:nvPr/>
          </p:nvSpPr>
          <p:spPr>
            <a:xfrm>
              <a:off x="179280" y="6110280"/>
              <a:ext cx="4248360" cy="518760"/>
            </a:xfrm>
            <a:prstGeom prst="rect">
              <a:avLst/>
            </a:prstGeom>
            <a:noFill/>
            <a:ln w="0">
              <a:noFill/>
            </a:ln>
          </p:spPr>
          <p:style>
            <a:lnRef idx="0"/>
            <a:fillRef idx="0"/>
            <a:effectRef idx="0"/>
            <a:fontRef idx="minor"/>
          </p:style>
          <p:txBody>
            <a:bodyPr lIns="90000" rIns="90000" tIns="6084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ffffff"/>
                  </a:solidFill>
                  <a:latin typeface="Times New Roman"/>
                </a:rPr>
                <a:t>da €. 20.000.000 in su</a:t>
              </a:r>
              <a:endParaRPr b="0" lang="en-US" sz="2400" spc="-1" strike="noStrike">
                <a:solidFill>
                  <a:srgbClr val="ffffff"/>
                </a:solidFill>
                <a:latin typeface="Arial Rounded MT Bold"/>
              </a:endParaRPr>
            </a:p>
          </p:txBody>
        </p:sp>
        <p:sp>
          <p:nvSpPr>
            <p:cNvPr id="1408" name="Rectangle 29"/>
            <p:cNvSpPr/>
            <p:nvPr/>
          </p:nvSpPr>
          <p:spPr>
            <a:xfrm>
              <a:off x="6804000" y="6110280"/>
              <a:ext cx="2160720" cy="518760"/>
            </a:xfrm>
            <a:prstGeom prst="rect">
              <a:avLst/>
            </a:prstGeom>
            <a:noFill/>
            <a:ln w="0">
              <a:noFill/>
            </a:ln>
          </p:spPr>
          <p:style>
            <a:lnRef idx="0"/>
            <a:fillRef idx="0"/>
            <a:effectRef idx="0"/>
            <a:fontRef idx="minor"/>
          </p:style>
          <p:txBody>
            <a:bodyPr lIns="90000" rIns="90000" tIns="63360" bIns="46800" anchor="t">
              <a:no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Times New Roman"/>
                </a:rPr>
                <a:t>€</a:t>
              </a:r>
              <a:r>
                <a:rPr b="1" lang="it-IT" sz="2800" spc="-1" strike="noStrike">
                  <a:solidFill>
                    <a:srgbClr val="ffffff"/>
                  </a:solidFill>
                  <a:latin typeface="Times New Roman"/>
                </a:rPr>
                <a:t>. 500,00</a:t>
              </a:r>
              <a:endParaRPr b="0" lang="en-US" sz="2800" spc="-1" strike="noStrike">
                <a:solidFill>
                  <a:srgbClr val="ffffff"/>
                </a:solidFill>
                <a:latin typeface="Arial Rounded MT Bold"/>
              </a:endParaRPr>
            </a:p>
          </p:txBody>
        </p:sp>
        <p:sp>
          <p:nvSpPr>
            <p:cNvPr id="1409" name="Line 30"/>
            <p:cNvSpPr/>
            <p:nvPr/>
          </p:nvSpPr>
          <p:spPr>
            <a:xfrm>
              <a:off x="179280" y="1052640"/>
              <a:ext cx="4248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0" name="Line 31"/>
            <p:cNvSpPr/>
            <p:nvPr/>
          </p:nvSpPr>
          <p:spPr>
            <a:xfrm>
              <a:off x="4427640" y="1052640"/>
              <a:ext cx="2376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1" name="Line 32"/>
            <p:cNvSpPr/>
            <p:nvPr/>
          </p:nvSpPr>
          <p:spPr>
            <a:xfrm>
              <a:off x="6804000" y="1052640"/>
              <a:ext cx="216072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2" name="Line 33"/>
            <p:cNvSpPr/>
            <p:nvPr/>
          </p:nvSpPr>
          <p:spPr>
            <a:xfrm>
              <a:off x="179280" y="195084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3" name="Line 34"/>
            <p:cNvSpPr/>
            <p:nvPr/>
          </p:nvSpPr>
          <p:spPr>
            <a:xfrm>
              <a:off x="4427640" y="195084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4" name="Line 35"/>
            <p:cNvSpPr/>
            <p:nvPr/>
          </p:nvSpPr>
          <p:spPr>
            <a:xfrm>
              <a:off x="6804000" y="195084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5" name="Line 36"/>
            <p:cNvSpPr/>
            <p:nvPr/>
          </p:nvSpPr>
          <p:spPr>
            <a:xfrm>
              <a:off x="179280" y="246960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6" name="Line 37"/>
            <p:cNvSpPr/>
            <p:nvPr/>
          </p:nvSpPr>
          <p:spPr>
            <a:xfrm>
              <a:off x="4427640" y="246960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7" name="Line 38"/>
            <p:cNvSpPr/>
            <p:nvPr/>
          </p:nvSpPr>
          <p:spPr>
            <a:xfrm>
              <a:off x="6804000" y="246960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8" name="Line 39"/>
            <p:cNvSpPr/>
            <p:nvPr/>
          </p:nvSpPr>
          <p:spPr>
            <a:xfrm>
              <a:off x="179280" y="299016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19" name="Line 40"/>
            <p:cNvSpPr/>
            <p:nvPr/>
          </p:nvSpPr>
          <p:spPr>
            <a:xfrm>
              <a:off x="4427640" y="299016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0" name="Line 41"/>
            <p:cNvSpPr/>
            <p:nvPr/>
          </p:nvSpPr>
          <p:spPr>
            <a:xfrm>
              <a:off x="6804000" y="299016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1" name="Line 42"/>
            <p:cNvSpPr/>
            <p:nvPr/>
          </p:nvSpPr>
          <p:spPr>
            <a:xfrm>
              <a:off x="179280" y="351072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2" name="Line 43"/>
            <p:cNvSpPr/>
            <p:nvPr/>
          </p:nvSpPr>
          <p:spPr>
            <a:xfrm>
              <a:off x="4427640" y="351072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3" name="Line 44"/>
            <p:cNvSpPr/>
            <p:nvPr/>
          </p:nvSpPr>
          <p:spPr>
            <a:xfrm>
              <a:off x="6804000" y="351072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4" name="Line 45"/>
            <p:cNvSpPr/>
            <p:nvPr/>
          </p:nvSpPr>
          <p:spPr>
            <a:xfrm>
              <a:off x="179280" y="402948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5" name="Line 46"/>
            <p:cNvSpPr/>
            <p:nvPr/>
          </p:nvSpPr>
          <p:spPr>
            <a:xfrm>
              <a:off x="6804000" y="402948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6" name="Line 47"/>
            <p:cNvSpPr/>
            <p:nvPr/>
          </p:nvSpPr>
          <p:spPr>
            <a:xfrm>
              <a:off x="179280" y="455040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7" name="Line 48"/>
            <p:cNvSpPr/>
            <p:nvPr/>
          </p:nvSpPr>
          <p:spPr>
            <a:xfrm>
              <a:off x="4427640" y="455040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8" name="Line 49"/>
            <p:cNvSpPr/>
            <p:nvPr/>
          </p:nvSpPr>
          <p:spPr>
            <a:xfrm>
              <a:off x="6804000" y="455040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29" name="Line 50"/>
            <p:cNvSpPr/>
            <p:nvPr/>
          </p:nvSpPr>
          <p:spPr>
            <a:xfrm>
              <a:off x="179280" y="507096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0" name="Line 51"/>
            <p:cNvSpPr/>
            <p:nvPr/>
          </p:nvSpPr>
          <p:spPr>
            <a:xfrm>
              <a:off x="6804000" y="507096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1" name="Line 52"/>
            <p:cNvSpPr/>
            <p:nvPr/>
          </p:nvSpPr>
          <p:spPr>
            <a:xfrm>
              <a:off x="179280" y="558972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2" name="Line 53"/>
            <p:cNvSpPr/>
            <p:nvPr/>
          </p:nvSpPr>
          <p:spPr>
            <a:xfrm>
              <a:off x="4427640" y="5589720"/>
              <a:ext cx="2376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3" name="Line 54"/>
            <p:cNvSpPr/>
            <p:nvPr/>
          </p:nvSpPr>
          <p:spPr>
            <a:xfrm>
              <a:off x="6804000" y="558972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4" name="Line 55"/>
            <p:cNvSpPr/>
            <p:nvPr/>
          </p:nvSpPr>
          <p:spPr>
            <a:xfrm>
              <a:off x="179280" y="6110280"/>
              <a:ext cx="424836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5" name="Line 56"/>
            <p:cNvSpPr/>
            <p:nvPr/>
          </p:nvSpPr>
          <p:spPr>
            <a:xfrm>
              <a:off x="4427640" y="6110280"/>
              <a:ext cx="2376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6" name="Line 57"/>
            <p:cNvSpPr/>
            <p:nvPr/>
          </p:nvSpPr>
          <p:spPr>
            <a:xfrm>
              <a:off x="6804000" y="6110280"/>
              <a:ext cx="2160720" cy="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7" name="Line 58"/>
            <p:cNvSpPr/>
            <p:nvPr/>
          </p:nvSpPr>
          <p:spPr>
            <a:xfrm>
              <a:off x="179280" y="6629400"/>
              <a:ext cx="424836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8" name="Line 59"/>
            <p:cNvSpPr/>
            <p:nvPr/>
          </p:nvSpPr>
          <p:spPr>
            <a:xfrm>
              <a:off x="6804000" y="6629400"/>
              <a:ext cx="2160720" cy="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39" name="Line 60"/>
            <p:cNvSpPr/>
            <p:nvPr/>
          </p:nvSpPr>
          <p:spPr>
            <a:xfrm>
              <a:off x="179280" y="1052640"/>
              <a:ext cx="0" cy="898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0" name="Line 61"/>
            <p:cNvSpPr/>
            <p:nvPr/>
          </p:nvSpPr>
          <p:spPr>
            <a:xfrm>
              <a:off x="179280" y="195084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1" name="Line 62"/>
            <p:cNvSpPr/>
            <p:nvPr/>
          </p:nvSpPr>
          <p:spPr>
            <a:xfrm>
              <a:off x="179280" y="24696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2" name="Line 63"/>
            <p:cNvSpPr/>
            <p:nvPr/>
          </p:nvSpPr>
          <p:spPr>
            <a:xfrm>
              <a:off x="179280" y="299016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3" name="Line 64"/>
            <p:cNvSpPr/>
            <p:nvPr/>
          </p:nvSpPr>
          <p:spPr>
            <a:xfrm>
              <a:off x="179280" y="351072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4" name="Line 65"/>
            <p:cNvSpPr/>
            <p:nvPr/>
          </p:nvSpPr>
          <p:spPr>
            <a:xfrm>
              <a:off x="179280" y="4029480"/>
              <a:ext cx="0" cy="5205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5" name="Line 66"/>
            <p:cNvSpPr/>
            <p:nvPr/>
          </p:nvSpPr>
          <p:spPr>
            <a:xfrm>
              <a:off x="179280" y="45504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6" name="Line 67"/>
            <p:cNvSpPr/>
            <p:nvPr/>
          </p:nvSpPr>
          <p:spPr>
            <a:xfrm>
              <a:off x="179280" y="507096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7" name="Line 68"/>
            <p:cNvSpPr/>
            <p:nvPr/>
          </p:nvSpPr>
          <p:spPr>
            <a:xfrm>
              <a:off x="179280" y="558972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8" name="Line 69"/>
            <p:cNvSpPr/>
            <p:nvPr/>
          </p:nvSpPr>
          <p:spPr>
            <a:xfrm>
              <a:off x="179280" y="611028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49" name="Line 70"/>
            <p:cNvSpPr/>
            <p:nvPr/>
          </p:nvSpPr>
          <p:spPr>
            <a:xfrm>
              <a:off x="4427640" y="1052640"/>
              <a:ext cx="0" cy="898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0" name="Line 71"/>
            <p:cNvSpPr/>
            <p:nvPr/>
          </p:nvSpPr>
          <p:spPr>
            <a:xfrm>
              <a:off x="4427640" y="195084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1" name="Line 72"/>
            <p:cNvSpPr/>
            <p:nvPr/>
          </p:nvSpPr>
          <p:spPr>
            <a:xfrm>
              <a:off x="4427640" y="24696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2" name="Line 73"/>
            <p:cNvSpPr/>
            <p:nvPr/>
          </p:nvSpPr>
          <p:spPr>
            <a:xfrm>
              <a:off x="4427640" y="299016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3" name="Line 74"/>
            <p:cNvSpPr/>
            <p:nvPr/>
          </p:nvSpPr>
          <p:spPr>
            <a:xfrm>
              <a:off x="4427640" y="351072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4" name="Line 75"/>
            <p:cNvSpPr/>
            <p:nvPr/>
          </p:nvSpPr>
          <p:spPr>
            <a:xfrm>
              <a:off x="4427640" y="4029480"/>
              <a:ext cx="0" cy="5205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5" name="Line 76"/>
            <p:cNvSpPr/>
            <p:nvPr/>
          </p:nvSpPr>
          <p:spPr>
            <a:xfrm>
              <a:off x="4427640" y="45504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6" name="Line 77"/>
            <p:cNvSpPr/>
            <p:nvPr/>
          </p:nvSpPr>
          <p:spPr>
            <a:xfrm>
              <a:off x="4427640" y="507096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7" name="Line 78"/>
            <p:cNvSpPr/>
            <p:nvPr/>
          </p:nvSpPr>
          <p:spPr>
            <a:xfrm>
              <a:off x="4427640" y="558972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8" name="Line 79"/>
            <p:cNvSpPr/>
            <p:nvPr/>
          </p:nvSpPr>
          <p:spPr>
            <a:xfrm>
              <a:off x="4427640" y="611028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59" name="Line 80"/>
            <p:cNvSpPr/>
            <p:nvPr/>
          </p:nvSpPr>
          <p:spPr>
            <a:xfrm>
              <a:off x="6804000" y="1052640"/>
              <a:ext cx="0" cy="898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0" name="Line 81"/>
            <p:cNvSpPr/>
            <p:nvPr/>
          </p:nvSpPr>
          <p:spPr>
            <a:xfrm>
              <a:off x="6804000" y="195084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1" name="Line 82"/>
            <p:cNvSpPr/>
            <p:nvPr/>
          </p:nvSpPr>
          <p:spPr>
            <a:xfrm>
              <a:off x="6804000" y="246960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2" name="Line 83"/>
            <p:cNvSpPr/>
            <p:nvPr/>
          </p:nvSpPr>
          <p:spPr>
            <a:xfrm>
              <a:off x="6804000" y="299016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3" name="Line 84"/>
            <p:cNvSpPr/>
            <p:nvPr/>
          </p:nvSpPr>
          <p:spPr>
            <a:xfrm>
              <a:off x="6804000" y="4029480"/>
              <a:ext cx="0" cy="5205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4" name="Line 85"/>
            <p:cNvSpPr/>
            <p:nvPr/>
          </p:nvSpPr>
          <p:spPr>
            <a:xfrm>
              <a:off x="6804000" y="5070960"/>
              <a:ext cx="0" cy="51876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5" name="Line 86"/>
            <p:cNvSpPr/>
            <p:nvPr/>
          </p:nvSpPr>
          <p:spPr>
            <a:xfrm>
              <a:off x="6804000" y="5589720"/>
              <a:ext cx="0" cy="520200"/>
            </a:xfrm>
            <a:prstGeom prst="line">
              <a:avLst/>
            </a:prstGeom>
            <a:ln w="57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6" name="Line 87"/>
            <p:cNvSpPr/>
            <p:nvPr/>
          </p:nvSpPr>
          <p:spPr>
            <a:xfrm>
              <a:off x="8964720" y="1052640"/>
              <a:ext cx="0" cy="898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7" name="Line 88"/>
            <p:cNvSpPr/>
            <p:nvPr/>
          </p:nvSpPr>
          <p:spPr>
            <a:xfrm>
              <a:off x="8964720" y="195084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8" name="Line 89"/>
            <p:cNvSpPr/>
            <p:nvPr/>
          </p:nvSpPr>
          <p:spPr>
            <a:xfrm>
              <a:off x="8964720" y="24696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69" name="Line 90"/>
            <p:cNvSpPr/>
            <p:nvPr/>
          </p:nvSpPr>
          <p:spPr>
            <a:xfrm>
              <a:off x="8964720" y="299016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0" name="Line 91"/>
            <p:cNvSpPr/>
            <p:nvPr/>
          </p:nvSpPr>
          <p:spPr>
            <a:xfrm>
              <a:off x="8964720" y="351072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1" name="Line 92"/>
            <p:cNvSpPr/>
            <p:nvPr/>
          </p:nvSpPr>
          <p:spPr>
            <a:xfrm>
              <a:off x="8964720" y="4029480"/>
              <a:ext cx="0" cy="5205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2" name="Line 93"/>
            <p:cNvSpPr/>
            <p:nvPr/>
          </p:nvSpPr>
          <p:spPr>
            <a:xfrm>
              <a:off x="8964720" y="455040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3" name="Line 94"/>
            <p:cNvSpPr/>
            <p:nvPr/>
          </p:nvSpPr>
          <p:spPr>
            <a:xfrm>
              <a:off x="8964720" y="507096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4" name="Line 95"/>
            <p:cNvSpPr/>
            <p:nvPr/>
          </p:nvSpPr>
          <p:spPr>
            <a:xfrm>
              <a:off x="8964720" y="5589720"/>
              <a:ext cx="0" cy="52020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sp>
          <p:nvSpPr>
            <p:cNvPr id="1475" name="Line 96"/>
            <p:cNvSpPr/>
            <p:nvPr/>
          </p:nvSpPr>
          <p:spPr>
            <a:xfrm>
              <a:off x="8964720" y="6110280"/>
              <a:ext cx="0" cy="518760"/>
            </a:xfrm>
            <a:prstGeom prst="line">
              <a:avLst/>
            </a:prstGeom>
            <a:ln w="136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Rounded MT Bold"/>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ACAAF-223C-40EE-9858-58F2A6AA642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77"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78" name="Text Box 3"/>
          <p:cNvSpPr/>
          <p:nvPr/>
        </p:nvSpPr>
        <p:spPr>
          <a:xfrm>
            <a:off x="0" y="1165320"/>
            <a:ext cx="8964720" cy="507672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Calibri"/>
              </a:rPr>
              <a:t>PROCEDURA  di Accreditamento AVCP PER </a:t>
            </a:r>
            <a:endParaRPr b="0" lang="en-US" sz="2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ffff00"/>
                </a:solidFill>
                <a:latin typeface="Calibri"/>
              </a:rPr>
              <a:t>APPALTI di SERVIZI E FORNITURE </a:t>
            </a:r>
            <a:endParaRPr b="0" lang="en-US" sz="2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a stazione appaltante che intende avviare una procedura per lavori, opere pubbliche o acquisizione di forniture e servizi deve procedere ad una richiesta di accreditamento, tramite l’indirizzo </a:t>
            </a:r>
            <a:r>
              <a:rPr b="1" lang="it-IT" sz="2000" spc="-1" strike="noStrike" u="sng">
                <a:solidFill>
                  <a:srgbClr val="ffff00"/>
                </a:solidFill>
                <a:uFillTx/>
                <a:latin typeface="Calibri"/>
              </a:rPr>
              <a:t>https://anagrafe.avcp.it.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Tale La richiesta deve essere inoltrata da un dipendente (o più dipendenti), che assumerà la figura di</a:t>
            </a:r>
            <a:r>
              <a:rPr b="1" lang="it-IT" sz="2000" spc="-1" strike="noStrike">
                <a:solidFill>
                  <a:srgbClr val="ffcc66"/>
                </a:solidFill>
                <a:latin typeface="Calibri"/>
              </a:rPr>
              <a:t> </a:t>
            </a:r>
            <a:r>
              <a:rPr b="1" lang="it-IT" sz="2000" spc="-1" strike="noStrike" u="sng">
                <a:solidFill>
                  <a:srgbClr val="ffff00"/>
                </a:solidFill>
                <a:uFillTx/>
                <a:latin typeface="Calibri"/>
              </a:rPr>
              <a:t>“Responsabile SIMOG stazione appaltante - RSSA”</a:t>
            </a:r>
            <a:r>
              <a:rPr b="1" lang="it-IT" sz="2000" spc="-1" strike="noStrike">
                <a:solidFill>
                  <a:srgbClr val="ffff00"/>
                </a:solidFill>
                <a:latin typeface="Calibri"/>
              </a:rPr>
              <a:t> </a:t>
            </a:r>
            <a:r>
              <a:rPr b="1" lang="it-IT" sz="2000" spc="-1" strike="noStrike">
                <a:solidFill>
                  <a:srgbClr val="ffffff"/>
                </a:solidFill>
                <a:latin typeface="Calibri"/>
              </a:rPr>
              <a:t>che dovrà provvedere all’inserimento del lotto (o dei lotti) che formano il bando di gara.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Il </a:t>
            </a:r>
            <a:r>
              <a:rPr b="1" lang="it-IT" sz="2000" spc="-1" strike="noStrike" u="sng">
                <a:solidFill>
                  <a:srgbClr val="ffff00"/>
                </a:solidFill>
                <a:uFillTx/>
                <a:latin typeface="Calibri"/>
              </a:rPr>
              <a:t>RSSA</a:t>
            </a:r>
            <a:r>
              <a:rPr b="1" lang="it-IT" sz="2000" spc="-1" strike="noStrike">
                <a:solidFill>
                  <a:srgbClr val="ffff00"/>
                </a:solidFill>
                <a:latin typeface="Calibri"/>
              </a:rPr>
              <a:t>, </a:t>
            </a:r>
            <a:r>
              <a:rPr b="1" lang="it-IT" sz="2000" spc="-1" strike="noStrike">
                <a:solidFill>
                  <a:srgbClr val="ffffff"/>
                </a:solidFill>
                <a:latin typeface="Calibri"/>
              </a:rPr>
              <a:t>dopo la predetta registrazione, si potrà collegare con il </a:t>
            </a:r>
            <a:r>
              <a:rPr b="1" lang="it-IT" sz="2000" spc="-1" strike="noStrike" u="sng">
                <a:solidFill>
                  <a:srgbClr val="ffff00"/>
                </a:solidFill>
                <a:uFillTx/>
                <a:latin typeface="Calibri"/>
              </a:rPr>
              <a:t>SIMOG</a:t>
            </a:r>
            <a:r>
              <a:rPr b="1" lang="it-IT" sz="2000" spc="-1" strike="noStrike">
                <a:solidFill>
                  <a:srgbClr val="ffff00"/>
                </a:solidFill>
                <a:latin typeface="Calibri"/>
              </a:rPr>
              <a:t> </a:t>
            </a:r>
            <a:r>
              <a:rPr b="1" lang="it-IT" sz="2000" spc="-1" strike="noStrike" u="sng">
                <a:solidFill>
                  <a:srgbClr val="ffff00"/>
                </a:solidFill>
                <a:uFillTx/>
                <a:latin typeface="Calibri"/>
              </a:rPr>
              <a:t>all’indirizzo www.avcp.it</a:t>
            </a:r>
            <a:r>
              <a:rPr b="1" lang="it-IT" sz="2000" spc="-1" strike="noStrike">
                <a:solidFill>
                  <a:srgbClr val="ffff00"/>
                </a:solidFill>
                <a:latin typeface="Calibri"/>
              </a:rPr>
              <a:t> </a:t>
            </a:r>
            <a:r>
              <a:rPr b="1" lang="it-IT" sz="2000" spc="-1" strike="noStrike">
                <a:solidFill>
                  <a:srgbClr val="ffffff"/>
                </a:solidFill>
                <a:latin typeface="Calibri"/>
              </a:rPr>
              <a:t>e ricevere un numero identificativo che sarà denominato </a:t>
            </a:r>
            <a:r>
              <a:rPr b="1" lang="it-IT" sz="2000" spc="-1" strike="noStrike" u="sng">
                <a:solidFill>
                  <a:srgbClr val="ffff00"/>
                </a:solidFill>
                <a:uFillTx/>
                <a:latin typeface="Calibri"/>
              </a:rPr>
              <a:t>“ NUMERO di GARA” </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Per le gare suddivise in lotti ci sarà </a:t>
            </a:r>
            <a:r>
              <a:rPr b="1" lang="it-IT" sz="2000" spc="-1" strike="noStrike" u="sng">
                <a:solidFill>
                  <a:srgbClr val="ffff00"/>
                </a:solidFill>
                <a:uFillTx/>
                <a:latin typeface="Calibri"/>
              </a:rPr>
              <a:t>un CIG per ogni lotto</a:t>
            </a:r>
            <a:r>
              <a:rPr b="1" lang="it-IT" sz="2000" spc="-1" strike="noStrike">
                <a:solidFill>
                  <a:srgbClr val="ffff00"/>
                </a:solidFill>
                <a:latin typeface="Calibri"/>
              </a:rPr>
              <a:t> </a:t>
            </a:r>
            <a:r>
              <a:rPr b="1" lang="it-IT" sz="2000" spc="-1" strike="noStrike">
                <a:solidFill>
                  <a:srgbClr val="ffffff"/>
                </a:solidFill>
                <a:latin typeface="Calibri"/>
              </a:rPr>
              <a:t>con l’importo di contribuzione a carico degli operatori che parteciperanno , poi, alla gara. </a:t>
            </a:r>
            <a:endParaRPr b="0" lang="en-US" sz="2000" spc="-1" strike="noStrike">
              <a:solidFill>
                <a:srgbClr val="ffffff"/>
              </a:solidFill>
              <a:latin typeface="Arial Rounded MT Bol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B31F1-D8BD-4732-B847-DB0F3B12547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0"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81" name="Text Box 3"/>
          <p:cNvSpPr/>
          <p:nvPr/>
        </p:nvSpPr>
        <p:spPr>
          <a:xfrm>
            <a:off x="0" y="907920"/>
            <a:ext cx="8964720" cy="62787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cc66"/>
                </a:solidFill>
                <a:latin typeface="Calibri"/>
              </a:rPr>
              <a:t>MODALITA’ di REGISTRAZIONE  ALL’ ANAGRAFE </a:t>
            </a:r>
            <a:endParaRPr b="0" lang="en-US" sz="32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cc66"/>
                </a:solidFill>
                <a:latin typeface="Calibri"/>
              </a:rPr>
              <a:t>PER L’ ACCESSO AI SERVIZI DELL’AUTORITÀ</a:t>
            </a:r>
            <a:endParaRPr b="0" lang="en-US" sz="32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rocedura modulata in due fasi:</a:t>
            </a:r>
            <a:endParaRPr b="0" lang="en-US" sz="2800" spc="-1" strike="noStrike">
              <a:solidFill>
                <a:srgbClr val="ffffff"/>
              </a:solidFill>
              <a:latin typeface="Arial Rounded MT Bold"/>
            </a:endParaRPr>
          </a:p>
          <a:p>
            <a:pPr marL="343080" indent="-341640" algn="just">
              <a:lnSpc>
                <a:spcPct val="100000"/>
              </a:lnSpc>
              <a:spcBef>
                <a:spcPts val="1250"/>
              </a:spcBef>
              <a:buClr>
                <a:srgbClr val="3366ff"/>
              </a:buClr>
              <a:buFont typeface="Calibri"/>
              <a:buAutoNum type="arabi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u="sng">
                <a:solidFill>
                  <a:srgbClr val="00ff00"/>
                </a:solidFill>
                <a:uFillTx/>
                <a:latin typeface="Calibri"/>
              </a:rPr>
              <a:t>ISCRIZIONE UTENTE</a:t>
            </a:r>
            <a:r>
              <a:rPr b="1" lang="it-IT" sz="2000" spc="-1" strike="noStrike">
                <a:solidFill>
                  <a:srgbClr val="00ff00"/>
                </a:solidFill>
                <a:latin typeface="Calibri"/>
              </a:rPr>
              <a:t> </a:t>
            </a:r>
            <a:r>
              <a:rPr b="1" lang="it-IT" sz="2000" spc="-1" strike="noStrike">
                <a:solidFill>
                  <a:srgbClr val="ffffff"/>
                </a:solidFill>
                <a:latin typeface="Calibri"/>
              </a:rPr>
              <a:t>-</a:t>
            </a:r>
            <a:r>
              <a:rPr b="1" lang="it-IT" sz="2000" spc="-1" strike="noStrike">
                <a:solidFill>
                  <a:srgbClr val="ffcc66"/>
                </a:solidFill>
                <a:latin typeface="Calibri"/>
              </a:rPr>
              <a:t> </a:t>
            </a:r>
            <a:r>
              <a:rPr b="1" lang="it-IT" sz="2000" spc="-1" strike="noStrike">
                <a:solidFill>
                  <a:srgbClr val="ffffff"/>
                </a:solidFill>
                <a:latin typeface="Calibri"/>
              </a:rPr>
              <a:t>Collegarsi al sito </a:t>
            </a:r>
            <a:r>
              <a:rPr b="1" lang="it-IT" sz="2000" spc="-1" strike="noStrike">
                <a:solidFill>
                  <a:srgbClr val="ffff00"/>
                </a:solidFill>
                <a:latin typeface="Calibri"/>
              </a:rPr>
              <a:t>http://anagrafe.avcp.it, </a:t>
            </a:r>
            <a:r>
              <a:rPr b="1" lang="it-IT" sz="2000" spc="-1" strike="noStrike">
                <a:solidFill>
                  <a:srgbClr val="ffffff"/>
                </a:solidFill>
                <a:latin typeface="Calibri"/>
              </a:rPr>
              <a:t>fornire il proprio codice fiscale ed indirizzo di posta elettronica, compilare i vari campi e digitare una password di 4 caratteri. Il sistema in automatico invierà all’indirizzo di posta elettronica indicato nel passo precedente, la seconda parte della password, sempre di 4 caratteri, da aggiungere ai 4 inseriti in precedenza. Entro 72 ore dall’ora di invio dell’e-mail accedendo all’apposito link  indicato dal sistema si dovrà confermare l’iscrizione. In mancanza la richiesta di accreditamento sarà annullata in automatico dal sistema stesso.</a:t>
            </a:r>
            <a:endParaRPr b="0" lang="en-US" sz="2000" spc="-1" strike="noStrike">
              <a:solidFill>
                <a:srgbClr val="ffffff"/>
              </a:solidFill>
              <a:latin typeface="Arial Rounded MT Bold"/>
            </a:endParaRPr>
          </a:p>
          <a:p>
            <a:pPr marL="343080" indent="-341640" algn="just">
              <a:lnSpc>
                <a:spcPct val="100000"/>
              </a:lnSpc>
              <a:spcBef>
                <a:spcPts val="1250"/>
              </a:spcBef>
              <a:buClr>
                <a:srgbClr val="3366ff"/>
              </a:buClr>
              <a:buFont typeface="Calibri"/>
              <a:buAutoNum type="arabicParen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u="sng">
                <a:solidFill>
                  <a:srgbClr val="00ff00"/>
                </a:solidFill>
                <a:uFillTx/>
                <a:latin typeface="Calibri"/>
              </a:rPr>
              <a:t>DICHIARAZIONE COLLABORAZIONI E PROFILI UTENTE</a:t>
            </a:r>
            <a:r>
              <a:rPr b="1" lang="it-IT" sz="2000" spc="-1" strike="noStrike">
                <a:solidFill>
                  <a:srgbClr val="00ff00"/>
                </a:solidFill>
                <a:latin typeface="Calibri"/>
              </a:rPr>
              <a:t> </a:t>
            </a:r>
            <a:r>
              <a:rPr b="1" lang="it-IT" sz="2000" spc="-1" strike="noStrike">
                <a:solidFill>
                  <a:srgbClr val="ffffff"/>
                </a:solidFill>
                <a:latin typeface="Calibri"/>
              </a:rPr>
              <a:t>- Completata la prima fase della registrazione, </a:t>
            </a:r>
            <a:r>
              <a:rPr b="1" lang="it-IT" sz="2000" spc="-1" strike="noStrike">
                <a:solidFill>
                  <a:srgbClr val="ffff00"/>
                </a:solidFill>
                <a:latin typeface="Calibri"/>
              </a:rPr>
              <a:t>riaccedere al sito http://anagrafe.avcp.it,</a:t>
            </a:r>
            <a:r>
              <a:rPr b="1" lang="it-IT" sz="2000" spc="-1" strike="noStrike">
                <a:solidFill>
                  <a:srgbClr val="ffcc66"/>
                </a:solidFill>
                <a:latin typeface="Calibri"/>
              </a:rPr>
              <a:t> </a:t>
            </a:r>
            <a:r>
              <a:rPr b="1" lang="it-IT" sz="2000" spc="-1" strike="noStrike">
                <a:solidFill>
                  <a:srgbClr val="ffffff"/>
                </a:solidFill>
                <a:latin typeface="Calibri"/>
              </a:rPr>
              <a:t>inserire di nuovo</a:t>
            </a:r>
            <a:r>
              <a:rPr b="1" lang="it-IT" sz="2000" spc="-1" strike="noStrike">
                <a:solidFill>
                  <a:srgbClr val="ffcc66"/>
                </a:solidFill>
                <a:latin typeface="Calibri"/>
              </a:rPr>
              <a:t> </a:t>
            </a:r>
            <a:r>
              <a:rPr b="1" lang="it-IT" sz="2000" spc="-1" strike="noStrike">
                <a:solidFill>
                  <a:srgbClr val="ffff00"/>
                </a:solidFill>
                <a:latin typeface="Calibri"/>
              </a:rPr>
              <a:t>il proprio codice fiscale e la password di 8 caratteri, </a:t>
            </a:r>
            <a:r>
              <a:rPr b="1" lang="it-IT" sz="2000" spc="-1" strike="noStrike">
                <a:solidFill>
                  <a:srgbClr val="ffffff"/>
                </a:solidFill>
                <a:latin typeface="Calibri"/>
              </a:rPr>
              <a:t>fornire il codice fiscale dell’Amministrazione utilizzando la funzione</a:t>
            </a:r>
            <a:r>
              <a:rPr b="1" lang="it-IT" sz="2000" spc="-1" strike="noStrike">
                <a:solidFill>
                  <a:srgbClr val="ffcc66"/>
                </a:solidFill>
                <a:latin typeface="Calibri"/>
              </a:rPr>
              <a:t> </a:t>
            </a:r>
            <a:r>
              <a:rPr b="1" lang="it-IT" sz="2000" spc="-1" strike="noStrike">
                <a:solidFill>
                  <a:srgbClr val="ffff00"/>
                </a:solidFill>
                <a:latin typeface="Calibri"/>
              </a:rPr>
              <a:t>“gestione stazioni appaltanti”.</a:t>
            </a:r>
            <a:endParaRPr b="0" lang="en-US" sz="2000" spc="-1" strike="noStrike">
              <a:solidFill>
                <a:srgbClr val="ffffff"/>
              </a:solidFill>
              <a:latin typeface="Arial Rounded MT Bold"/>
            </a:endParaRPr>
          </a:p>
          <a:p>
            <a:pPr marL="343080" indent="-341640" algn="just">
              <a:lnSpc>
                <a:spcPct val="100000"/>
              </a:lnSpc>
              <a:spcBef>
                <a:spcPts val="12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1"/>
          <p:cNvSpPr/>
          <p:nvPr/>
        </p:nvSpPr>
        <p:spPr>
          <a:xfrm>
            <a:off x="0" y="907920"/>
            <a:ext cx="9144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66ffff"/>
                </a:solidFill>
                <a:latin typeface="Calibri"/>
              </a:rPr>
              <a:t>A questo punto si  visualizzerà una maschera contenente:</a:t>
            </a:r>
            <a:endParaRPr b="0" lang="en-US" sz="2600" spc="-1" strike="noStrike">
              <a:solidFill>
                <a:srgbClr val="ffffff"/>
              </a:solidFill>
              <a:latin typeface="Arial Rounded MT Bold"/>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il codice fiscale validato dall’ Agenzia delle Entrate;</a:t>
            </a:r>
            <a:endParaRPr b="0" lang="en-US" sz="2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il nome dell’Amministrazione; </a:t>
            </a:r>
            <a:endParaRPr b="0" lang="en-US" sz="2000" spc="-1" strike="noStrike">
              <a:solidFill>
                <a:srgbClr val="ffffff"/>
              </a:solidFill>
              <a:latin typeface="Arial Rounded MT Bold"/>
            </a:endParaRPr>
          </a:p>
          <a:p>
            <a:pPr marL="343080" indent="-341640">
              <a:lnSpc>
                <a:spcPct val="100000"/>
              </a:lnSpc>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00ff00"/>
                </a:solidFill>
                <a:latin typeface="Calibri"/>
              </a:rPr>
              <a:t>   </a:t>
            </a:r>
            <a:r>
              <a:rPr b="1" lang="it-IT" sz="2000" spc="-1" strike="noStrike">
                <a:solidFill>
                  <a:srgbClr val="00ff00"/>
                </a:solidFill>
                <a:latin typeface="Calibri"/>
              </a:rPr>
              <a:t>l’elenco delle Stazioni Appaltanti già conosciute al sistema;</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 Se l’operatore individua la Stazione appaltante </a:t>
            </a:r>
            <a:r>
              <a:rPr b="1" lang="it-IT" sz="2000" spc="-1" strike="noStrike">
                <a:solidFill>
                  <a:srgbClr val="ffffff"/>
                </a:solidFill>
                <a:latin typeface="Calibri"/>
              </a:rPr>
              <a:t>con cui lavora  tra quelle note al sistema cliccherà sulla sua denominazione per confermare/aggiornare i dati presenti al sistema;</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00"/>
                </a:solidFill>
                <a:latin typeface="Calibri"/>
              </a:rPr>
              <a:t>Se l’operatore non individua la Stazione appaltante </a:t>
            </a:r>
            <a:r>
              <a:rPr b="1" lang="it-IT" sz="2000" spc="-1" strike="noStrike">
                <a:solidFill>
                  <a:srgbClr val="ffffff"/>
                </a:solidFill>
                <a:latin typeface="Calibri"/>
              </a:rPr>
              <a:t>con cui lavora tra quelle note al sistema utilizzerà la funzione “ Inserisci Nuovo” per  inserirla .</a:t>
            </a:r>
            <a:endParaRPr b="0" lang="en-US" sz="2000" spc="-1" strike="noStrike">
              <a:solidFill>
                <a:srgbClr val="ffffff"/>
              </a:solidFill>
              <a:latin typeface="Arial Rounded MT Bold"/>
            </a:endParaRPr>
          </a:p>
          <a:p>
            <a:pPr marL="343080" indent="-341640">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Una volta inseriti tutti i dati relativi alla Stazione appaltante di riferimento si deve indicare il ruolo rivestito dall’operatore all’interno di tale “Stazione”.</a:t>
            </a:r>
            <a:endParaRPr b="0" lang="en-US" sz="2000" spc="-1" strike="noStrike">
              <a:solidFill>
                <a:srgbClr val="ffffff"/>
              </a:solidFill>
              <a:latin typeface="Arial Rounded MT Bold"/>
            </a:endParaRPr>
          </a:p>
          <a:p>
            <a:pPr marL="343080" indent="-341640" algn="just">
              <a:lnSpc>
                <a:spcPct val="100000"/>
              </a:lnSpc>
              <a:spcBef>
                <a:spcPts val="4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Qualora fosse necessario inviare, a mezzo fax, una dichiarazione sostitutiva di atto notorio con allegata copia di in documento di riconoscimento in corso di validità si precisa che quest’ ultimo </a:t>
            </a:r>
            <a:r>
              <a:rPr b="1" lang="it-IT" sz="2000" spc="-1" strike="noStrike">
                <a:solidFill>
                  <a:srgbClr val="ffff00"/>
                </a:solidFill>
                <a:latin typeface="Calibri"/>
              </a:rPr>
              <a:t>deve appartenere al legale rappresentante della Stazione Appaltante </a:t>
            </a:r>
            <a:r>
              <a:rPr b="1" lang="it-IT" sz="2000" spc="-1" strike="noStrike">
                <a:solidFill>
                  <a:srgbClr val="ffffff"/>
                </a:solidFill>
                <a:latin typeface="Calibri"/>
              </a:rPr>
              <a:t>e non all’utente per il quale è richiesta l’abilitazione.</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
        <p:nvSpPr>
          <p:cNvPr id="148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FC213-BAF8-4102-B007-AB3D340B179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5B0A9-BBA5-4257-B933-843A81CFFE8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6"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87" name="Text Box 3"/>
          <p:cNvSpPr/>
          <p:nvPr/>
        </p:nvSpPr>
        <p:spPr>
          <a:xfrm>
            <a:off x="179280" y="736560"/>
            <a:ext cx="8785440" cy="629460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00ff00"/>
                </a:solidFill>
                <a:latin typeface="Calibri"/>
              </a:rPr>
              <a:t>MODALITA’ di PAGAMENTO DEL CONTRIBUTO</a:t>
            </a:r>
            <a:endParaRPr b="0" lang="en-US" sz="3200" spc="-1" strike="noStrike">
              <a:solidFill>
                <a:srgbClr val="ffffff"/>
              </a:solidFill>
              <a:latin typeface="Arial Rounded MT Bold"/>
            </a:endParaRPr>
          </a:p>
          <a:p>
            <a:pPr marL="343080" indent="-341640" algn="ctr">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1)</a:t>
            </a:r>
            <a:r>
              <a:rPr b="0" lang="it-IT" sz="1800" spc="-1" strike="noStrike">
                <a:solidFill>
                  <a:srgbClr val="ffffff"/>
                </a:solidFill>
                <a:latin typeface="Calibri"/>
              </a:rPr>
              <a:t>	</a:t>
            </a:r>
            <a:r>
              <a:rPr b="1" lang="it-IT" sz="1800" spc="-1" strike="noStrike">
                <a:solidFill>
                  <a:srgbClr val="ffffff"/>
                </a:solidFill>
                <a:latin typeface="Calibri"/>
              </a:rPr>
              <a:t>Tramite</a:t>
            </a:r>
            <a:r>
              <a:rPr b="0" lang="it-IT" sz="1800" spc="-1" strike="noStrike">
                <a:solidFill>
                  <a:srgbClr val="ffffff"/>
                </a:solidFill>
                <a:latin typeface="Calibri"/>
              </a:rPr>
              <a:t> </a:t>
            </a:r>
            <a:r>
              <a:rPr b="1" lang="it-IT" sz="1800" spc="-1" strike="noStrike">
                <a:solidFill>
                  <a:srgbClr val="ffffff"/>
                </a:solidFill>
                <a:latin typeface="Calibri"/>
              </a:rPr>
              <a:t>il “Servizio ON-LINE riscossione dei contributi” disponibile sul sito dell’Autorità (art.6) all’indirizzo </a:t>
            </a:r>
            <a:r>
              <a:rPr b="0" lang="it-IT" sz="1800" spc="-1" strike="noStrike" u="sng">
                <a:solidFill>
                  <a:srgbClr val="ccccff"/>
                </a:solidFill>
                <a:uFillTx/>
                <a:latin typeface="Calibri"/>
                <a:hlinkClick r:id="rId1"/>
              </a:rPr>
              <a:t>http://www.avcp.it</a:t>
            </a:r>
            <a:r>
              <a:rPr b="1" lang="it-IT" sz="1800" spc="-1" strike="noStrike">
                <a:solidFill>
                  <a:srgbClr val="ffff00"/>
                </a:solidFill>
                <a:latin typeface="Calibri"/>
              </a:rPr>
              <a:t> </a:t>
            </a:r>
            <a:r>
              <a:rPr b="1" lang="it-IT" sz="1800" spc="-1" strike="noStrike">
                <a:solidFill>
                  <a:srgbClr val="ffffff"/>
                </a:solidFill>
                <a:latin typeface="Calibri"/>
              </a:rPr>
              <a:t>con :. </a:t>
            </a:r>
            <a:r>
              <a:rPr b="1" lang="it-IT" sz="1800" spc="-1" strike="noStrike">
                <a:solidFill>
                  <a:srgbClr val="ffff00"/>
                </a:solidFill>
                <a:latin typeface="Calibri"/>
              </a:rPr>
              <a:t>cartapostepay;</a:t>
            </a:r>
            <a:r>
              <a:rPr b="0" lang="it-IT" sz="1800" spc="-1" strike="noStrike">
                <a:solidFill>
                  <a:srgbClr val="ffff00"/>
                </a:solidFill>
                <a:latin typeface="Calibri"/>
              </a:rPr>
              <a:t> </a:t>
            </a:r>
            <a:r>
              <a:rPr b="1" lang="it-IT" sz="1800" spc="-1" strike="noStrike">
                <a:solidFill>
                  <a:srgbClr val="ffff00"/>
                </a:solidFill>
                <a:latin typeface="Calibri"/>
              </a:rPr>
              <a:t>conto Banco posta online;</a:t>
            </a:r>
            <a:r>
              <a:rPr b="0" lang="it-IT" sz="1800" spc="-1" strike="noStrike">
                <a:solidFill>
                  <a:srgbClr val="ffff00"/>
                </a:solidFill>
                <a:latin typeface="Calibri"/>
              </a:rPr>
              <a:t> </a:t>
            </a:r>
            <a:r>
              <a:rPr b="1" lang="it-IT" sz="1800" spc="-1" strike="noStrike">
                <a:solidFill>
                  <a:srgbClr val="ffff00"/>
                </a:solidFill>
                <a:latin typeface="Calibri"/>
              </a:rPr>
              <a:t> Banco posta impresa online;</a:t>
            </a:r>
            <a:r>
              <a:rPr b="0" lang="it-IT" sz="1800" spc="-1" strike="noStrike">
                <a:solidFill>
                  <a:srgbClr val="ffff00"/>
                </a:solidFill>
                <a:latin typeface="Calibri"/>
              </a:rPr>
              <a:t> </a:t>
            </a:r>
            <a:r>
              <a:rPr b="1" lang="it-IT" sz="1800" spc="-1" strike="noStrike">
                <a:solidFill>
                  <a:srgbClr val="ffff00"/>
                </a:solidFill>
                <a:latin typeface="Calibri"/>
              </a:rPr>
              <a:t>carta di credito Visa o Mastercard.</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	</a:t>
            </a:r>
            <a:r>
              <a:rPr b="1" lang="it-IT" sz="1800" spc="-1" strike="noStrike">
                <a:solidFill>
                  <a:srgbClr val="ffffff"/>
                </a:solidFill>
                <a:latin typeface="Calibri"/>
              </a:rPr>
              <a:t> </a:t>
            </a:r>
            <a:r>
              <a:rPr b="1" lang="it-IT" sz="1800" spc="-1" strike="noStrike">
                <a:solidFill>
                  <a:srgbClr val="ffffff"/>
                </a:solidFill>
                <a:latin typeface="Calibri"/>
              </a:rPr>
              <a:t>Il servizio invierà in automatico una ricevuta scaricabile</a:t>
            </a:r>
            <a:r>
              <a:rPr b="0" lang="it-IT" sz="1800" spc="-1" strike="noStrike">
                <a:solidFill>
                  <a:srgbClr val="ffffff"/>
                </a:solidFill>
                <a:latin typeface="Calibri"/>
              </a:rPr>
              <a:t> </a:t>
            </a:r>
            <a:r>
              <a:rPr b="1" lang="it-IT" sz="1800" spc="-1" strike="noStrike">
                <a:solidFill>
                  <a:srgbClr val="ffffff"/>
                </a:solidFill>
                <a:latin typeface="Calibri"/>
              </a:rPr>
              <a:t>nella sezione </a:t>
            </a:r>
            <a:r>
              <a:rPr b="1" lang="it-IT" sz="1800" spc="-1" strike="noStrike">
                <a:solidFill>
                  <a:srgbClr val="ffff00"/>
                </a:solidFill>
                <a:latin typeface="Calibri"/>
              </a:rPr>
              <a:t>“Archivio dei Pagament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2)   Tramite versamento sul conto corrente postale nr. 73582561 – IBAN: IT 75 Y 07601 03200 0000 73582561 (BIC/SWIFT BPPII-TRRXXX) intestato a “AUT. CONTR. PUBB.”  via Di Ripetta n.246 – 00186 ROMA – Cod. Fisc. 97163520584 , con causal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cc00"/>
                </a:solidFill>
                <a:latin typeface="Calibri"/>
              </a:rPr>
              <a:t>        </a:t>
            </a:r>
            <a:r>
              <a:rPr b="1" lang="it-IT" sz="1800" spc="-1" strike="noStrike">
                <a:solidFill>
                  <a:srgbClr val="ffff00"/>
                </a:solidFill>
                <a:latin typeface="Calibri"/>
              </a:rPr>
              <a:t>1) codice fiscale della stazione appaltant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00"/>
                </a:solidFill>
                <a:latin typeface="Calibri"/>
              </a:rPr>
              <a:t>        </a:t>
            </a:r>
            <a:r>
              <a:rPr b="1" lang="it-IT" sz="1800" spc="-1" strike="noStrike">
                <a:solidFill>
                  <a:srgbClr val="ffff00"/>
                </a:solidFill>
                <a:latin typeface="Calibri"/>
              </a:rPr>
              <a:t>2) il numero della gara che identifica tutta la procedura.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cc00"/>
                </a:solidFill>
                <a:latin typeface="Calibri"/>
              </a:rPr>
              <a:t>        </a:t>
            </a:r>
            <a:r>
              <a:rPr b="1" lang="it-IT" sz="1800" spc="-1" strike="noStrike">
                <a:solidFill>
                  <a:srgbClr val="ffcc66"/>
                </a:solidFill>
                <a:latin typeface="Calibri"/>
              </a:rPr>
              <a:t>In questa seconda ipotesi di pagamento  gli estremi del versamento dovranno essere comunicati sempre utilizzando il “servizio riscossione tribut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N.B. Su tale sito è attiva l’area “pagamento cumulativo” che consente di poter effettuare il</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pagamento a saldo di tutte le gare pagabili, rispettando comunque “cadenza trimestrale” </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0b0f0"/>
                </a:solidFill>
                <a:latin typeface="Calibri"/>
              </a:rPr>
              <a:t>o inferiore.</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05dd38"/>
                </a:solidFill>
                <a:latin typeface="Calibri"/>
              </a:rPr>
              <a:t>Per Informazioni: contact center : 800896936 dal lunedì al venerdì – ore 08,00 / 18,00</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F38FA-FF8A-41E3-8818-751803217CA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8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0" name="Text Box 3"/>
          <p:cNvSpPr/>
          <p:nvPr/>
        </p:nvSpPr>
        <p:spPr>
          <a:xfrm>
            <a:off x="108000" y="907920"/>
            <a:ext cx="8856720" cy="55706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ff"/>
                </a:solidFill>
                <a:latin typeface="Times New Roman"/>
              </a:rPr>
              <a:t>Eseguiti tali adempimenti preliminari </a:t>
            </a:r>
            <a:endParaRPr b="0" lang="en-US" sz="4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000" spc="-1" strike="noStrike">
                <a:solidFill>
                  <a:srgbClr val="ffffff"/>
                </a:solidFill>
                <a:latin typeface="Times New Roman"/>
              </a:rPr>
              <a:t>la stazione appaltante (I.S.A.) dovrà: </a:t>
            </a:r>
            <a:endParaRPr b="0" lang="en-US" sz="4000" spc="-1" strike="noStrike">
              <a:solidFill>
                <a:srgbClr val="ffffff"/>
              </a:solidFill>
              <a:latin typeface="Arial Rounded MT Bold"/>
            </a:endParaRPr>
          </a:p>
          <a:p>
            <a:pPr marL="343080" indent="-341640" algn="just">
              <a:lnSpc>
                <a:spcPct val="100000"/>
              </a:lnSpc>
              <a:spcBef>
                <a:spcPts val="1874"/>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00"/>
                </a:solidFill>
                <a:latin typeface="Times New Roman"/>
              </a:rPr>
              <a:t>riportare</a:t>
            </a:r>
            <a:r>
              <a:rPr b="1" lang="it-IT" sz="3000" spc="-1" strike="noStrike">
                <a:solidFill>
                  <a:srgbClr val="ffffff"/>
                </a:solidFill>
                <a:latin typeface="Times New Roman"/>
              </a:rPr>
              <a:t> il </a:t>
            </a:r>
            <a:r>
              <a:rPr b="1" lang="it-IT" sz="3000" spc="-1" strike="noStrike">
                <a:solidFill>
                  <a:srgbClr val="ffff00"/>
                </a:solidFill>
                <a:latin typeface="Times New Roman"/>
              </a:rPr>
              <a:t>CIG</a:t>
            </a:r>
            <a:r>
              <a:rPr b="1" lang="it-IT" sz="3000" spc="-1" strike="noStrike">
                <a:solidFill>
                  <a:srgbClr val="ffffff"/>
                </a:solidFill>
                <a:latin typeface="Times New Roman"/>
              </a:rPr>
              <a:t> nell’avviso pubblico, nella lettera di invito o nella richiesta di offerta e naturalmente nel contratto e nel mandato; </a:t>
            </a:r>
            <a:endParaRPr b="0" lang="en-US" sz="3000" spc="-1" strike="noStrike">
              <a:solidFill>
                <a:srgbClr val="ffffff"/>
              </a:solidFill>
              <a:latin typeface="Arial Rounded MT Bold"/>
            </a:endParaRPr>
          </a:p>
          <a:p>
            <a:pPr marL="343080" indent="-341640" algn="just">
              <a:lnSpc>
                <a:spcPct val="100000"/>
              </a:lnSpc>
              <a:spcBef>
                <a:spcPts val="1874"/>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00"/>
                </a:solidFill>
                <a:latin typeface="Times New Roman"/>
              </a:rPr>
              <a:t>provvedere</a:t>
            </a:r>
            <a:r>
              <a:rPr b="1" lang="it-IT" sz="3000" spc="-1" strike="noStrike">
                <a:solidFill>
                  <a:srgbClr val="ffffff"/>
                </a:solidFill>
                <a:latin typeface="Times New Roman"/>
              </a:rPr>
              <a:t> al versamento del </a:t>
            </a:r>
            <a:r>
              <a:rPr b="1" lang="it-IT" sz="3000" spc="-1" strike="noStrike">
                <a:solidFill>
                  <a:srgbClr val="ffff00"/>
                </a:solidFill>
                <a:latin typeface="Times New Roman"/>
              </a:rPr>
              <a:t>contributo,</a:t>
            </a:r>
            <a:r>
              <a:rPr b="1" lang="it-IT" sz="3000" spc="-1" strike="noStrike">
                <a:solidFill>
                  <a:srgbClr val="ffcc66"/>
                </a:solidFill>
                <a:latin typeface="Times New Roman"/>
              </a:rPr>
              <a:t> </a:t>
            </a:r>
            <a:r>
              <a:rPr b="1" lang="it-IT" sz="3000" spc="-1" strike="noStrike">
                <a:solidFill>
                  <a:srgbClr val="ffffff"/>
                </a:solidFill>
                <a:latin typeface="Times New Roman"/>
              </a:rPr>
              <a:t>ove</a:t>
            </a:r>
            <a:r>
              <a:rPr b="1" lang="it-IT" sz="3000" spc="-1" strike="noStrike">
                <a:solidFill>
                  <a:srgbClr val="ffcc66"/>
                </a:solidFill>
                <a:latin typeface="Times New Roman"/>
              </a:rPr>
              <a:t> </a:t>
            </a:r>
            <a:r>
              <a:rPr b="1" lang="it-IT" sz="3000" spc="-1" strike="noStrike">
                <a:solidFill>
                  <a:srgbClr val="ffffff"/>
                </a:solidFill>
                <a:latin typeface="Times New Roman"/>
              </a:rPr>
              <a:t>previsto, entro </a:t>
            </a:r>
            <a:r>
              <a:rPr b="1" lang="it-IT" sz="3000" spc="-1" strike="noStrike">
                <a:solidFill>
                  <a:srgbClr val="ffff00"/>
                </a:solidFill>
                <a:latin typeface="Times New Roman"/>
              </a:rPr>
              <a:t>30</a:t>
            </a:r>
            <a:r>
              <a:rPr b="1" lang="it-IT" sz="3000" spc="-1" strike="noStrike">
                <a:solidFill>
                  <a:srgbClr val="ffffff"/>
                </a:solidFill>
                <a:latin typeface="Times New Roman"/>
              </a:rPr>
              <a:t> giorni dalla data di creazione della gara;</a:t>
            </a:r>
            <a:r>
              <a:rPr b="0" lang="it-IT" sz="3000" spc="-1" strike="noStrike">
                <a:solidFill>
                  <a:srgbClr val="ffffff"/>
                </a:solidFill>
                <a:latin typeface="Times New Roman"/>
              </a:rPr>
              <a:t> </a:t>
            </a:r>
            <a:endParaRPr b="0" lang="en-US" sz="3000" spc="-1" strike="noStrike">
              <a:solidFill>
                <a:srgbClr val="ffffff"/>
              </a:solidFill>
              <a:latin typeface="Arial Rounded MT Bold"/>
            </a:endParaRPr>
          </a:p>
          <a:p>
            <a:pPr marL="343080" indent="-341640" algn="just">
              <a:lnSpc>
                <a:spcPct val="100000"/>
              </a:lnSpc>
              <a:spcBef>
                <a:spcPts val="75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000" spc="-1" strike="noStrike">
                <a:solidFill>
                  <a:srgbClr val="ffffff"/>
                </a:solidFill>
                <a:latin typeface="Times New Roman"/>
              </a:rPr>
              <a:t>restano </a:t>
            </a:r>
            <a:r>
              <a:rPr b="1" lang="it-IT" sz="3000" spc="-1" strike="noStrike">
                <a:solidFill>
                  <a:srgbClr val="ffff00"/>
                </a:solidFill>
                <a:latin typeface="Times New Roman"/>
              </a:rPr>
              <a:t>escluse</a:t>
            </a:r>
            <a:r>
              <a:rPr b="1" lang="it-IT" sz="3000" spc="-1" strike="noStrike">
                <a:solidFill>
                  <a:srgbClr val="ffffff"/>
                </a:solidFill>
                <a:latin typeface="Times New Roman"/>
              </a:rPr>
              <a:t> da tale obbligo, le gare delle </a:t>
            </a:r>
            <a:r>
              <a:rPr b="1" lang="it-IT" sz="3000" spc="-1" strike="noStrike">
                <a:solidFill>
                  <a:srgbClr val="ffff00"/>
                </a:solidFill>
                <a:latin typeface="Times New Roman"/>
              </a:rPr>
              <a:t>I.S.A. </a:t>
            </a:r>
            <a:r>
              <a:rPr b="1" lang="it-IT" sz="3000" spc="-1" strike="noStrike">
                <a:solidFill>
                  <a:srgbClr val="ffffff"/>
                </a:solidFill>
                <a:latin typeface="Times New Roman"/>
              </a:rPr>
              <a:t>di  importo </a:t>
            </a:r>
            <a:r>
              <a:rPr b="1" lang="it-IT" sz="3000" spc="-1" strike="noStrike">
                <a:solidFill>
                  <a:srgbClr val="ffff00"/>
                </a:solidFill>
                <a:latin typeface="Times New Roman"/>
              </a:rPr>
              <a:t>inferiore ad € 40.000.</a:t>
            </a:r>
            <a:endParaRPr b="0" lang="en-US" sz="3000" spc="-1" strike="noStrike">
              <a:solidFill>
                <a:srgbClr val="ffffff"/>
              </a:solidFill>
              <a:latin typeface="Arial Rounded MT Bol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74DCD-6BFC-46CF-9D41-00B79EFE90A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2"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3" name="Text Box 3"/>
          <p:cNvSpPr/>
          <p:nvPr/>
        </p:nvSpPr>
        <p:spPr>
          <a:xfrm>
            <a:off x="0" y="969840"/>
            <a:ext cx="8964720" cy="575496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1.</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 per la scelta dell'offerta migliore</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cc00"/>
                </a:solidFill>
                <a:latin typeface="Calibri"/>
              </a:rPr>
              <a:t> </a:t>
            </a:r>
            <a:r>
              <a:rPr b="1" lang="it-IT" sz="1800" spc="-1" strike="noStrike">
                <a:solidFill>
                  <a:srgbClr val="ffcc00"/>
                </a:solidFill>
                <a:latin typeface="Calibri"/>
              </a:rPr>
              <a:t>(art. 53, direttiva 2004/18; art. 55, direttiva 2004/17; art. 19,  - d.lgs. n. 358/1992; art. 21, legge n. 109/1994; art. 23, d.lgs. n. 157/1995; art. 24, d.lgs. n. 158/1995)</a:t>
            </a:r>
            <a:endParaRPr b="0" lang="en-US" sz="1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1. </a:t>
            </a:r>
            <a:r>
              <a:rPr b="1" lang="it-IT" sz="2000" spc="-1" strike="noStrike">
                <a:solidFill>
                  <a:srgbClr val="ffffff"/>
                </a:solidFill>
                <a:latin typeface="Calibri"/>
              </a:rPr>
              <a:t>Nei contratti pubblici, fatte salve le disposizioni legislative, regolamentari o amministrative relative alla remunerazione di servizi specifici, la migliore offerta e' selezionata con il criterio del prezzo più basso o con il criterio dell'offerta economicamente più vantaggios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2. </a:t>
            </a:r>
            <a:r>
              <a:rPr b="1" lang="it-IT" sz="2000" spc="-1" strike="noStrike">
                <a:solidFill>
                  <a:srgbClr val="ffffff"/>
                </a:solidFill>
                <a:latin typeface="Calibri"/>
              </a:rPr>
              <a:t>Le stazioni appaltanti scelgono, tra i criteri di cui al comma 1, quello più adeguato in relazione alle caratteristiche dell'oggetto del contratto, e indicano nel bando di gara quale dei due criteri sarà applicato per selezionare la migliore offert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3. </a:t>
            </a:r>
            <a:r>
              <a:rPr b="1" lang="it-IT" sz="2000" spc="-1" strike="noStrike">
                <a:solidFill>
                  <a:srgbClr val="ffffff"/>
                </a:solidFill>
                <a:latin typeface="Calibri"/>
              </a:rPr>
              <a:t>Le stazioni appaltanti possono decidere di non procedere all'aggiudicazione se nessuna offerta risulti conveniente o idonea in relazione all'oggetto del contratt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36B29-7E42-4D41-ACF7-1892B2825EE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5" name="Text Box 2"/>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6" name="Text Box 3"/>
          <p:cNvSpPr/>
          <p:nvPr/>
        </p:nvSpPr>
        <p:spPr>
          <a:xfrm>
            <a:off x="324000" y="692280"/>
            <a:ext cx="8496000" cy="564804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2.</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 prezzo piu' basso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00"/>
                </a:solidFill>
                <a:latin typeface="Calibri"/>
              </a:rPr>
              <a:t> </a:t>
            </a:r>
            <a:r>
              <a:rPr b="1" lang="it-IT" sz="2000" spc="-1" strike="noStrike">
                <a:solidFill>
                  <a:srgbClr val="ffff00"/>
                </a:solidFill>
                <a:latin typeface="Calibri"/>
              </a:rPr>
              <a:t>Il prezzo più' basso, inferiore a quello posto a base di gara, è così determinato </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Il bando di gara stabilisce:</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a) </a:t>
            </a:r>
            <a:r>
              <a:rPr b="1" lang="it-IT" sz="2000" spc="-1" strike="noStrike">
                <a:solidFill>
                  <a:srgbClr val="ffffff"/>
                </a:solidFill>
                <a:latin typeface="Calibri"/>
              </a:rPr>
              <a:t>se il prezzo più basso, per i contratti da stipulare a misura, è determinato mediante ribasso sull'elenco prezzi posto a base di gara </a:t>
            </a:r>
            <a:r>
              <a:rPr b="1" lang="it-IT" sz="2000" spc="-1" strike="noStrike">
                <a:solidFill>
                  <a:srgbClr val="ffff00"/>
                </a:solidFill>
                <a:latin typeface="Calibri"/>
              </a:rPr>
              <a:t>ovvero</a:t>
            </a:r>
            <a:r>
              <a:rPr b="1" lang="it-IT" sz="2000" spc="-1" strike="noStrike">
                <a:solidFill>
                  <a:srgbClr val="ffffff"/>
                </a:solidFill>
                <a:latin typeface="Calibri"/>
              </a:rPr>
              <a:t>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ffffff"/>
                </a:solidFill>
                <a:latin typeface="Calibri"/>
              </a:rPr>
              <a:t>b) </a:t>
            </a:r>
            <a:r>
              <a:rPr b="1" lang="it-IT" sz="2000" spc="-1" strike="noStrike">
                <a:solidFill>
                  <a:srgbClr val="ffffff"/>
                </a:solidFill>
                <a:latin typeface="Calibri"/>
              </a:rPr>
              <a:t>se il prezzo più basso, per i contratti da stipulare a corpo, è determinato mediante ribasso sull'importo dei lavori posto a base di gara </a:t>
            </a:r>
            <a:r>
              <a:rPr b="1" lang="it-IT" sz="2000" spc="-1" strike="noStrike">
                <a:solidFill>
                  <a:srgbClr val="ffff00"/>
                </a:solidFill>
                <a:latin typeface="Calibri"/>
              </a:rPr>
              <a:t>ovvero</a:t>
            </a:r>
            <a:r>
              <a:rPr b="1" lang="it-IT" sz="2000" spc="-1" strike="noStrike">
                <a:solidFill>
                  <a:srgbClr val="ffffff"/>
                </a:solidFill>
                <a:latin typeface="Calibri"/>
              </a:rPr>
              <a:t>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Per i contratti da stipulare, </a:t>
            </a:r>
            <a:r>
              <a:rPr b="1" lang="it-IT" sz="2000" spc="-1" strike="noStrike">
                <a:solidFill>
                  <a:srgbClr val="ffffff"/>
                </a:solidFill>
                <a:latin typeface="Calibri"/>
              </a:rPr>
              <a:t>parte a corpo e parte a misura, </a:t>
            </a:r>
            <a:r>
              <a:rPr b="1" lang="it-IT" sz="2000" spc="-1" strike="noStrike">
                <a:solidFill>
                  <a:srgbClr val="ffff00"/>
                </a:solidFill>
                <a:latin typeface="Calibri"/>
              </a:rPr>
              <a:t>il prezzo più bass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è determinato mediante offerta a prezzi unitar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Le modalità applicative del ribasso sull'elenco prezzi e dell'offerta a prezz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unitari sono stabilite dal regolamento. </a:t>
            </a:r>
            <a:endParaRPr b="0" lang="en-US" sz="2000" spc="-1" strike="noStrike">
              <a:solidFill>
                <a:srgbClr val="ffffff"/>
              </a:solidFill>
              <a:latin typeface="Arial Rounded MT Bol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ED4FE-C1CC-468F-BE2C-F6E5BC0CD37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498"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499" name="Text Box 3"/>
          <p:cNvSpPr/>
          <p:nvPr/>
        </p:nvSpPr>
        <p:spPr>
          <a:xfrm>
            <a:off x="108000" y="973080"/>
            <a:ext cx="8856720" cy="514044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ffffff"/>
                </a:solidFill>
                <a:latin typeface="Calibri"/>
              </a:rPr>
              <a:t> </a:t>
            </a:r>
            <a:r>
              <a:rPr b="1" lang="it-IT" sz="2800" spc="-1" strike="noStrike">
                <a:solidFill>
                  <a:srgbClr val="00ff00"/>
                </a:solidFill>
                <a:latin typeface="Calibri"/>
              </a:rPr>
              <a:t>Art. 83</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l'offerta economicamente più vantaggiosa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 art. 21, legge n. 109/1994;</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19, d.lgs. n. 358/1992; art. 23, d.lgs. n. 157/1995; art. 24, d.lgs. n. 158/1995</a:t>
            </a:r>
            <a:r>
              <a:rPr b="1" lang="it-IT" sz="1600" spc="-1" strike="noStrike">
                <a:solidFill>
                  <a:srgbClr val="ffffff"/>
                </a:solidFill>
                <a:latin typeface="Calibri"/>
              </a:rPr>
              <a:t>)</a:t>
            </a:r>
            <a:endParaRPr b="0" lang="en-US" sz="1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1. Quando il contratto e' affidato con il criterio dell'offerta economicamente più vantaggiosa, il bando di gara stabilisce i criteri di valutazione dell'offerta, pertinenti alla natura, all'oggetto e alle caratteristiche del contratto, quali, a titolo esemplificativ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a) prezz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b) qualità;</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c) pregio tecnico;</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d) caratteristiche estetiche e funzionali;</a:t>
            </a:r>
            <a:endParaRPr b="0" lang="en-US" sz="2000" spc="-1" strike="noStrike">
              <a:solidFill>
                <a:srgbClr val="ffffff"/>
              </a:solidFill>
              <a:latin typeface="Arial Rounded MT Bold"/>
            </a:endParaRPr>
          </a:p>
          <a:p>
            <a:pPr marL="343080" indent="-341640">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	</a:t>
            </a:r>
            <a:r>
              <a:rPr b="1" lang="it-IT" sz="2000" spc="-1" strike="noStrike">
                <a:solidFill>
                  <a:srgbClr val="ffffff"/>
                </a:solidFill>
                <a:latin typeface="Calibri"/>
              </a:rPr>
              <a:t>e) caratteristiche ambientali, contenimento dei consumi energetici e delle risorse ambientali dell'opera o del prodotto.</a:t>
            </a:r>
            <a:endParaRPr b="0" lang="en-US" sz="2000" spc="-1" strike="noStrike">
              <a:solidFill>
                <a:srgbClr val="ffffff"/>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68D2C-D25C-4389-B3E6-12170696C29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0"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1" name="Text Box 3"/>
          <p:cNvSpPr/>
          <p:nvPr/>
        </p:nvSpPr>
        <p:spPr>
          <a:xfrm>
            <a:off x="250920" y="979560"/>
            <a:ext cx="8424720" cy="526248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Ne consegue dunque che mentre in precedenza le II.SS.AA. potevano seguire le procedure ordinarie di contrattazione </a:t>
            </a:r>
            <a:r>
              <a:rPr b="1" lang="it-IT" sz="2800" spc="-1" strike="noStrike">
                <a:solidFill>
                  <a:srgbClr val="ffff00"/>
                </a:solidFill>
                <a:latin typeface="Calibri"/>
              </a:rPr>
              <a:t>ex art. 34 del D.I. n.44/2001, </a:t>
            </a:r>
            <a:r>
              <a:rPr b="1" lang="it-IT" sz="2800" spc="-1" strike="noStrike">
                <a:solidFill>
                  <a:srgbClr val="ffffff"/>
                </a:solidFill>
                <a:latin typeface="Calibri"/>
              </a:rPr>
              <a:t>pur essendo previsto anche il ricorso facoltativo alle norme della</a:t>
            </a:r>
            <a:r>
              <a:rPr b="1" lang="it-IT" sz="2800" spc="-1" strike="noStrike">
                <a:solidFill>
                  <a:srgbClr val="ffff00"/>
                </a:solidFill>
                <a:latin typeface="Calibri"/>
              </a:rPr>
              <a:t> contabilità di Stato, </a:t>
            </a:r>
            <a:r>
              <a:rPr b="1" lang="it-IT" sz="2800" spc="-1" strike="noStrike">
                <a:solidFill>
                  <a:srgbClr val="ffffff"/>
                </a:solidFill>
                <a:latin typeface="Calibri"/>
              </a:rPr>
              <a:t>con l’entrata in vigore del “Codice dei Contratti Pubblici” in data 1° luglio 2006 sussiste</a:t>
            </a:r>
            <a:r>
              <a:rPr b="1" lang="it-IT" sz="2800" spc="-1" strike="noStrike">
                <a:solidFill>
                  <a:srgbClr val="ffff00"/>
                </a:solidFill>
                <a:latin typeface="Calibri"/>
              </a:rPr>
              <a:t> l’obbligo di adeguamento </a:t>
            </a:r>
            <a:r>
              <a:rPr b="1" lang="it-IT" sz="2800" spc="-1" strike="noStrike">
                <a:solidFill>
                  <a:srgbClr val="ffffff"/>
                </a:solidFill>
                <a:latin typeface="Calibri"/>
              </a:rPr>
              <a:t>a tale normativa di matrice europea in </a:t>
            </a:r>
            <a:r>
              <a:rPr b="1" lang="it-IT" sz="2800" spc="-1" strike="noStrike">
                <a:solidFill>
                  <a:srgbClr val="ffff00"/>
                </a:solidFill>
                <a:latin typeface="Calibri"/>
              </a:rPr>
              <a:t>ottemperanza</a:t>
            </a:r>
            <a:r>
              <a:rPr b="1" lang="it-IT" sz="2800" spc="-1" strike="noStrike">
                <a:solidFill>
                  <a:srgbClr val="ffffff"/>
                </a:solidFill>
                <a:latin typeface="Calibri"/>
              </a:rPr>
              <a:t> al rispetto dei principi di </a:t>
            </a:r>
            <a:r>
              <a:rPr b="1" lang="it-IT" sz="2800" spc="-1" strike="noStrike">
                <a:solidFill>
                  <a:srgbClr val="ffff00"/>
                </a:solidFill>
                <a:latin typeface="Calibri"/>
              </a:rPr>
              <a:t>“libera concorrenza” ,</a:t>
            </a:r>
            <a:r>
              <a:rPr b="0" lang="it-IT" sz="2800" spc="-1" strike="noStrike">
                <a:solidFill>
                  <a:srgbClr val="ffff00"/>
                </a:solidFill>
                <a:latin typeface="Calibri"/>
              </a:rPr>
              <a:t> </a:t>
            </a:r>
            <a:r>
              <a:rPr b="1" lang="it-IT" sz="2800" spc="-1" strike="noStrike">
                <a:solidFill>
                  <a:srgbClr val="ffff00"/>
                </a:solidFill>
                <a:latin typeface="Calibri"/>
              </a:rPr>
              <a:t>“parità di trattamento”, “non discriminazione”, “trasparenza e pubblicità” </a:t>
            </a:r>
            <a:r>
              <a:rPr b="1" lang="it-IT" sz="2800" spc="-1" strike="noStrike">
                <a:solidFill>
                  <a:srgbClr val="ffffff"/>
                </a:solidFill>
                <a:latin typeface="Calibri"/>
              </a:rPr>
              <a:t>pienamente recepiti e contemplati  del predetto codice.</a:t>
            </a:r>
            <a:endParaRPr b="0" lang="en-US" sz="2800" spc="-1" strike="noStrike">
              <a:solidFill>
                <a:srgbClr val="ffffff"/>
              </a:solidFill>
              <a:latin typeface="Arial Rounded MT 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3AABB-B35F-42D9-A35C-2AD95F35199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1"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02" name="Text Box 3"/>
          <p:cNvSpPr/>
          <p:nvPr/>
        </p:nvSpPr>
        <p:spPr>
          <a:xfrm>
            <a:off x="0" y="836640"/>
            <a:ext cx="9144000" cy="56484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3</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o dell'offerta economicamente più vantaggiosa </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53, direttiva 2004/18; art. 55, direttiva 2004/17; art. 21, legge n. 109/1994;</a:t>
            </a:r>
            <a:endParaRPr b="0" lang="en-US" sz="20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art. 19, d.lgs. n. 358/1992; art. 23, d.lgs. n. 157/1995; art. 24, d.lgs. n. 158/1995)</a:t>
            </a:r>
            <a:endParaRPr b="0" lang="en-US" sz="20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f) il costo di utilizzazione e manutenzione;</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g) la redditività;</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h) il servizio successivo alla vendita;</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i) l'assistenza tecnica;</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l) la data di consegna ovvero il termine di consegna o di  esecuzione; </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m) l'impegno in materia di pezzi di ricambio;</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n) la sicurezza di approvvigionamento;</a:t>
            </a:r>
            <a:endParaRPr b="0" lang="en-US" sz="2200" spc="-1" strike="noStrike">
              <a:solidFill>
                <a:srgbClr val="ffffff"/>
              </a:solidFill>
              <a:latin typeface="Arial Rounded MT Bold"/>
            </a:endParaRPr>
          </a:p>
          <a:p>
            <a:pPr marL="343080" indent="-341640">
              <a:lnSpc>
                <a:spcPct val="100000"/>
              </a:lnSpc>
              <a:spcBef>
                <a:spcPts val="575"/>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o) in caso di concessioni, altresì la durata del contratto, le modalità di gestione, il livello e i criteri di aggiornamento delle tariffe da praticare agli utenti.</a:t>
            </a:r>
            <a:endParaRPr b="0" lang="en-US" sz="2200" spc="-1" strike="noStrike">
              <a:solidFill>
                <a:srgbClr val="ffffff"/>
              </a:solidFill>
              <a:latin typeface="Arial Rounded MT Bol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Text Box 1"/>
          <p:cNvSpPr/>
          <p:nvPr/>
        </p:nvSpPr>
        <p:spPr>
          <a:xfrm>
            <a:off x="1547640" y="981000"/>
            <a:ext cx="5832720" cy="496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800" spc="-1" strike="noStrike">
                <a:solidFill>
                  <a:srgbClr val="05dd38"/>
                </a:solidFill>
                <a:latin typeface="Calibri"/>
              </a:rPr>
              <a:t> </a:t>
            </a:r>
            <a:r>
              <a:rPr b="1" lang="it-IT" sz="1800" spc="-1" strike="noStrike">
                <a:solidFill>
                  <a:srgbClr val="00ff00"/>
                </a:solidFill>
                <a:latin typeface="Calibri"/>
              </a:rPr>
              <a:t>Art. 84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00ff00"/>
                </a:solidFill>
                <a:latin typeface="Calibri"/>
              </a:rPr>
              <a:t>Commissione giudicatrice nel caso di aggiudicazione con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00ff00"/>
                </a:solidFill>
                <a:latin typeface="Calibri"/>
              </a:rPr>
              <a:t>il criterio dell'offerta economicamente più vantaggiosa </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art. 21, legge n. 109/1994; art. 92, D.P.R. n. 554/1999</a:t>
            </a:r>
            <a:r>
              <a:rPr b="1" lang="it-IT" sz="1100" spc="-1" strike="noStrike">
                <a:solidFill>
                  <a:srgbClr val="ffffff"/>
                </a:solidFill>
                <a:latin typeface="Calibri"/>
              </a:rPr>
              <a:t>)</a:t>
            </a:r>
            <a:endParaRPr b="0" lang="en-US" sz="11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1. Quando la scelta della migliore offerta avviene con il criterio dell'offerta economicamente più</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vantaggiosa, la valutazione e' demandata ad una commissione giudicatrice, che opera secondo le</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norme stabilite dal regolamento.</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2. La commissione, nominata dall'organo della stazione appaltante competente ad effettuare l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scelta del soggetto affidatario del contratto, e' composta da un numero dispari di componenti, in</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numero massimo di cinque, esperti nello specifico settore cui si riferisce l'oggetto del contratto.</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 </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3. La commissione e' presieduta di norma da un dirigente della stazione appaltante e, in caso d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mancanza in organico, da un funzionario della stazione appaltante incaricato di funzioni apical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nominato dall'organo competente.</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1100" spc="-1" strike="noStrike">
                <a:solidFill>
                  <a:srgbClr val="ffffff"/>
                </a:solidFill>
                <a:latin typeface="Calibri"/>
              </a:rPr>
              <a:t>4. </a:t>
            </a:r>
            <a:r>
              <a:rPr b="1" lang="it-IT" sz="1100" spc="-1" strike="noStrike">
                <a:solidFill>
                  <a:srgbClr val="ffffff"/>
                </a:solidFill>
                <a:latin typeface="Calibri"/>
              </a:rPr>
              <a:t>I commissari diversi dal Presidente non devono aver svolto ne' possono svolgere alcun'altr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funzione o incarico tecnico o amministrativo relativamente al contratto del cui affidamento s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ff"/>
                </a:solidFill>
                <a:latin typeface="Calibri"/>
              </a:rPr>
              <a:t>tratta.</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5. Coloro che nel biennio precedente hanno rivestito cariche di pubblico amministratore non</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possono essere nominati commissari relativamente a contratti affidati dalle amministrazioni</a:t>
            </a:r>
            <a:endParaRPr b="0" lang="en-US" sz="11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100" spc="-1" strike="noStrike">
                <a:solidFill>
                  <a:srgbClr val="ffff00"/>
                </a:solidFill>
                <a:latin typeface="Calibri"/>
              </a:rPr>
              <a:t>presso le quali hanno prestato servizio.</a:t>
            </a:r>
            <a:endParaRPr b="0" lang="en-US" sz="1100" spc="-1" strike="noStrike">
              <a:solidFill>
                <a:srgbClr val="ffffff"/>
              </a:solidFill>
              <a:latin typeface="Arial Rounded MT Bold"/>
            </a:endParaRPr>
          </a:p>
          <a:p>
            <a:pP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100" spc="-1" strike="noStrike">
              <a:solidFill>
                <a:srgbClr val="ffffff"/>
              </a:solidFill>
              <a:latin typeface="Arial Rounded MT Bold"/>
            </a:endParaRPr>
          </a:p>
        </p:txBody>
      </p:sp>
      <p:sp>
        <p:nvSpPr>
          <p:cNvPr id="150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BB82C-1D16-46C7-A09D-6085CCA773C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5"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58E09-951B-43E2-815D-3ED1F94F6F9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07"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08" name="Text Box 3"/>
          <p:cNvSpPr/>
          <p:nvPr/>
        </p:nvSpPr>
        <p:spPr>
          <a:xfrm>
            <a:off x="324000" y="692280"/>
            <a:ext cx="8640720" cy="616572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600" spc="-1" strike="noStrike">
                <a:solidFill>
                  <a:srgbClr val="00ff00"/>
                </a:solidFill>
                <a:latin typeface="Calibri"/>
              </a:rPr>
              <a:t> </a:t>
            </a:r>
            <a:r>
              <a:rPr b="1" lang="it-IT" sz="2400" spc="-1" strike="noStrike">
                <a:solidFill>
                  <a:srgbClr val="00ff00"/>
                </a:solidFill>
                <a:latin typeface="Calibri"/>
              </a:rPr>
              <a:t>Art. 86 (2) (6) (18)</a:t>
            </a:r>
            <a:endParaRPr b="0" lang="en-US" sz="2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Calibri"/>
              </a:rPr>
              <a:t>Criteri di individuazione delle offerte anormalmente basse </a:t>
            </a:r>
            <a:endParaRPr b="0" lang="en-US" sz="2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art. 21, c. 1-bis, legge n. 109/1994; art. 64, c. 6 e art. 91, co 4, d.P.R. n. 554/1999; </a:t>
            </a:r>
            <a:endParaRPr b="0" lang="en-US" sz="16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art. 19, d.lgs. n. 358/1992; art. 25, d.lgs. n. 157/1995; art. 25, d.lgs. n. 158/1995)</a:t>
            </a:r>
            <a:endParaRPr b="0" lang="en-US" sz="16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1.Nei contratti di cui al presente codice, quando il criterio di aggiudicazione e' quell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l </a:t>
            </a:r>
            <a:r>
              <a:rPr b="1" lang="it-IT" sz="1800" spc="-1" strike="noStrike">
                <a:solidFill>
                  <a:srgbClr val="ffff00"/>
                </a:solidFill>
                <a:latin typeface="Calibri"/>
              </a:rPr>
              <a:t>prezzo più basso </a:t>
            </a:r>
            <a:r>
              <a:rPr b="1" lang="it-IT" sz="1800" spc="-1" strike="noStrike">
                <a:solidFill>
                  <a:srgbClr val="ffffff"/>
                </a:solidFill>
                <a:latin typeface="Calibri"/>
              </a:rPr>
              <a:t>le stazioni appaltanti valutano la congruità delle offerte che</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presentano un ribasso pari o superiore alla media aritmetica dei ribassi percentuali d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tutte le offerte ammesse, con esclusione del  10%, arrotondato all'unita' superiore,</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rispettivamente delle offerte di maggior ribasso e di quelle di minor ribass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incrementata dello scarto medio aritmetico dei ribassi percentuali che superano l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predetta media.</a:t>
            </a:r>
            <a:endParaRPr b="0" lang="en-US" sz="1800" spc="-1" strike="noStrike">
              <a:solidFill>
                <a:srgbClr val="ffffff"/>
              </a:solidFill>
              <a:latin typeface="Arial Rounded MT Bold"/>
            </a:endParaRPr>
          </a:p>
          <a:p>
            <a:pPr marL="343080" indent="-341640" algn="just">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2.Nei contratti di cui al presente codice, quando il criterio di aggiudicazione e' quello</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ll'</a:t>
            </a:r>
            <a:r>
              <a:rPr b="1" lang="it-IT" sz="1800" spc="-1" strike="noStrike">
                <a:solidFill>
                  <a:srgbClr val="ffff00"/>
                </a:solidFill>
                <a:latin typeface="Calibri"/>
              </a:rPr>
              <a:t>offerta economicamente più vantaggiosa, </a:t>
            </a:r>
            <a:r>
              <a:rPr b="1" lang="it-IT" sz="1800" spc="-1" strike="noStrike">
                <a:solidFill>
                  <a:srgbClr val="ffffff"/>
                </a:solidFill>
                <a:latin typeface="Calibri"/>
              </a:rPr>
              <a:t>le stazioni appaltanti valutano l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congruità delle offerte in relazione alle quali sia i punti relativi al prezzo, sia la somma</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dei punti relativi agli altri elementi di valutazione, sono entrambi pari o superiori ai</a:t>
            </a:r>
            <a:endParaRPr b="0" lang="en-US" sz="1800" spc="-1" strike="noStrike">
              <a:solidFill>
                <a:srgbClr val="ffffff"/>
              </a:solidFill>
              <a:latin typeface="Arial Rounded MT Bold"/>
            </a:endParaRPr>
          </a:p>
          <a:p>
            <a:pPr marL="343080" indent="-341640" algn="just">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800" spc="-1" strike="noStrike">
                <a:solidFill>
                  <a:srgbClr val="ffffff"/>
                </a:solidFill>
                <a:latin typeface="Calibri"/>
              </a:rPr>
              <a:t>quattro quinti dei corrispondenti punti massimi.</a:t>
            </a:r>
            <a:endParaRPr b="0" lang="en-US" sz="1800" spc="-1" strike="noStrike">
              <a:solidFill>
                <a:srgbClr val="ffffff"/>
              </a:solidFill>
              <a:latin typeface="Arial Rounded MT Bold"/>
            </a:endParaRPr>
          </a:p>
          <a:p>
            <a:pPr marL="343080" indent="-341640" algn="just">
              <a:lnSpc>
                <a:spcPct val="10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600" spc="-1" strike="noStrike">
                <a:solidFill>
                  <a:srgbClr val="ffffff"/>
                </a:solidFill>
                <a:latin typeface="Calibri"/>
              </a:rPr>
              <a:t> </a:t>
            </a:r>
            <a:endParaRPr b="0" lang="en-US" sz="1600" spc="-1" strike="noStrike">
              <a:solidFill>
                <a:srgbClr val="ffffff"/>
              </a:solidFill>
              <a:latin typeface="Arial Rounded MT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3D126-8AA0-4D1E-BD0E-882B943A971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0"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11" name="Text Box 3"/>
          <p:cNvSpPr/>
          <p:nvPr/>
        </p:nvSpPr>
        <p:spPr>
          <a:xfrm>
            <a:off x="108000" y="981000"/>
            <a:ext cx="8785080" cy="552600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Art. 87</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00ff00"/>
                </a:solidFill>
                <a:latin typeface="Calibri"/>
              </a:rPr>
              <a:t>Criteri di verifica delle offerte anormalmente basse</a:t>
            </a:r>
            <a:endParaRPr b="0" lang="en-US" sz="28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rPr>
              <a:t> </a:t>
            </a:r>
            <a:r>
              <a:rPr b="1" lang="it-IT" sz="1400" spc="-1" strike="noStrike">
                <a:solidFill>
                  <a:srgbClr val="ffff00"/>
                </a:solidFill>
                <a:latin typeface="Calibri"/>
              </a:rPr>
              <a:t>(art. 55, direttiva 2004/18; art. 57, direttiva 2004/17; art. 21, co. 1-bis, legge n. 109/1994; art. 19,</a:t>
            </a:r>
            <a:endParaRPr b="0" lang="en-US" sz="1400" spc="-1" strike="noStrike">
              <a:solidFill>
                <a:srgbClr val="ffffff"/>
              </a:solidFill>
              <a:latin typeface="Arial Rounded MT Bold"/>
            </a:endParaRPr>
          </a:p>
          <a:p>
            <a:pPr marL="343080" indent="-341640" algn="ctr">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400" spc="-1" strike="noStrike">
                <a:solidFill>
                  <a:srgbClr val="ffff00"/>
                </a:solidFill>
                <a:latin typeface="Calibri"/>
              </a:rPr>
              <a:t> </a:t>
            </a:r>
            <a:r>
              <a:rPr b="1" lang="it-IT" sz="1400" spc="-1" strike="noStrike">
                <a:solidFill>
                  <a:srgbClr val="ffff00"/>
                </a:solidFill>
                <a:latin typeface="Calibri"/>
              </a:rPr>
              <a:t>d.lgs n. 358/1992; art. 25, d.lgs. n. 157/1995; art. 25, d.lgs. n.158/1995; art. unico, legge n. 327/2000)</a:t>
            </a:r>
            <a:endParaRPr b="0" lang="en-US" sz="1400" spc="-1" strike="noStrike">
              <a:solidFill>
                <a:srgbClr val="ffffff"/>
              </a:solidFill>
              <a:latin typeface="Arial Rounded MT Bold"/>
            </a:endParaRPr>
          </a:p>
          <a:p>
            <a:pPr marL="343080" indent="-341640" algn="just">
              <a:lnSpc>
                <a:spcPct val="100000"/>
              </a:lnSpc>
              <a:spcBef>
                <a:spcPts val="601"/>
              </a:spcBef>
              <a:buClr>
                <a:srgbClr val="3366ff"/>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Quando un'offerta appaia anormalmente bassa, la stazione appaltante richiede all'offerente le </a:t>
            </a:r>
            <a:r>
              <a:rPr b="1" lang="it-IT" sz="2400" spc="-1" strike="noStrike">
                <a:solidFill>
                  <a:srgbClr val="ffff00"/>
                </a:solidFill>
                <a:latin typeface="Calibri"/>
              </a:rPr>
              <a:t>giustificazioni</a:t>
            </a:r>
            <a:r>
              <a:rPr b="1" lang="it-IT" sz="2400" spc="-1" strike="noStrike">
                <a:solidFill>
                  <a:srgbClr val="ffffff"/>
                </a:solidFill>
                <a:latin typeface="Calibri"/>
              </a:rPr>
              <a:t> relative alle voci di prezzo che concorrono a formare l'importo complessivo posto a base di gara, nonché , in caso di aggiudicazione con il criterio dell'offerta economicamente più vantaggiosa, relative agli altri elementi di valutazione dell'offerta, procedendo ai sensi dell'articolo 88. </a:t>
            </a:r>
            <a:endParaRPr b="0" lang="en-US" sz="2400" spc="-1" strike="noStrike">
              <a:solidFill>
                <a:srgbClr val="ffffff"/>
              </a:solidFill>
              <a:latin typeface="Arial Rounded MT Bold"/>
            </a:endParaRPr>
          </a:p>
          <a:p>
            <a:pPr marL="343080" indent="-341640" algn="just">
              <a:lnSpc>
                <a:spcPct val="100000"/>
              </a:lnSpc>
              <a:spcBef>
                <a:spcPts val="601"/>
              </a:spcBef>
              <a:buClr>
                <a:srgbClr val="3366ff"/>
              </a:buClr>
              <a:buFont typeface="Calibri"/>
              <a:buAutoNum type="arabicPeriod"/>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Calibri"/>
              </a:rPr>
              <a:t>All'esclusione può provvedersi solo all'esito dell'ulteriore verifica, in contraddittorio .</a:t>
            </a: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87254-2C56-4899-A0AA-236B9CD8AA8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3"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14" name="Text Box 3"/>
          <p:cNvSpPr/>
          <p:nvPr/>
        </p:nvSpPr>
        <p:spPr>
          <a:xfrm>
            <a:off x="108000" y="816120"/>
            <a:ext cx="8856720" cy="562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Art. 88.</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Procedimento di verifica e di esclusione</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 </a:t>
            </a:r>
            <a:r>
              <a:rPr b="1" lang="it-IT" sz="2800" spc="-1" strike="noStrike">
                <a:solidFill>
                  <a:srgbClr val="00ff00"/>
                </a:solidFill>
                <a:latin typeface="Calibri"/>
              </a:rPr>
              <a:t>delle offerte anormalmente basse </a:t>
            </a:r>
            <a:endParaRPr b="0" lang="en-US" sz="28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55, direttiva 2004/18; art. 57, direttiva 2004/17; </a:t>
            </a:r>
            <a:endParaRPr b="0" lang="en-US" sz="16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21, legge n. 109/1994; art. 89, D.P.R. n. 554/1999)</a:t>
            </a:r>
            <a:endParaRPr b="0" lang="en-US" sz="1600" spc="-1" strike="noStrike">
              <a:solidFill>
                <a:srgbClr val="ffffff"/>
              </a:solidFill>
              <a:latin typeface="Arial Rounded MT Bold"/>
            </a:endParaRPr>
          </a:p>
          <a:p>
            <a:pPr algn="just">
              <a:lnSpc>
                <a:spcPct val="100000"/>
              </a:lnSpc>
              <a:spcBef>
                <a:spcPts val="2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 </a:t>
            </a:r>
            <a:r>
              <a:rPr b="1" lang="it-IT" sz="2400" spc="-1" strike="noStrike">
                <a:solidFill>
                  <a:srgbClr val="ffffff"/>
                </a:solidFill>
                <a:latin typeface="Calibri"/>
              </a:rPr>
              <a:t>La stazione appaltante richiede, per iscritto, assegnando al concorrente un termine non inferiore a quindici giorni, la presentazione, per iscritto, delle </a:t>
            </a:r>
            <a:r>
              <a:rPr b="1" lang="it-IT" sz="2400" spc="-1" strike="noStrike">
                <a:solidFill>
                  <a:srgbClr val="ffff00"/>
                </a:solidFill>
                <a:latin typeface="Calibri"/>
              </a:rPr>
              <a:t>giustificazio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bis. </a:t>
            </a:r>
            <a:r>
              <a:rPr b="1" lang="it-IT" sz="2400" spc="-1" strike="noStrike">
                <a:solidFill>
                  <a:srgbClr val="ffffff"/>
                </a:solidFill>
                <a:latin typeface="Calibri"/>
              </a:rPr>
              <a:t>La stazione appaltante, ove lo ritenga opportuno, può istituire una commissione secondo i criteri stabiliti dal regolamento per esaminare le giustificazioni prodotte; ove non le ritenga sufficienti ad escludere l'incongruità  dell'offerta, richiede per iscritto all'offerente le </a:t>
            </a:r>
            <a:r>
              <a:rPr b="1" lang="it-IT" sz="2400" spc="-1" strike="noStrike">
                <a:solidFill>
                  <a:srgbClr val="ffff00"/>
                </a:solidFill>
                <a:latin typeface="Calibri"/>
              </a:rPr>
              <a:t>precisazioni </a:t>
            </a:r>
            <a:r>
              <a:rPr b="1" lang="it-IT" sz="2400" spc="-1" strike="noStrike">
                <a:solidFill>
                  <a:srgbClr val="ffffff"/>
                </a:solidFill>
                <a:latin typeface="Calibri"/>
              </a:rPr>
              <a:t>ritenute pertinenti .</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Text Box 1"/>
          <p:cNvSpPr/>
          <p:nvPr/>
        </p:nvSpPr>
        <p:spPr>
          <a:xfrm>
            <a:off x="250920" y="836640"/>
            <a:ext cx="8713800" cy="576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Art. 88.</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Procedimento di verifica e di esclusione</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00ff00"/>
                </a:solidFill>
                <a:latin typeface="Calibri"/>
              </a:rPr>
              <a:t> </a:t>
            </a:r>
            <a:r>
              <a:rPr b="1" lang="it-IT" sz="2800" spc="-1" strike="noStrike">
                <a:solidFill>
                  <a:srgbClr val="00ff00"/>
                </a:solidFill>
                <a:latin typeface="Calibri"/>
              </a:rPr>
              <a:t>delle offerte anormalmente basse </a:t>
            </a:r>
            <a:endParaRPr b="0" lang="en-US" sz="28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55, direttiva 2004/18; art. 57, direttiva 2004/17; </a:t>
            </a:r>
            <a:endParaRPr b="0" lang="en-US" sz="1600" spc="-1" strike="noStrike">
              <a:solidFill>
                <a:srgbClr val="ffffff"/>
              </a:solidFill>
              <a:latin typeface="Arial Rounded MT Bold"/>
            </a:endParaRPr>
          </a:p>
          <a:p>
            <a:pPr algn="ctr">
              <a:lnSpc>
                <a:spcPct val="100000"/>
              </a:lnSpc>
              <a:spcBef>
                <a:spcPts val="4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600" spc="-1" strike="noStrike">
                <a:solidFill>
                  <a:srgbClr val="ffff00"/>
                </a:solidFill>
                <a:latin typeface="Calibri"/>
              </a:rPr>
              <a:t>art. 21, legge n. 109/1994; art. 89, D.P.R. n. 554/1999)</a:t>
            </a:r>
            <a:endParaRPr b="0" lang="en-US" sz="16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2) </a:t>
            </a:r>
            <a:r>
              <a:rPr b="1" lang="it-IT" sz="2400" spc="-1" strike="noStrike">
                <a:solidFill>
                  <a:srgbClr val="ffffff"/>
                </a:solidFill>
                <a:latin typeface="Calibri"/>
              </a:rPr>
              <a:t>All'offerente e' assegnato un termine non inferiore a  cinque giorni  per presentare per iscritto le </a:t>
            </a:r>
            <a:r>
              <a:rPr b="1" lang="it-IT" sz="2400" spc="-1" strike="noStrike">
                <a:solidFill>
                  <a:srgbClr val="ffff00"/>
                </a:solidFill>
                <a:latin typeface="Calibri"/>
              </a:rPr>
              <a:t>precisazioni</a:t>
            </a:r>
            <a:r>
              <a:rPr b="1" lang="it-IT" sz="2400" spc="-1" strike="noStrike">
                <a:solidFill>
                  <a:srgbClr val="ffffff"/>
                </a:solidFill>
                <a:latin typeface="Calibri"/>
              </a:rPr>
              <a:t>  richies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3) </a:t>
            </a:r>
            <a:r>
              <a:rPr b="1" lang="it-IT" sz="2400" spc="-1" strike="noStrike">
                <a:solidFill>
                  <a:srgbClr val="ffffff"/>
                </a:solidFill>
                <a:latin typeface="Calibri"/>
              </a:rPr>
              <a:t>Prima di escludere l'offerta, ritenuta eccessivamente bassa, la stazione appaltante </a:t>
            </a:r>
            <a:r>
              <a:rPr b="1" lang="it-IT" sz="2400" spc="-1" strike="noStrike">
                <a:solidFill>
                  <a:srgbClr val="ffff00"/>
                </a:solidFill>
                <a:latin typeface="Calibri"/>
              </a:rPr>
              <a:t>convoca</a:t>
            </a:r>
            <a:r>
              <a:rPr b="1" lang="it-IT" sz="2400" spc="-1" strike="noStrike">
                <a:solidFill>
                  <a:srgbClr val="ffffff"/>
                </a:solidFill>
                <a:latin typeface="Calibri"/>
              </a:rPr>
              <a:t> l'offerente con un anticipo non inferiore a tre giorni  lavorativi e lo invita a indicare ogni elemento che ritenga uti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4) </a:t>
            </a:r>
            <a:r>
              <a:rPr b="1" lang="it-IT" sz="2400" spc="-1" strike="noStrike">
                <a:solidFill>
                  <a:srgbClr val="ffffff"/>
                </a:solidFill>
                <a:latin typeface="Calibri"/>
              </a:rPr>
              <a:t>Se l'offerente non si presenta alla data di convocazione stabilita, la stazione appaltante può prescindere dalla sua audizion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1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B09EE-5F2B-477D-A466-D2E12817B14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7"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3665C6-BD47-41DB-8972-E7792C4A827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1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20" name="Text Box 3"/>
          <p:cNvSpPr/>
          <p:nvPr/>
        </p:nvSpPr>
        <p:spPr>
          <a:xfrm>
            <a:off x="179280" y="915840"/>
            <a:ext cx="8856720" cy="560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Calibri"/>
              </a:rPr>
              <a:t>(D.P.R. n. 573/1994)</a:t>
            </a:r>
            <a:endParaRPr b="0" lang="en-US" sz="1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i termini di ricezione delle domande di partecipazione e</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elle offerte, e di comunicazione dei capitolati e dei</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ocumenti complementari, si applicano </a:t>
            </a:r>
            <a:r>
              <a:rPr b="1" lang="it-IT" sz="2800" spc="-1" strike="noStrike">
                <a:solidFill>
                  <a:srgbClr val="ffff00"/>
                </a:solidFill>
                <a:latin typeface="Calibri"/>
              </a:rPr>
              <a:t>l’art. 70</a:t>
            </a:r>
            <a:r>
              <a:rPr b="1" lang="it-IT" sz="2800" spc="-1" strike="noStrike">
                <a:solidFill>
                  <a:srgbClr val="ffffff"/>
                </a:solidFill>
                <a:latin typeface="Calibri"/>
              </a:rPr>
              <a:t>, comma</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1  e comma 10, in tema di regole generali sulla fissazione</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dei termini e sul  prolungamento dei termini, nonché gli </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rticoli 71 e 72</a:t>
            </a:r>
            <a:r>
              <a:rPr b="1" lang="it-IT" sz="2800" spc="-1" strike="noStrike">
                <a:solidFill>
                  <a:srgbClr val="ffffff"/>
                </a:solidFill>
                <a:latin typeface="Calibri"/>
              </a:rPr>
              <a:t>, e inoltre le seguenti regole:</a:t>
            </a:r>
            <a:endParaRPr b="0" lang="en-US" sz="2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 </a:t>
            </a:r>
            <a:r>
              <a:rPr b="1" lang="it-IT" sz="2400" spc="-1" strike="noStrike">
                <a:solidFill>
                  <a:srgbClr val="ffffff"/>
                </a:solidFill>
                <a:latin typeface="Calibri"/>
              </a:rPr>
              <a:t>nelle </a:t>
            </a:r>
            <a:r>
              <a:rPr b="1" lang="it-IT" sz="2400" spc="-1" strike="noStrike">
                <a:solidFill>
                  <a:srgbClr val="ffff00"/>
                </a:solidFill>
                <a:latin typeface="Calibri"/>
              </a:rPr>
              <a:t>procedure aperte, </a:t>
            </a:r>
            <a:r>
              <a:rPr b="1" lang="it-IT" sz="2400" spc="-1" strike="noStrike">
                <a:solidFill>
                  <a:srgbClr val="ffffff"/>
                </a:solidFill>
                <a:latin typeface="Calibri"/>
              </a:rPr>
              <a:t>il termine per la ricezione delle offer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che  decorre dalla pubblicazione del bando nella Gazzetta Ufficia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della Repubblica italiana non puo'essere inferiore a </a:t>
            </a:r>
            <a:r>
              <a:rPr b="1" lang="it-IT" sz="2400" spc="-1" strike="noStrike">
                <a:solidFill>
                  <a:srgbClr val="66ffff"/>
                </a:solidFill>
                <a:latin typeface="Calibri"/>
              </a:rPr>
              <a:t>quindici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Text Box 1"/>
          <p:cNvSpPr/>
          <p:nvPr/>
        </p:nvSpPr>
        <p:spPr>
          <a:xfrm>
            <a:off x="179280" y="1268280"/>
            <a:ext cx="8713800" cy="470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00"/>
                </a:solidFill>
                <a:latin typeface="Calibri"/>
              </a:rPr>
              <a:t>(D.P.R. n. 573/1994)</a:t>
            </a:r>
            <a:endParaRPr b="0" lang="en-US" sz="1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b) </a:t>
            </a:r>
            <a:r>
              <a:rPr b="1" lang="it-IT" sz="2400" spc="-1" strike="noStrike">
                <a:solidFill>
                  <a:srgbClr val="ffffff"/>
                </a:solidFill>
                <a:latin typeface="Calibri"/>
              </a:rPr>
              <a:t>nelle </a:t>
            </a:r>
            <a:r>
              <a:rPr b="1" lang="it-IT" sz="2400" spc="-1" strike="noStrike">
                <a:solidFill>
                  <a:srgbClr val="ffff00"/>
                </a:solidFill>
                <a:latin typeface="Calibri"/>
              </a:rPr>
              <a:t>procedure ristrette</a:t>
            </a:r>
            <a:r>
              <a:rPr b="1" lang="it-IT" sz="2400" spc="-1" strike="noStrike">
                <a:solidFill>
                  <a:srgbClr val="ffffff"/>
                </a:solidFill>
                <a:latin typeface="Calibri"/>
              </a:rPr>
              <a:t>, nelle </a:t>
            </a:r>
            <a:r>
              <a:rPr b="1" lang="it-IT" sz="2400" spc="-1" strike="noStrike">
                <a:solidFill>
                  <a:srgbClr val="ffff00"/>
                </a:solidFill>
                <a:latin typeface="Calibri"/>
              </a:rPr>
              <a:t>procedure negoziate </a:t>
            </a:r>
            <a:r>
              <a:rPr b="1" lang="it-IT" sz="2400" spc="-1" strike="noStrike">
                <a:solidFill>
                  <a:srgbClr val="ffffff"/>
                </a:solidFill>
                <a:latin typeface="Calibri"/>
              </a:rPr>
              <a:t>previa pubblicazione di un bando di gara, e nel </a:t>
            </a:r>
            <a:r>
              <a:rPr b="1" lang="it-IT" sz="2400" spc="-1" strike="noStrike">
                <a:solidFill>
                  <a:srgbClr val="ffff00"/>
                </a:solidFill>
                <a:latin typeface="Calibri"/>
              </a:rPr>
              <a:t>dialogo competitivo, </a:t>
            </a:r>
            <a:r>
              <a:rPr b="1" lang="it-IT" sz="2400" spc="-1" strike="noStrike">
                <a:solidFill>
                  <a:srgbClr val="ffffff"/>
                </a:solidFill>
                <a:latin typeface="Calibri"/>
              </a:rPr>
              <a:t>il termine per</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la ricezione delle domande di partecipazione, avente la decorrenza di cui alla lettera a), non può essere inferiore a </a:t>
            </a:r>
            <a:r>
              <a:rPr b="1" lang="it-IT" sz="2400" spc="-1" strike="noStrike">
                <a:solidFill>
                  <a:srgbClr val="66ffff"/>
                </a:solidFill>
                <a:latin typeface="Calibri"/>
              </a:rPr>
              <a:t>sette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c) </a:t>
            </a:r>
            <a:r>
              <a:rPr b="1" lang="it-IT" sz="2400" spc="-1" strike="noStrike">
                <a:solidFill>
                  <a:srgbClr val="ffffff"/>
                </a:solidFill>
                <a:latin typeface="Calibri"/>
              </a:rPr>
              <a:t>nelle </a:t>
            </a:r>
            <a:r>
              <a:rPr b="1" lang="it-IT" sz="2400" spc="-1" strike="noStrike">
                <a:solidFill>
                  <a:srgbClr val="ffff00"/>
                </a:solidFill>
                <a:latin typeface="Calibri"/>
              </a:rPr>
              <a:t>procedure ristrette, </a:t>
            </a:r>
            <a:r>
              <a:rPr b="1" lang="it-IT" sz="2400" spc="-1" strike="noStrike">
                <a:solidFill>
                  <a:srgbClr val="ffffff"/>
                </a:solidFill>
                <a:latin typeface="Calibri"/>
              </a:rPr>
              <a:t>il termine per la ricezione delle offerte, decorrente dalla data di Invio dell'invito, non può essere inferiore a </a:t>
            </a:r>
            <a:r>
              <a:rPr b="1" lang="it-IT" sz="2400" spc="-1" strike="noStrike">
                <a:solidFill>
                  <a:srgbClr val="66ffff"/>
                </a:solidFill>
                <a:latin typeface="Calibri"/>
              </a:rPr>
              <a:t>dieci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p:txBody>
      </p:sp>
      <p:sp>
        <p:nvSpPr>
          <p:cNvPr id="152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05084-9581-4C2C-AD81-36D795E972C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AEE0E0-3F19-4AA0-9409-92C280405A9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5"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526" name="Text Box 3"/>
          <p:cNvSpPr/>
          <p:nvPr/>
        </p:nvSpPr>
        <p:spPr>
          <a:xfrm>
            <a:off x="468360" y="885960"/>
            <a:ext cx="8424720" cy="558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00"/>
                </a:solidFill>
                <a:latin typeface="Calibri"/>
              </a:rPr>
              <a:t>Art. 124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00ff00"/>
                </a:solidFill>
                <a:latin typeface="Calibri"/>
              </a:rPr>
              <a:t>Appalti di servizi e forniture sotto sogl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D.P.R. n. 573/1994)</a:t>
            </a:r>
            <a:endParaRPr b="0" lang="en-US" sz="18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d) </a:t>
            </a:r>
            <a:r>
              <a:rPr b="1" lang="it-IT" sz="2200" spc="-1" strike="noStrike">
                <a:solidFill>
                  <a:srgbClr val="ffffff"/>
                </a:solidFill>
                <a:latin typeface="Calibri"/>
              </a:rPr>
              <a:t>nelle </a:t>
            </a:r>
            <a:r>
              <a:rPr b="1" lang="it-IT" sz="2200" spc="-1" strike="noStrike">
                <a:solidFill>
                  <a:srgbClr val="ffff00"/>
                </a:solidFill>
                <a:latin typeface="Calibri"/>
              </a:rPr>
              <a:t>procedure negoziate, con o senza bando, e nel dialog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competitivo, </a:t>
            </a:r>
            <a:r>
              <a:rPr b="1" lang="it-IT" sz="2200" spc="-1" strike="noStrike">
                <a:solidFill>
                  <a:srgbClr val="ffffff"/>
                </a:solidFill>
                <a:latin typeface="Calibri"/>
              </a:rPr>
              <a:t>il termine  per la ricezione delle offerte viene stabili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dalle stazioni appaltanti nel rispetto del comma 1 dell'articolo 70 e, </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ove non vi siano specifiche ragioni di urgenza, </a:t>
            </a:r>
            <a:r>
              <a:rPr b="1" lang="it-IT" sz="2200" spc="-1" strike="noStrike">
                <a:solidFill>
                  <a:srgbClr val="66ffff"/>
                </a:solidFill>
                <a:latin typeface="Calibri"/>
              </a:rPr>
              <a:t>non</a:t>
            </a:r>
            <a:r>
              <a:rPr b="1" lang="it-IT" sz="2200" spc="-1" strike="noStrike">
                <a:solidFill>
                  <a:srgbClr val="ffffff"/>
                </a:solidFill>
                <a:latin typeface="Calibri"/>
              </a:rPr>
              <a:t> può esser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66ffff"/>
                </a:solidFill>
                <a:latin typeface="Calibri"/>
              </a:rPr>
              <a:t>inferiore a dieci giorni </a:t>
            </a:r>
            <a:r>
              <a:rPr b="1" lang="it-IT" sz="2200" spc="-1" strike="noStrike">
                <a:solidFill>
                  <a:srgbClr val="ffffff"/>
                </a:solidFill>
                <a:latin typeface="Calibri"/>
              </a:rPr>
              <a:t>dalla data di invio dell'invito;</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e) </a:t>
            </a:r>
            <a:r>
              <a:rPr b="1" lang="it-IT" sz="2200" spc="-1" strike="noStrike">
                <a:solidFill>
                  <a:srgbClr val="ffffff"/>
                </a:solidFill>
                <a:latin typeface="Calibri"/>
              </a:rPr>
              <a:t>nelle</a:t>
            </a:r>
            <a:r>
              <a:rPr b="1" lang="it-IT" sz="2200" spc="-1" strike="noStrike">
                <a:solidFill>
                  <a:srgbClr val="ffff00"/>
                </a:solidFill>
                <a:latin typeface="Calibri"/>
              </a:rPr>
              <a:t> procedure aperte, nelle procedure negoziate previo bando 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rPr>
              <a:t>nel dialogo competitivo</a:t>
            </a:r>
            <a:r>
              <a:rPr b="1" lang="it-IT" sz="2200" spc="-1" strike="noStrike">
                <a:solidFill>
                  <a:srgbClr val="ffffff"/>
                </a:solidFill>
                <a:latin typeface="Calibri"/>
              </a:rPr>
              <a:t>, quando del contratto e' stata data notizia</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con l'avviso di preinformazione, il termine di ricezione delle offer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può essere ridotto </a:t>
            </a:r>
            <a:r>
              <a:rPr b="1" lang="it-IT" sz="2200" spc="-1" strike="noStrike">
                <a:solidFill>
                  <a:srgbClr val="66ffff"/>
                </a:solidFill>
                <a:latin typeface="Calibri"/>
              </a:rPr>
              <a:t>a dieci giorni </a:t>
            </a:r>
            <a:r>
              <a:rPr b="1" lang="it-IT" sz="2200" spc="-1" strike="noStrike">
                <a:solidFill>
                  <a:srgbClr val="ffffff"/>
                </a:solidFill>
                <a:latin typeface="Calibri"/>
              </a:rPr>
              <a:t>e comunque </a:t>
            </a:r>
            <a:r>
              <a:rPr b="1" lang="it-IT" sz="2200" spc="-1" strike="noStrike">
                <a:solidFill>
                  <a:srgbClr val="66ffff"/>
                </a:solidFill>
                <a:latin typeface="Calibri"/>
              </a:rPr>
              <a:t>mai</a:t>
            </a:r>
            <a:r>
              <a:rPr b="1" lang="it-IT" sz="2200" spc="-1" strike="noStrike">
                <a:solidFill>
                  <a:srgbClr val="ffffff"/>
                </a:solidFill>
                <a:latin typeface="Calibri"/>
              </a:rPr>
              <a:t> a meno di </a:t>
            </a:r>
            <a:r>
              <a:rPr b="1" lang="it-IT" sz="2200" spc="-1" strike="noStrike">
                <a:solidFill>
                  <a:srgbClr val="66ffff"/>
                </a:solidFill>
                <a:latin typeface="Calibri"/>
              </a:rPr>
              <a:t>sette</a:t>
            </a:r>
            <a:endParaRPr b="0" lang="en-US" sz="2200" spc="-1" strike="noStrike">
              <a:solidFill>
                <a:srgbClr val="ffffff"/>
              </a:solidFill>
              <a:latin typeface="Arial Rounded MT Bold"/>
            </a:endParaRPr>
          </a:p>
          <a:p>
            <a:pPr algn="just">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66ffff"/>
                </a:solidFill>
                <a:latin typeface="Calibri"/>
              </a:rPr>
              <a:t>giorni</a:t>
            </a:r>
            <a:r>
              <a:rPr b="1" lang="it-IT" sz="2200" spc="-1" strike="noStrike">
                <a:solidFill>
                  <a:srgbClr val="ffffff"/>
                </a:solidFill>
                <a:latin typeface="Calibri"/>
              </a:rPr>
              <a:t>, decorrenti, nelle procedure aperte, dalla pubblicazione del</a:t>
            </a:r>
            <a:endParaRPr b="0" lang="en-US" sz="22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ff"/>
                </a:solidFill>
                <a:latin typeface="Calibri"/>
              </a:rPr>
              <a:t>bando e per le altre procedure, dalla spedizione della lettera d’invito</a:t>
            </a:r>
            <a:r>
              <a:rPr b="1" lang="it-IT" sz="2400" spc="-1" strike="noStrike">
                <a:solidFill>
                  <a:srgbClr val="ffffff"/>
                </a:solidFill>
                <a:latin typeface="Calibri"/>
              </a:rPr>
              <a:t>.</a:t>
            </a:r>
            <a:endParaRPr b="0" lang="en-US" sz="2400" spc="-1" strike="noStrike">
              <a:solidFill>
                <a:srgbClr val="ffffff"/>
              </a:solidFill>
              <a:latin typeface="Arial Rounded MT Bol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1"/>
          <p:cNvSpPr/>
          <p:nvPr/>
        </p:nvSpPr>
        <p:spPr>
          <a:xfrm>
            <a:off x="611280" y="765000"/>
            <a:ext cx="8208720" cy="613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rt. 124 </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00ff00"/>
                </a:solidFill>
                <a:latin typeface="Calibri"/>
              </a:rPr>
              <a:t>Appalti di servizi e forniture sotto soglia</a:t>
            </a:r>
            <a:endParaRPr b="0" lang="en-US" sz="3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1800" spc="-1" strike="noStrike">
                <a:solidFill>
                  <a:srgbClr val="ffffff"/>
                </a:solidFill>
                <a:latin typeface="Calibri"/>
              </a:rPr>
              <a:t>(D.P.R. n. 573/1994)</a:t>
            </a:r>
            <a:endParaRPr b="0" lang="en-US" sz="1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f) </a:t>
            </a:r>
            <a:r>
              <a:rPr b="1" lang="it-IT" sz="2400" spc="-1" strike="noStrike">
                <a:solidFill>
                  <a:srgbClr val="ffffff"/>
                </a:solidFill>
                <a:latin typeface="Calibri"/>
              </a:rPr>
              <a:t>nelle</a:t>
            </a:r>
            <a:r>
              <a:rPr b="1" lang="it-IT" sz="2400" spc="-1" strike="noStrike">
                <a:solidFill>
                  <a:srgbClr val="ffff00"/>
                </a:solidFill>
                <a:latin typeface="Calibri"/>
              </a:rPr>
              <a:t> procedure ristrette e nelle procedure negoziate con</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pubblicazione di un bando di gara</a:t>
            </a:r>
            <a:r>
              <a:rPr b="1" lang="it-IT" sz="2400" spc="-1" strike="noStrike">
                <a:solidFill>
                  <a:srgbClr val="ffffff"/>
                </a:solidFill>
                <a:latin typeface="Calibri"/>
              </a:rPr>
              <a:t>, quando l'urgenza rend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mpossibile rispettare i termini minimi previsti dal present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icolo, le stazioni appaltanti, </a:t>
            </a:r>
            <a:r>
              <a:rPr b="1" lang="it-IT" sz="2400" spc="-1" strike="noStrike">
                <a:solidFill>
                  <a:srgbClr val="66ffff"/>
                </a:solidFill>
                <a:latin typeface="Calibri"/>
              </a:rPr>
              <a:t>purché indichino nel bando</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66ffff"/>
                </a:solidFill>
                <a:latin typeface="Calibri"/>
              </a:rPr>
              <a:t>di gara le ragioni dell'urgenza,</a:t>
            </a:r>
            <a:r>
              <a:rPr b="1" lang="it-IT" sz="2400" spc="-1" strike="noStrike">
                <a:solidFill>
                  <a:srgbClr val="ffffff"/>
                </a:solidFill>
                <a:latin typeface="Calibri"/>
              </a:rPr>
              <a:t> possono stabilire un termin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per la ricezione delle domande di partecipazione, </a:t>
            </a:r>
            <a:r>
              <a:rPr b="1" lang="it-IT" sz="2400" spc="-1" strike="noStrike">
                <a:solidFill>
                  <a:srgbClr val="66ffff"/>
                </a:solidFill>
                <a:latin typeface="Calibri"/>
              </a:rPr>
              <a:t>non</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66ffff"/>
                </a:solidFill>
                <a:latin typeface="Calibri"/>
              </a:rPr>
              <a:t>inferiore a dieci giorni</a:t>
            </a:r>
            <a:r>
              <a:rPr b="1" lang="it-IT" sz="2400" spc="-1" strike="noStrike">
                <a:solidFill>
                  <a:srgbClr val="ffffff"/>
                </a:solidFill>
                <a:latin typeface="Calibri"/>
              </a:rPr>
              <a:t> dalla data di pubblicazione del bando</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di gara nella Gazzetta Ufficiale della Repubblica italiana 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nelle </a:t>
            </a:r>
            <a:r>
              <a:rPr b="1" lang="it-IT" sz="2400" spc="-1" strike="noStrike">
                <a:solidFill>
                  <a:srgbClr val="ffff00"/>
                </a:solidFill>
                <a:latin typeface="Calibri"/>
              </a:rPr>
              <a:t>procedure ristrette, </a:t>
            </a:r>
            <a:r>
              <a:rPr b="1" lang="it-IT" sz="2400" spc="-1" strike="noStrike">
                <a:solidFill>
                  <a:srgbClr val="ffffff"/>
                </a:solidFill>
                <a:latin typeface="Calibri"/>
              </a:rPr>
              <a:t>un termine per la ricezione delle</a:t>
            </a:r>
            <a:endParaRPr b="0" lang="en-US" sz="24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offerte </a:t>
            </a:r>
            <a:r>
              <a:rPr b="1" lang="it-IT" sz="2400" spc="-1" strike="noStrike">
                <a:solidFill>
                  <a:srgbClr val="66ffff"/>
                </a:solidFill>
                <a:latin typeface="Calibri"/>
              </a:rPr>
              <a:t>non inferiore a cinque giorni</a:t>
            </a:r>
            <a:r>
              <a:rPr b="1" lang="it-IT" sz="2400" spc="-1" strike="noStrike">
                <a:solidFill>
                  <a:srgbClr val="ffffff"/>
                </a:solidFill>
                <a:latin typeface="Calibri"/>
              </a:rPr>
              <a:t>.</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2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CA5B8-A6C6-409E-9BA7-D1A98B432BC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2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98936-B8C3-4099-B0AF-3B7FD2893D3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3" name="Text Box 2"/>
          <p:cNvSpPr/>
          <p:nvPr/>
        </p:nvSpPr>
        <p:spPr>
          <a:xfrm>
            <a:off x="685800" y="0"/>
            <a:ext cx="7772400" cy="785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4" name="Text Box 3"/>
          <p:cNvSpPr/>
          <p:nvPr/>
        </p:nvSpPr>
        <p:spPr>
          <a:xfrm>
            <a:off x="179280" y="619200"/>
            <a:ext cx="8569440" cy="596412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Il </a:t>
            </a:r>
            <a:r>
              <a:rPr b="1" lang="it-IT" sz="2800" spc="-1" strike="noStrike">
                <a:solidFill>
                  <a:srgbClr val="ffff00"/>
                </a:solidFill>
                <a:latin typeface="Calibri"/>
              </a:rPr>
              <a:t>Codice dei Contratti Pubblici </a:t>
            </a:r>
            <a:r>
              <a:rPr b="1" lang="it-IT" sz="2800" spc="-1" strike="noStrike">
                <a:solidFill>
                  <a:srgbClr val="ffffff"/>
                </a:solidFill>
                <a:latin typeface="Calibri"/>
              </a:rPr>
              <a:t>che diventa un </a:t>
            </a:r>
            <a:r>
              <a:rPr b="1" lang="it-IT" sz="2800" spc="-1" strike="noStrike">
                <a:solidFill>
                  <a:srgbClr val="ffff00"/>
                </a:solidFill>
                <a:latin typeface="Calibri"/>
              </a:rPr>
              <a:t>“Testo unico”, </a:t>
            </a:r>
            <a:r>
              <a:rPr b="1" lang="it-IT" sz="2800" spc="-1" strike="noStrike">
                <a:solidFill>
                  <a:srgbClr val="ffffff"/>
                </a:solidFill>
                <a:latin typeface="Calibri"/>
              </a:rPr>
              <a:t>in quanto in esso confluisce tutta la normativa degli appalti sia al di sopra che al di sotto della soglia di rilevanza comunitaria, nel quale assume particolare rilevanza il principio della </a:t>
            </a:r>
            <a:r>
              <a:rPr b="1" lang="it-IT" sz="2800" spc="-1" strike="noStrike">
                <a:solidFill>
                  <a:srgbClr val="66ffff"/>
                </a:solidFill>
                <a:latin typeface="Calibri"/>
              </a:rPr>
              <a:t>“concorrenzialità” </a:t>
            </a:r>
            <a:r>
              <a:rPr b="1" lang="it-IT" sz="2800" spc="-1" strike="noStrike">
                <a:solidFill>
                  <a:srgbClr val="ffffff"/>
                </a:solidFill>
                <a:latin typeface="Calibri"/>
              </a:rPr>
              <a:t>che è caratterizzato da due aspetti fondamentali: </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1) </a:t>
            </a:r>
            <a:r>
              <a:rPr b="1" lang="it-IT" sz="2800" spc="-1" strike="noStrike">
                <a:solidFill>
                  <a:srgbClr val="ffff00"/>
                </a:solidFill>
                <a:latin typeface="Calibri"/>
              </a:rPr>
              <a:t>maggior rigore nella predeterminazione dei criteri di valutazione dell’offerta economicamente più vantaggiosa; </a:t>
            </a:r>
            <a:endParaRPr b="0" lang="en-US" sz="2800" spc="-1" strike="noStrike">
              <a:solidFill>
                <a:srgbClr val="ffffff"/>
              </a:solidFill>
              <a:latin typeface="Arial Rounded MT Bold"/>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ff"/>
                </a:solidFill>
                <a:latin typeface="Calibri"/>
              </a:rPr>
              <a:t>2) </a:t>
            </a:r>
            <a:r>
              <a:rPr b="1" lang="it-IT" sz="2800" spc="-1" strike="noStrike">
                <a:solidFill>
                  <a:srgbClr val="ffff00"/>
                </a:solidFill>
                <a:latin typeface="Calibri"/>
              </a:rPr>
              <a:t>contraddittorio più articolato nella fase di verifica delle offerte “anomale”. </a:t>
            </a:r>
            <a:endParaRPr b="0" lang="en-US" sz="2800" spc="-1" strike="noStrike">
              <a:solidFill>
                <a:srgbClr val="ffffff"/>
              </a:solidFill>
              <a:latin typeface="Arial Rounded MT Bold"/>
            </a:endParaRPr>
          </a:p>
          <a:p>
            <a:pPr marL="341280" indent="-34128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400" spc="-1" strike="noStrike">
                <a:solidFill>
                  <a:srgbClr val="00ff00"/>
                </a:solidFill>
                <a:latin typeface="Calibri"/>
              </a:rPr>
              <a:t>    </a:t>
            </a:r>
            <a:endParaRPr b="0" lang="en-US" sz="2400" spc="-1" strike="noStrike">
              <a:solidFill>
                <a:srgbClr val="ffffff"/>
              </a:solidFill>
              <a:latin typeface="Arial Rounded MT Bol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Text Box 1"/>
          <p:cNvSpPr/>
          <p:nvPr/>
        </p:nvSpPr>
        <p:spPr>
          <a:xfrm>
            <a:off x="468360" y="765000"/>
            <a:ext cx="8280360" cy="6426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ff"/>
                </a:solidFill>
                <a:latin typeface="Calibri"/>
              </a:rPr>
              <a:t>Art. 125 </a:t>
            </a:r>
            <a:endParaRPr b="0" lang="en-US" sz="4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avori, servizi e forniture in economia</a:t>
            </a:r>
            <a:endParaRPr b="0" lang="en-US" sz="32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istituto delle acquisizioni in economia, da parte delle Stazioni Appaltanti  pubbliche, previsto e normato dal nostro ordinamento giuridico già immediatamente dopo l’unità d’Italia ( artt. 328, 329, 341, legge 28 marzo 1865 n. 2248; art. 67, R.D. 25 maggio 1865 n. 350), trova </a:t>
            </a:r>
            <a:r>
              <a:rPr b="1" lang="it-IT" sz="2800" spc="-1" strike="noStrike">
                <a:solidFill>
                  <a:srgbClr val="ffff00"/>
                </a:solidFill>
                <a:latin typeface="Calibri"/>
              </a:rPr>
              <a:t>oggi</a:t>
            </a:r>
            <a:r>
              <a:rPr b="1" lang="it-IT" sz="2800" spc="-1" strike="noStrike">
                <a:solidFill>
                  <a:srgbClr val="ffffff"/>
                </a:solidFill>
                <a:latin typeface="Calibri"/>
              </a:rPr>
              <a:t> la sua disciplina di riferimento </a:t>
            </a:r>
            <a:r>
              <a:rPr b="1" lang="it-IT" sz="2800" spc="-1" strike="noStrike">
                <a:solidFill>
                  <a:srgbClr val="ffff00"/>
                </a:solidFill>
                <a:latin typeface="Calibri"/>
              </a:rPr>
              <a:t>nell’art. 125 del d.l.gs.163/2006 “Codice dei contratti pubblici” </a:t>
            </a:r>
            <a:r>
              <a:rPr b="1" lang="it-IT" sz="2800" spc="-1" strike="noStrike">
                <a:solidFill>
                  <a:srgbClr val="ffffff"/>
                </a:solidFill>
                <a:latin typeface="Calibri"/>
              </a:rPr>
              <a:t>che prevede che esse possano essere esperite utilizzando due procedure, quella di </a:t>
            </a:r>
            <a:r>
              <a:rPr b="1" lang="it-IT" sz="2800" spc="-1" strike="noStrike">
                <a:solidFill>
                  <a:srgbClr val="ffff00"/>
                </a:solidFill>
                <a:latin typeface="Calibri"/>
              </a:rPr>
              <a:t>amministrazione diretta </a:t>
            </a:r>
            <a:r>
              <a:rPr b="1" lang="it-IT" sz="2800" spc="-1" strike="noStrike">
                <a:solidFill>
                  <a:srgbClr val="ffffff"/>
                </a:solidFill>
                <a:latin typeface="Calibri"/>
              </a:rPr>
              <a:t>o quella di </a:t>
            </a:r>
            <a:r>
              <a:rPr b="1" lang="it-IT" sz="2800" spc="-1" strike="noStrike">
                <a:solidFill>
                  <a:srgbClr val="ffff00"/>
                </a:solidFill>
                <a:latin typeface="Calibri"/>
              </a:rPr>
              <a:t>cottimo fiduciario. </a:t>
            </a:r>
            <a:endParaRPr b="0" lang="en-US" sz="2800" spc="-1" strike="noStrike">
              <a:solidFill>
                <a:srgbClr val="ffffff"/>
              </a:solidFill>
              <a:latin typeface="Arial Rounded MT Bold"/>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3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098EE-D319-4077-BA23-5F1362A7347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Text Box 1"/>
          <p:cNvSpPr/>
          <p:nvPr/>
        </p:nvSpPr>
        <p:spPr>
          <a:xfrm>
            <a:off x="0" y="549360"/>
            <a:ext cx="8820000" cy="6308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mministrazione diretta,riferibile soprattutto all'esecuzione di lavori e di servizi, è la procedura attraverso la quale le acquisizioni vengono effettuate delle stazioni appaltanti, con materiali e mezzi propri, o appositamente acquistati o noleggiati, e con personale proprio o eventualmente assunto per l'occasione, sotto la direzione del responsabile del procedimento</a:t>
            </a:r>
            <a:r>
              <a:rPr b="0" lang="it-IT" sz="2400" spc="-1" strike="noStrike">
                <a:solidFill>
                  <a:srgbClr val="ffffff"/>
                </a:solidFill>
                <a:latin typeface="Times New Roman"/>
              </a:rPr>
              <a:t> </a:t>
            </a:r>
            <a:r>
              <a:rPr b="1" lang="it-IT" sz="2400" spc="-1" strike="noStrike">
                <a:solidFill>
                  <a:srgbClr val="ffffff"/>
                </a:solidFill>
                <a:latin typeface="Times New Roman"/>
              </a:rPr>
              <a:t>ai sensi di quanto disposto dall’art. 10 del Codice dei Contratti Pubblici. </a:t>
            </a:r>
            <a:r>
              <a:rPr b="1" lang="it-IT" sz="2400" spc="-1" strike="noStrike">
                <a:solidFill>
                  <a:srgbClr val="ffffff"/>
                </a:solidFill>
                <a:latin typeface="Calibri"/>
              </a:rPr>
              <a:t> </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mministrazione diretta, si sostanzia, da un lato, attraverso organizzazione ed esecuzione di opere con personale legato da rapporto di lavoro subordinato alla stazione appaltante e, dall’altro, facendo ricorso alla provvista di materiali e mezzi da terzi.</a:t>
            </a:r>
            <a:endParaRPr b="0" lang="en-US" sz="2400" spc="-1" strike="noStrike">
              <a:solidFill>
                <a:srgbClr val="ffffff"/>
              </a:solidFill>
              <a:latin typeface="Arial Rounded MT Bold"/>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Rounded MT Bold"/>
            </a:endParaRPr>
          </a:p>
          <a:p>
            <a:pPr>
              <a:lnSpc>
                <a:spcPct val="100000"/>
              </a:lnSpc>
              <a:spcBef>
                <a:spcPts val="3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200" spc="-1" strike="noStrike">
              <a:solidFill>
                <a:srgbClr val="ffffff"/>
              </a:solidFill>
              <a:latin typeface="Arial Rounded MT Bold"/>
            </a:endParaRPr>
          </a:p>
        </p:txBody>
      </p:sp>
      <p:sp>
        <p:nvSpPr>
          <p:cNvPr id="153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8B1BF-5BA8-43B0-B5DA-6D594249BE1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5" name="Text Box 3"/>
          <p:cNvSpPr/>
          <p:nvPr/>
        </p:nvSpPr>
        <p:spPr>
          <a:xfrm>
            <a:off x="685800" y="-9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Text Box 1"/>
          <p:cNvSpPr/>
          <p:nvPr/>
        </p:nvSpPr>
        <p:spPr>
          <a:xfrm>
            <a:off x="324000" y="765000"/>
            <a:ext cx="8496000" cy="594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È dunque un sistema di acquisto di tipo misto, con una prima fase di  tipo burocratico, per  la realizzazione degli obiettivi, ed una seconda fase  di tipo contrattuale, per l'acquisizione dei beni da impiegare.</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L’attività, in vista della  sua realizzazione, fa capo al funzionario della pubblica amministrazione </a:t>
            </a:r>
            <a:r>
              <a:rPr b="1" lang="it-IT" sz="2400" spc="-1" strike="noStrike">
                <a:solidFill>
                  <a:srgbClr val="ffff00"/>
                </a:solidFill>
                <a:latin typeface="Calibri"/>
              </a:rPr>
              <a:t>(nelle  scuole il D.S.) </a:t>
            </a:r>
            <a:r>
              <a:rPr b="1" lang="it-IT" sz="2400" spc="-1" strike="noStrike">
                <a:solidFill>
                  <a:srgbClr val="ffffff"/>
                </a:solidFill>
                <a:latin typeface="Calibri"/>
              </a:rPr>
              <a:t>competente ad organizzare le risorse umane e strumentali così diversamente assortite, mentre il rapporto con il personale proprio o appositamente assunto viene sottoposto alla disciplina dalle norme di legge in materia di lavoro subordinato.</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3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C73C4-4076-4FDF-9F74-10237945471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3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Text Box 1"/>
          <p:cNvSpPr/>
          <p:nvPr/>
        </p:nvSpPr>
        <p:spPr>
          <a:xfrm>
            <a:off x="395280" y="907920"/>
            <a:ext cx="8424720" cy="634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mministrazione dirett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acquisizioni di beni e/o servizi  si  formalizza con la stipula, in forma semplificata, di specifici contratti con i fornitori quali ad esempio la compravendita o  la somministrazione.</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l ricorso all'amministrazione diretta per quanto attiene le  forniture è, invece, molto infrequente</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Tuttavia tale procedura è esperibile.</a:t>
            </a:r>
            <a:endParaRPr b="0" lang="en-US" sz="28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54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FA61E-97BE-4D91-9CFE-CDB8C4E6ADA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Text Box 1"/>
          <p:cNvSpPr/>
          <p:nvPr/>
        </p:nvSpPr>
        <p:spPr>
          <a:xfrm>
            <a:off x="468360" y="765000"/>
            <a:ext cx="8136000" cy="57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rt. 125 </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vori, servizi e forniture in economia</a:t>
            </a:r>
            <a:endParaRPr b="0" lang="en-US" sz="28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ea typeface="Calibri"/>
              </a:rPr>
              <a:t>Cottimo fiduciario</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Il cottimo fiduciario è la procedura attraverso la quale le </a:t>
            </a:r>
            <a:r>
              <a:rPr b="1" lang="it-IT" sz="2400" spc="-1" strike="noStrike">
                <a:solidFill>
                  <a:srgbClr val="ffff00"/>
                </a:solidFill>
                <a:latin typeface="Calibri"/>
                <a:ea typeface="Calibri"/>
              </a:rPr>
              <a:t>acquisizioni di beni e servizi avvengono mediante affidamento a terzi</a:t>
            </a:r>
            <a:r>
              <a:rPr b="1" lang="it-IT" sz="2400" spc="-1" strike="noStrike">
                <a:solidFill>
                  <a:srgbClr val="ffffff"/>
                </a:solidFill>
                <a:latin typeface="Calibri"/>
                <a:ea typeface="Calibri"/>
              </a:rPr>
              <a:t>, siano essi  imprese o singoli contraen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La vigente normativa configura e definisce il </a:t>
            </a:r>
            <a:r>
              <a:rPr b="1" lang="it-IT" sz="2400" spc="-1" strike="noStrike">
                <a:solidFill>
                  <a:srgbClr val="ffff00"/>
                </a:solidFill>
                <a:latin typeface="Calibri"/>
                <a:ea typeface="Calibri"/>
              </a:rPr>
              <a:t>cottimo fiduciario quale procedura negoziata, </a:t>
            </a:r>
            <a:r>
              <a:rPr b="1" lang="it-IT" sz="2400" spc="-1" strike="noStrike">
                <a:solidFill>
                  <a:srgbClr val="ffffff"/>
                </a:solidFill>
                <a:latin typeface="Calibri"/>
                <a:ea typeface="Calibri"/>
              </a:rPr>
              <a:t>in cui le acquisizioni avvengono mediante affidamento a terzi, che viene adottata per  particolari tipologie di lavori la cui  individuazione rientra nella competenza di ciascuna stazione appaltante.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1FA7F-A158-45DC-A125-D7A6B675DAF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Text Box 1"/>
          <p:cNvSpPr/>
          <p:nvPr/>
        </p:nvSpPr>
        <p:spPr>
          <a:xfrm>
            <a:off x="324000" y="765000"/>
            <a:ext cx="8496000" cy="624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Cottimo fiduciario</a:t>
            </a:r>
            <a:endParaRPr b="0" lang="en-US" sz="32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Nel cottimo fiduciario assume risalto il fatto che  l’accordo tra il funzionario dell’amministrazione pubblica  e il terzo contraente di fiducia dallo stesso prescelto  rivesta, non solo, i tratti  i caratteristici  sostanziali </a:t>
            </a:r>
            <a:r>
              <a:rPr b="1" lang="it-IT" sz="2800" spc="-1" strike="noStrike">
                <a:solidFill>
                  <a:srgbClr val="ffff00"/>
                </a:solidFill>
                <a:latin typeface="Calibri"/>
              </a:rPr>
              <a:t>dell’appalto</a:t>
            </a:r>
            <a:r>
              <a:rPr b="1" lang="it-IT" sz="2800" spc="-1" strike="noStrike">
                <a:solidFill>
                  <a:srgbClr val="ffffff"/>
                </a:solidFill>
                <a:latin typeface="Calibri"/>
              </a:rPr>
              <a:t> così come previsto e regolato dall’ art. 1655 c.c. ma, anche, quelli propri del </a:t>
            </a:r>
            <a:r>
              <a:rPr b="1" lang="it-IT" sz="2800" spc="-1" strike="noStrike">
                <a:solidFill>
                  <a:srgbClr val="ffff00"/>
                </a:solidFill>
                <a:latin typeface="Calibri"/>
              </a:rPr>
              <a:t>diritto comunitario </a:t>
            </a:r>
            <a:r>
              <a:rPr b="1" lang="it-IT" sz="2800" spc="-1" strike="noStrike">
                <a:solidFill>
                  <a:srgbClr val="ffffff"/>
                </a:solidFill>
                <a:latin typeface="Calibri"/>
              </a:rPr>
              <a:t>dal quale trae diretta ispirazione ed origine il testo dei commi 6,7,8 e 9 dell’art.3 del d.lgs 163/2006  ”Codice dei Contratti Pubblici”.</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FCEA6C-A0FF-4D8A-92C6-7BC25145AE4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4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Text Box 1"/>
          <p:cNvSpPr/>
          <p:nvPr/>
        </p:nvSpPr>
        <p:spPr>
          <a:xfrm>
            <a:off x="324000" y="620640"/>
            <a:ext cx="8496000" cy="709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Times New Roman"/>
              </a:rPr>
              <a:t>Cottimo fiduciario</a:t>
            </a:r>
            <a:endParaRPr b="0" lang="en-US" sz="3200" spc="-1" strike="noStrike">
              <a:solidFill>
                <a:srgbClr val="ffffff"/>
              </a:solidFill>
              <a:latin typeface="Arial Rounded MT Bold"/>
            </a:endParaRPr>
          </a:p>
          <a:p>
            <a:pPr algn="ctr">
              <a:lnSpc>
                <a:spcPct val="100000"/>
              </a:lnSpc>
              <a:spcBef>
                <a:spcPts val="2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differenza  tra il </a:t>
            </a:r>
            <a:r>
              <a:rPr b="1" lang="it-IT" sz="2800" spc="-1" strike="noStrike">
                <a:solidFill>
                  <a:srgbClr val="ffff00"/>
                </a:solidFill>
                <a:latin typeface="Calibri"/>
              </a:rPr>
              <a:t>cottimo fiduciario </a:t>
            </a:r>
            <a:r>
              <a:rPr b="1" lang="it-IT" sz="2800" spc="-1" strike="noStrike">
                <a:solidFill>
                  <a:srgbClr val="ffffff"/>
                </a:solidFill>
                <a:latin typeface="Calibri"/>
              </a:rPr>
              <a:t>e gli </a:t>
            </a:r>
            <a:r>
              <a:rPr b="1" lang="it-IT" sz="2800" spc="-1" strike="noStrike">
                <a:solidFill>
                  <a:srgbClr val="ffff00"/>
                </a:solidFill>
                <a:latin typeface="Calibri"/>
              </a:rPr>
              <a:t>appalti pubblici ordinari </a:t>
            </a:r>
            <a:r>
              <a:rPr b="1" lang="it-IT" sz="2800" spc="-1" strike="noStrike">
                <a:solidFill>
                  <a:srgbClr val="ffffff"/>
                </a:solidFill>
                <a:latin typeface="Calibri"/>
              </a:rPr>
              <a:t>consiste, soprattutto, nelle modalità di aggiudicazione, giacché la scelta della controparte privata, in base alla </a:t>
            </a:r>
            <a:r>
              <a:rPr b="1" lang="it-IT" sz="2800" spc="-1" strike="noStrike">
                <a:solidFill>
                  <a:srgbClr val="ffff00"/>
                </a:solidFill>
                <a:latin typeface="Calibri"/>
              </a:rPr>
              <a:t>“fiduciarietà” </a:t>
            </a:r>
            <a:r>
              <a:rPr b="1" lang="it-IT" sz="2800" spc="-1" strike="noStrike">
                <a:solidFill>
                  <a:srgbClr val="ffffff"/>
                </a:solidFill>
                <a:latin typeface="Calibri"/>
              </a:rPr>
              <a:t>che la connota, è affidata </a:t>
            </a:r>
            <a:r>
              <a:rPr b="1" lang="it-IT" sz="2800" spc="-1" strike="noStrike">
                <a:solidFill>
                  <a:srgbClr val="ffff00"/>
                </a:solidFill>
                <a:latin typeface="Calibri"/>
              </a:rPr>
              <a:t>alla valutazione </a:t>
            </a:r>
            <a:r>
              <a:rPr b="1" lang="it-IT" sz="2800" spc="-1" strike="noStrike">
                <a:solidFill>
                  <a:srgbClr val="ffffff"/>
                </a:solidFill>
                <a:latin typeface="Calibri"/>
              </a:rPr>
              <a:t>del funzionario incaricato che </a:t>
            </a:r>
            <a:r>
              <a:rPr b="1" lang="it-IT" sz="2800" spc="-1" strike="noStrike">
                <a:solidFill>
                  <a:srgbClr val="ffff00"/>
                </a:solidFill>
                <a:latin typeface="Calibri"/>
              </a:rPr>
              <a:t>non è  obbligato </a:t>
            </a:r>
            <a:r>
              <a:rPr b="1" lang="it-IT" sz="2800" spc="-1" strike="noStrike">
                <a:solidFill>
                  <a:srgbClr val="ffffff"/>
                </a:solidFill>
                <a:latin typeface="Calibri"/>
              </a:rPr>
              <a:t>a  ricorrere a procedure concorsuali. Attraverso l’utilizzo di questo strumento contrattuale Il </a:t>
            </a:r>
            <a:r>
              <a:rPr b="1" lang="it-IT" sz="2800" spc="-1" strike="noStrike">
                <a:solidFill>
                  <a:srgbClr val="ffff00"/>
                </a:solidFill>
                <a:latin typeface="Calibri"/>
              </a:rPr>
              <a:t>cottimista</a:t>
            </a:r>
            <a:r>
              <a:rPr b="1" lang="it-IT" sz="2800" spc="-1" strike="noStrike">
                <a:solidFill>
                  <a:srgbClr val="ffffff"/>
                </a:solidFill>
                <a:latin typeface="Calibri"/>
              </a:rPr>
              <a:t> dal canto suo si obbliga, contro un corrispettivo, ad eseguire l’opera richiestagli provvedendo all’organizzazione dei mezzi necessari e assumendone  il relativo rischio d’impresa.</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4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7A888-1FC2-489D-99EE-2A704894657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0"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Text Box 1"/>
          <p:cNvSpPr/>
          <p:nvPr/>
        </p:nvSpPr>
        <p:spPr>
          <a:xfrm>
            <a:off x="468360" y="907920"/>
            <a:ext cx="8207280" cy="579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Art. 125 </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Lavori, servizi e forniture in economia</a:t>
            </a:r>
            <a:endParaRPr b="0" lang="en-US" sz="36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Chiarito dunque che sussistono due distinte modalità di acquisizione in economia quali l’</a:t>
            </a:r>
            <a:r>
              <a:rPr b="1" lang="it-IT" sz="3200" spc="-1" strike="noStrike">
                <a:solidFill>
                  <a:srgbClr val="ffff00"/>
                </a:solidFill>
                <a:latin typeface="Calibri"/>
              </a:rPr>
              <a:t>amministrazione diretta </a:t>
            </a:r>
            <a:r>
              <a:rPr b="1" lang="it-IT" sz="3200" spc="-1" strike="noStrike">
                <a:solidFill>
                  <a:srgbClr val="ffffff"/>
                </a:solidFill>
                <a:latin typeface="Calibri"/>
              </a:rPr>
              <a:t>ed il </a:t>
            </a:r>
            <a:r>
              <a:rPr b="1" lang="it-IT" sz="3200" spc="-1" strike="noStrike">
                <a:solidFill>
                  <a:srgbClr val="ffff00"/>
                </a:solidFill>
                <a:latin typeface="Calibri"/>
              </a:rPr>
              <a:t>cottimo fiduciario, </a:t>
            </a:r>
            <a:r>
              <a:rPr b="1" lang="it-IT" sz="3200" spc="-1" strike="noStrike">
                <a:solidFill>
                  <a:srgbClr val="ffffff"/>
                </a:solidFill>
                <a:latin typeface="Calibri"/>
              </a:rPr>
              <a:t>si deve rispetto alla loro applicabilità distinguere tra  :</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ori eseguibili in economia</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cquisizioni in economia di forniture e servizi</a:t>
            </a:r>
            <a:endParaRPr b="0" lang="en-US" sz="3200" spc="-1" strike="noStrike">
              <a:solidFill>
                <a:srgbClr val="ffffff"/>
              </a:solidFill>
              <a:latin typeface="Arial Rounded MT Bold"/>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5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3BAB8-8506-4703-A503-4A5C2A91704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Text Box 1"/>
          <p:cNvSpPr/>
          <p:nvPr/>
        </p:nvSpPr>
        <p:spPr>
          <a:xfrm>
            <a:off x="0" y="765000"/>
            <a:ext cx="9144000" cy="661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ori eseguibili in economia</a:t>
            </a:r>
            <a:endParaRPr b="0" lang="en-US" sz="32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600" spc="-1" strike="noStrike">
                <a:solidFill>
                  <a:srgbClr val="ffffff"/>
                </a:solidFill>
                <a:latin typeface="Calibri"/>
              </a:rPr>
              <a:t>A norma dell’art. 125 comma 5, d.lgs. 163/06, </a:t>
            </a:r>
            <a:r>
              <a:rPr b="1" lang="it-IT" sz="3600" spc="-1" strike="noStrike">
                <a:solidFill>
                  <a:srgbClr val="ffff00"/>
                </a:solidFill>
                <a:latin typeface="Calibri"/>
              </a:rPr>
              <a:t>i lavori eseguibili in economia</a:t>
            </a:r>
            <a:r>
              <a:rPr b="1" lang="it-IT" sz="3600" spc="-1" strike="noStrike">
                <a:solidFill>
                  <a:srgbClr val="ffffff"/>
                </a:solidFill>
                <a:latin typeface="Calibri"/>
              </a:rPr>
              <a:t> non possono superare importi superiori ad €.200.000,00 e vengono individuati, da ciascuna stazione appaltante, in base  alle proprie competenze specifiche  tra categorie generali previste dallo stesso articolo del codice.</a:t>
            </a:r>
            <a:endParaRPr b="0" lang="en-US" sz="36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5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888A89-D01C-4AD2-A9AF-A0D7F1D3633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6"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Text Box 1"/>
          <p:cNvSpPr/>
          <p:nvPr/>
        </p:nvSpPr>
        <p:spPr>
          <a:xfrm>
            <a:off x="0" y="620640"/>
            <a:ext cx="9144000" cy="667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Lavori eseguibili in economia</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n caso di ricorso all’</a:t>
            </a:r>
            <a:r>
              <a:rPr b="1" lang="it-IT" sz="2400" spc="-1" strike="noStrike">
                <a:solidFill>
                  <a:srgbClr val="ffff00"/>
                </a:solidFill>
                <a:latin typeface="Calibri"/>
              </a:rPr>
              <a:t>amministrazione diretta </a:t>
            </a:r>
            <a:r>
              <a:rPr b="1" lang="it-IT" sz="2400" spc="-1" strike="noStrike">
                <a:solidFill>
                  <a:srgbClr val="ffffff"/>
                </a:solidFill>
                <a:latin typeface="Calibri"/>
              </a:rPr>
              <a:t>la stazione appaltante provvede direttamente all’esecuzione del lavoro assumendo operai o utilizzando il proprio personale , mentre se utilizza la procedura del </a:t>
            </a:r>
            <a:r>
              <a:rPr b="1" lang="it-IT" sz="2400" spc="-1" strike="noStrike">
                <a:solidFill>
                  <a:srgbClr val="ffff00"/>
                </a:solidFill>
                <a:latin typeface="Calibri"/>
              </a:rPr>
              <a:t>cottimo fiduciario  </a:t>
            </a:r>
            <a:r>
              <a:rPr b="1" lang="it-IT" sz="2400" spc="-1" strike="noStrike">
                <a:solidFill>
                  <a:srgbClr val="ffffff"/>
                </a:solidFill>
                <a:latin typeface="Calibri"/>
              </a:rPr>
              <a:t>stipula direttamente accordi con ditte di fiduci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 contratti stipulati per entrambi gli istituti, in forma semplificata, hanno la nota comune che originano e vengono eseguiti attraverso </a:t>
            </a:r>
            <a:r>
              <a:rPr b="1" lang="it-IT" sz="2400" spc="-1" strike="noStrike">
                <a:solidFill>
                  <a:srgbClr val="ffff00"/>
                </a:solidFill>
                <a:latin typeface="Calibri"/>
              </a:rPr>
              <a:t>un responsabile unico del procedimento </a:t>
            </a:r>
            <a:r>
              <a:rPr b="1" lang="it-IT" sz="2400" spc="-1" strike="noStrike">
                <a:solidFill>
                  <a:srgbClr val="ffffff"/>
                </a:solidFill>
                <a:latin typeface="Calibri"/>
              </a:rPr>
              <a:t>, cui compete la diretta responsabilità dell’esecuzione del contratto , che impegna se stesso come persona fisica, non solo come organo della Stazione Appaltante la quale con l’esecuzione dei lavori in economia tende a garantire  una sua più diretta e puntuale partecipazione alla loro realizzazione.</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5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5EB0A-EA6D-44EB-8628-D19725CB821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5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537E43-CBB9-414A-AF62-7E89CCC0865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6" name="Text Box 2"/>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37" name="Text Box 3"/>
          <p:cNvSpPr/>
          <p:nvPr/>
        </p:nvSpPr>
        <p:spPr>
          <a:xfrm>
            <a:off x="0" y="692280"/>
            <a:ext cx="8964720" cy="5914800"/>
          </a:xfrm>
          <a:prstGeom prst="rect">
            <a:avLst/>
          </a:prstGeom>
          <a:noFill/>
          <a:ln w="0">
            <a:noFill/>
          </a:ln>
        </p:spPr>
        <p:style>
          <a:lnRef idx="0"/>
          <a:fillRef idx="0"/>
          <a:effectRef idx="0"/>
          <a:fontRef idx="minor"/>
        </p:style>
        <p:txBody>
          <a:bodyPr lIns="90000" rIns="90000" tIns="46800" bIns="46800" anchor="ctr">
            <a:noAutofit/>
          </a:bodyPr>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ff"/>
                </a:solidFill>
                <a:latin typeface="Calibri"/>
              </a:rPr>
              <a:t>La contabilità dello Stato antecedente alle prime direttive sugli appalti pubblici, si ispirava sostanzialmente a due principi: </a:t>
            </a:r>
            <a:endParaRPr b="0" lang="en-US" sz="2200" spc="-1" strike="noStrike">
              <a:solidFill>
                <a:srgbClr val="ffffff"/>
              </a:solidFill>
              <a:latin typeface="Arial Rounded MT Bold"/>
            </a:endParaRPr>
          </a:p>
          <a:p>
            <a:pPr marL="341280" indent="-341280" algn="ctr">
              <a:lnSpc>
                <a:spcPct val="10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00"/>
                </a:solidFill>
                <a:latin typeface="Calibri"/>
              </a:rPr>
              <a:t>     “</a:t>
            </a:r>
            <a:r>
              <a:rPr b="1" lang="it-IT" sz="2200" spc="-1" strike="noStrike">
                <a:solidFill>
                  <a:srgbClr val="ffff00"/>
                </a:solidFill>
                <a:latin typeface="Calibri"/>
              </a:rPr>
              <a:t>CONVENIENZA AMMINISTRATIVA”  ed  “IMPARZIALITÀ”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ff"/>
                </a:solidFill>
                <a:latin typeface="Calibri"/>
              </a:rPr>
              <a:t>Oggi Il Codice dei Contratti Pubblici individua una stretta correlazione tra</a:t>
            </a:r>
            <a:r>
              <a:rPr b="1" lang="it-IT" sz="2200" spc="-1" strike="noStrike">
                <a:solidFill>
                  <a:srgbClr val="ffcc66"/>
                </a:solidFill>
                <a:latin typeface="Calibri"/>
              </a:rPr>
              <a:t> </a:t>
            </a:r>
            <a:r>
              <a:rPr b="1" lang="it-IT" sz="2200" spc="-1" strike="noStrike">
                <a:solidFill>
                  <a:srgbClr val="ffff00"/>
                </a:solidFill>
                <a:latin typeface="Calibri"/>
              </a:rPr>
              <a:t>convenienza e concorrenza</a:t>
            </a:r>
            <a:r>
              <a:rPr b="1" lang="it-IT" sz="2200" spc="-1" strike="noStrike">
                <a:solidFill>
                  <a:srgbClr val="ffffff"/>
                </a:solidFill>
                <a:latin typeface="Calibri"/>
              </a:rPr>
              <a:t>, dove la </a:t>
            </a:r>
            <a:r>
              <a:rPr b="1" lang="it-IT" sz="2200" spc="-1" strike="noStrike">
                <a:solidFill>
                  <a:srgbClr val="ffff00"/>
                </a:solidFill>
                <a:latin typeface="Calibri"/>
              </a:rPr>
              <a:t>“concorrenza” </a:t>
            </a:r>
            <a:r>
              <a:rPr b="1" lang="it-IT" sz="2200" spc="-1" strike="noStrike">
                <a:solidFill>
                  <a:srgbClr val="ffffff"/>
                </a:solidFill>
                <a:latin typeface="Calibri"/>
              </a:rPr>
              <a:t>ha valenza strumentale rispetto alla  </a:t>
            </a:r>
            <a:r>
              <a:rPr b="1" lang="it-IT" sz="2200" spc="-1" strike="noStrike">
                <a:solidFill>
                  <a:srgbClr val="ffff00"/>
                </a:solidFill>
                <a:latin typeface="Calibri"/>
              </a:rPr>
              <a:t>“convenienza” </a:t>
            </a:r>
            <a:r>
              <a:rPr b="1" lang="it-IT" sz="2200" spc="-1" strike="noStrike">
                <a:solidFill>
                  <a:srgbClr val="ffffff"/>
                </a:solidFill>
                <a:latin typeface="Calibri"/>
              </a:rPr>
              <a:t>nel senso che attraverso la</a:t>
            </a:r>
            <a:r>
              <a:rPr b="1" lang="it-IT" sz="2200" spc="-1" strike="noStrike">
                <a:solidFill>
                  <a:srgbClr val="ffcc66"/>
                </a:solidFill>
                <a:latin typeface="Calibri"/>
              </a:rPr>
              <a:t> </a:t>
            </a:r>
            <a:r>
              <a:rPr b="1" lang="it-IT" sz="2200" spc="-1" strike="noStrike">
                <a:solidFill>
                  <a:srgbClr val="ffff00"/>
                </a:solidFill>
                <a:latin typeface="Calibri"/>
              </a:rPr>
              <a:t>concorrenza </a:t>
            </a:r>
            <a:r>
              <a:rPr b="1" lang="it-IT" sz="2200" spc="-1" strike="noStrike">
                <a:solidFill>
                  <a:srgbClr val="ffffff"/>
                </a:solidFill>
                <a:latin typeface="Calibri"/>
              </a:rPr>
              <a:t>si deve tendere  a  raggiungere la massima </a:t>
            </a:r>
            <a:r>
              <a:rPr b="1" lang="it-IT" sz="2200" spc="-1" strike="noStrike">
                <a:solidFill>
                  <a:srgbClr val="ffff00"/>
                </a:solidFill>
                <a:latin typeface="Calibri"/>
              </a:rPr>
              <a:t>convenienza.</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ffff00"/>
                </a:solidFill>
                <a:latin typeface="Calibri"/>
              </a:rPr>
              <a:t>“</a:t>
            </a:r>
            <a:r>
              <a:rPr b="1" lang="it-IT" sz="2200" spc="-1" strike="noStrike">
                <a:solidFill>
                  <a:srgbClr val="ffff00"/>
                </a:solidFill>
                <a:latin typeface="Calibri"/>
              </a:rPr>
              <a:t>L’imparzialità” </a:t>
            </a:r>
            <a:r>
              <a:rPr b="1" lang="it-IT" sz="2200" spc="-1" strike="noStrike">
                <a:solidFill>
                  <a:srgbClr val="ffffff"/>
                </a:solidFill>
                <a:latin typeface="Calibri"/>
              </a:rPr>
              <a:t>della</a:t>
            </a:r>
            <a:r>
              <a:rPr b="1" lang="it-IT" sz="2200" spc="-1" strike="noStrike">
                <a:solidFill>
                  <a:srgbClr val="ffcc66"/>
                </a:solidFill>
                <a:latin typeface="Calibri"/>
              </a:rPr>
              <a:t> </a:t>
            </a:r>
            <a:r>
              <a:rPr b="1" lang="it-IT" sz="2200" spc="-1" strike="noStrike">
                <a:solidFill>
                  <a:srgbClr val="ffff00"/>
                </a:solidFill>
                <a:latin typeface="Calibri"/>
              </a:rPr>
              <a:t>“normativa di contabilità pubblica” </a:t>
            </a:r>
            <a:r>
              <a:rPr b="1" lang="it-IT" sz="2200" spc="-1" strike="noStrike">
                <a:solidFill>
                  <a:srgbClr val="ffffff"/>
                </a:solidFill>
                <a:latin typeface="Calibri"/>
              </a:rPr>
              <a:t>tendeva a rendere impossibile la </a:t>
            </a:r>
            <a:r>
              <a:rPr b="1" lang="it-IT" sz="2200" spc="-1" strike="noStrike">
                <a:solidFill>
                  <a:srgbClr val="ff3300"/>
                </a:solidFill>
                <a:latin typeface="Calibri"/>
              </a:rPr>
              <a:t>“collusione”</a:t>
            </a:r>
            <a:r>
              <a:rPr b="1" lang="it-IT" sz="2200" spc="-1" strike="noStrike">
                <a:solidFill>
                  <a:srgbClr val="66ffff"/>
                </a:solidFill>
                <a:latin typeface="Calibri"/>
              </a:rPr>
              <a:t> </a:t>
            </a:r>
            <a:r>
              <a:rPr b="1" lang="it-IT" sz="2200" spc="-1" strike="noStrike">
                <a:solidFill>
                  <a:srgbClr val="ffffff"/>
                </a:solidFill>
                <a:latin typeface="Calibri"/>
              </a:rPr>
              <a:t>tra</a:t>
            </a:r>
            <a:r>
              <a:rPr b="1" lang="it-IT" sz="2200" spc="-1" strike="noStrike">
                <a:solidFill>
                  <a:srgbClr val="ffcc66"/>
                </a:solidFill>
                <a:latin typeface="Calibri"/>
              </a:rPr>
              <a:t> </a:t>
            </a:r>
            <a:r>
              <a:rPr b="1" lang="it-IT" sz="2200" spc="-1" strike="noStrike">
                <a:solidFill>
                  <a:srgbClr val="ffffff"/>
                </a:solidFill>
                <a:latin typeface="Calibri"/>
              </a:rPr>
              <a:t>l’Amministrazione, gli imprenditori ed i fornitori mentre oggi </a:t>
            </a:r>
            <a:r>
              <a:rPr b="1" lang="it-IT" sz="2200" spc="-1" strike="noStrike">
                <a:solidFill>
                  <a:srgbClr val="ffff00"/>
                </a:solidFill>
                <a:latin typeface="Calibri"/>
              </a:rPr>
              <a:t>“l’imparzialità” </a:t>
            </a:r>
            <a:r>
              <a:rPr b="1" lang="it-IT" sz="2200" spc="-1" strike="noStrike">
                <a:solidFill>
                  <a:srgbClr val="ffffff"/>
                </a:solidFill>
                <a:latin typeface="Calibri"/>
              </a:rPr>
              <a:t>del</a:t>
            </a:r>
            <a:r>
              <a:rPr b="1" lang="it-IT" sz="2200" spc="-1" strike="noStrike">
                <a:solidFill>
                  <a:srgbClr val="ffff00"/>
                </a:solidFill>
                <a:latin typeface="Calibri"/>
              </a:rPr>
              <a:t> “Diritto Comunitario” </a:t>
            </a:r>
            <a:r>
              <a:rPr b="1" lang="it-IT" sz="2200" spc="-1" strike="noStrike">
                <a:solidFill>
                  <a:srgbClr val="ffffff"/>
                </a:solidFill>
                <a:latin typeface="Calibri"/>
              </a:rPr>
              <a:t>tende alla:</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parità di trattamento,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apertura dei mercati, </a:t>
            </a:r>
            <a:endParaRPr b="0" lang="en-US" sz="2200" spc="-1" strike="noStrike">
              <a:solidFill>
                <a:srgbClr val="ffffff"/>
              </a:solidFill>
              <a:latin typeface="Arial Rounded MT Bold"/>
            </a:endParaRPr>
          </a:p>
          <a:p>
            <a:pPr marL="341280" indent="-341280" algn="just">
              <a:lnSpc>
                <a:spcPct val="100000"/>
              </a:lnSpc>
              <a:spcBef>
                <a:spcPts val="55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200" spc="-1" strike="noStrike">
                <a:solidFill>
                  <a:srgbClr val="00ff00"/>
                </a:solidFill>
                <a:latin typeface="Calibri"/>
              </a:rPr>
              <a:t>possibilità per tutti gli operatori comunitari di accedere al mercato degli appalti, in modo da “abbattere il più possibile i costi attraverso la più ampia partecipazione” </a:t>
            </a:r>
            <a:endParaRPr b="0" lang="en-US" sz="2200" spc="-1" strike="noStrike">
              <a:solidFill>
                <a:srgbClr val="ffffff"/>
              </a:solidFill>
              <a:latin typeface="Arial Rounded MT Bol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Text Box 1"/>
          <p:cNvSpPr/>
          <p:nvPr/>
        </p:nvSpPr>
        <p:spPr>
          <a:xfrm>
            <a:off x="0" y="620640"/>
            <a:ext cx="8820000" cy="66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Lavori eseguibili in economia</a:t>
            </a:r>
            <a:endParaRPr b="0" lang="en-US" sz="28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Concludendo, secondo quanto previsto e regolato dal comma 8 dell’art. 125 del Codice dei contratti pubblici, quando il valore dei lavori da affidare in economia è di importo pari o </a:t>
            </a:r>
            <a:r>
              <a:rPr b="1" lang="it-IT" sz="2800" spc="-1" strike="noStrike">
                <a:solidFill>
                  <a:srgbClr val="ffff00"/>
                </a:solidFill>
                <a:latin typeface="Calibri"/>
              </a:rPr>
              <a:t>superiore a €. 40.000,00 </a:t>
            </a:r>
            <a:r>
              <a:rPr b="1" lang="it-IT" sz="2800" spc="-1" strike="noStrike">
                <a:solidFill>
                  <a:srgbClr val="ffffff"/>
                </a:solidFill>
                <a:latin typeface="Calibri"/>
              </a:rPr>
              <a:t>e non superiore </a:t>
            </a:r>
            <a:r>
              <a:rPr b="1" lang="it-IT" sz="2800" spc="-1" strike="noStrike">
                <a:solidFill>
                  <a:srgbClr val="ffff00"/>
                </a:solidFill>
                <a:latin typeface="Calibri"/>
              </a:rPr>
              <a:t>ad €.200.000,00, </a:t>
            </a:r>
            <a:r>
              <a:rPr b="1" lang="it-IT" sz="2800" spc="-1" strike="noStrike">
                <a:solidFill>
                  <a:srgbClr val="ffffff"/>
                </a:solidFill>
                <a:latin typeface="Calibri"/>
              </a:rPr>
              <a:t>l’affidamento deve avvenire secondo la procedura sopra descritta del </a:t>
            </a:r>
            <a:r>
              <a:rPr b="1" lang="it-IT" sz="2800" spc="-1" strike="noStrike">
                <a:solidFill>
                  <a:srgbClr val="ffff00"/>
                </a:solidFill>
                <a:latin typeface="Calibri"/>
              </a:rPr>
              <a:t>cottimo fiduciario</a:t>
            </a:r>
            <a:r>
              <a:rPr b="1" lang="it-IT" sz="2800" spc="-1" strike="noStrike">
                <a:solidFill>
                  <a:srgbClr val="ffffff"/>
                </a:solidFill>
                <a:latin typeface="Calibri"/>
              </a:rPr>
              <a:t>; quando invece il valore dei lavori da affidare in economia è di importo </a:t>
            </a:r>
            <a:r>
              <a:rPr b="1" lang="it-IT" sz="2800" spc="-1" strike="noStrike">
                <a:solidFill>
                  <a:srgbClr val="ffff00"/>
                </a:solidFill>
                <a:latin typeface="Calibri"/>
              </a:rPr>
              <a:t>inferiore a €. 40.000,00</a:t>
            </a:r>
            <a:r>
              <a:rPr b="1" lang="it-IT" sz="2800" spc="-1" strike="noStrike">
                <a:solidFill>
                  <a:srgbClr val="ffffff"/>
                </a:solidFill>
                <a:latin typeface="Calibri"/>
              </a:rPr>
              <a:t>, è consentito l’</a:t>
            </a:r>
            <a:r>
              <a:rPr b="1" lang="it-IT" sz="2800" spc="-1" strike="noStrike">
                <a:solidFill>
                  <a:srgbClr val="ffff00"/>
                </a:solidFill>
                <a:latin typeface="Calibri"/>
              </a:rPr>
              <a:t>affidamento diretto </a:t>
            </a:r>
            <a:r>
              <a:rPr b="1" lang="it-IT" sz="2800" spc="-1" strike="noStrike">
                <a:solidFill>
                  <a:srgbClr val="ffffff"/>
                </a:solidFill>
                <a:latin typeface="Calibri"/>
              </a:rPr>
              <a:t>da parte del responsabile del procedimento. </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6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499949-E46E-45D1-B259-A06AB819B41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Text Box 1"/>
          <p:cNvSpPr/>
          <p:nvPr/>
        </p:nvSpPr>
        <p:spPr>
          <a:xfrm>
            <a:off x="324000" y="620640"/>
            <a:ext cx="8496000" cy="683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nche in caso di acquisizione in economia </a:t>
            </a:r>
            <a:r>
              <a:rPr b="1" lang="it-IT" sz="2800" spc="-1" strike="noStrike">
                <a:solidFill>
                  <a:srgbClr val="ffff00"/>
                </a:solidFill>
                <a:latin typeface="Calibri"/>
              </a:rPr>
              <a:t>di beni e servizi, </a:t>
            </a:r>
            <a:r>
              <a:rPr b="1" lang="it-IT" sz="2800" spc="-1" strike="noStrike">
                <a:solidFill>
                  <a:srgbClr val="ffffff"/>
                </a:solidFill>
                <a:latin typeface="Calibri"/>
              </a:rPr>
              <a:t>analogamente a quanto previsto per i lavori, la stazione appaltante  può utilizzare le procedure dell’ amministrazione diretta o del  cottimo fiduciario. L’acquisizione mediante amministrazione diretta di servizi e forniture, in mancanza di una disposizione che ponga un limite di valore analoga a quella specificamente prevista per i lavori dall’ art.125 comma 5 secondo capoverso Codice dei contratti pubblici,  deve ritenersi applicabile fino alla soglia di rilevanza comunitaria. </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6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C325BC-FB65-4BBE-BA32-C1D8620B088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5"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Text Box 1"/>
          <p:cNvSpPr/>
          <p:nvPr/>
        </p:nvSpPr>
        <p:spPr>
          <a:xfrm>
            <a:off x="324000" y="620640"/>
            <a:ext cx="8496000" cy="625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4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600" spc="-1" strike="noStrike">
                <a:solidFill>
                  <a:srgbClr val="ffffff"/>
                </a:solidFill>
                <a:latin typeface="Calibri"/>
              </a:rPr>
              <a:t>L’art. 125, comma 9,  dispone originariamente che </a:t>
            </a:r>
            <a:r>
              <a:rPr b="1" i="1" lang="it-IT" sz="2600" spc="-1" strike="noStrike">
                <a:solidFill>
                  <a:srgbClr val="ffffff"/>
                </a:solidFill>
                <a:latin typeface="Calibri"/>
              </a:rPr>
              <a:t>“…le forniture e i servizi in economia sono ammessi per importi inferiori a €.137.000,00 per le amministrazioni aggiudicatrici di cui all’art. 28, comma 1, lettera a, (amministrazioni centrali dello Stato: Presidenza del Consiglio, Ministeri, Consip, etc.), e per importi inferiori a €. 211.000,00 per le altre stazioni appaltanti di cui all'articolo 28, comma 1, lettera b,(es. Istituzioni scolastiche autonome). Tali soglie sono adeguate in relazione alle modifiche delle soglie previste dall'articolo 28, con lo stesso meccanismo di adeguamento previsto dall'articolo 248 </a:t>
            </a:r>
            <a:r>
              <a:rPr b="1" lang="it-IT" sz="2600" spc="-1" strike="noStrike">
                <a:solidFill>
                  <a:srgbClr val="ffffff"/>
                </a:solidFill>
                <a:latin typeface="Calibri"/>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56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171B1-44FC-4262-BF21-73B9AE9DA88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6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Text Box 1"/>
          <p:cNvSpPr/>
          <p:nvPr/>
        </p:nvSpPr>
        <p:spPr>
          <a:xfrm>
            <a:off x="0" y="620640"/>
            <a:ext cx="8748720" cy="632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9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it-IT" sz="3600" spc="-1" strike="noStrike">
                <a:solidFill>
                  <a:srgbClr val="ffffff"/>
                </a:solidFill>
                <a:latin typeface="Calibri"/>
              </a:rPr>
              <a:t>Il Regolamento della Commissione Europea n.1177 del 30 novembre 2009, ha indicato per il periodo </a:t>
            </a:r>
            <a:r>
              <a:rPr b="1" lang="it-IT" sz="3600" spc="-1" strike="noStrike">
                <a:solidFill>
                  <a:srgbClr val="ffff00"/>
                </a:solidFill>
                <a:latin typeface="Calibri"/>
              </a:rPr>
              <a:t>1° GENNAIO 2010-31 DICEMBRE 2011</a:t>
            </a:r>
            <a:r>
              <a:rPr b="0" lang="it-IT" sz="3600" spc="-1" strike="noStrike">
                <a:solidFill>
                  <a:srgbClr val="ffff00"/>
                </a:solidFill>
                <a:latin typeface="Calibri"/>
              </a:rPr>
              <a:t>,</a:t>
            </a:r>
            <a:r>
              <a:rPr b="0" lang="it-IT" sz="3600" spc="-1" strike="noStrike">
                <a:solidFill>
                  <a:srgbClr val="ffffff"/>
                </a:solidFill>
                <a:latin typeface="Calibri"/>
              </a:rPr>
              <a:t> quindi per il biennio 2010/2011 la soglia di riferimento da tener presente in fase di appalto di servizi e forniture dalle </a:t>
            </a:r>
            <a:r>
              <a:rPr b="1" lang="it-IT" sz="3600" spc="-1" strike="noStrike">
                <a:solidFill>
                  <a:srgbClr val="ffff00"/>
                </a:solidFill>
                <a:latin typeface="Calibri"/>
              </a:rPr>
              <a:t>Scuole</a:t>
            </a:r>
            <a:r>
              <a:rPr b="0" lang="it-IT" sz="3600" spc="-1" strike="noStrike">
                <a:solidFill>
                  <a:srgbClr val="ffffff"/>
                </a:solidFill>
                <a:latin typeface="Calibri"/>
              </a:rPr>
              <a:t> è pari a </a:t>
            </a:r>
            <a:r>
              <a:rPr b="1" lang="it-IT" sz="3600" spc="-1" strike="noStrike">
                <a:solidFill>
                  <a:srgbClr val="ffff00"/>
                </a:solidFill>
                <a:latin typeface="Calibri"/>
              </a:rPr>
              <a:t>€.193.000,00.</a:t>
            </a:r>
            <a:endParaRPr b="0" lang="en-US" sz="3600" spc="-1" strike="noStrike">
              <a:solidFill>
                <a:srgbClr val="ffffff"/>
              </a:solidFill>
              <a:latin typeface="Arial Rounded MT Bold"/>
            </a:endParaRPr>
          </a:p>
          <a:p>
            <a:pPr>
              <a:lnSpc>
                <a:spcPct val="100000"/>
              </a:lnSpc>
              <a:spcBef>
                <a:spcPts val="9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600" spc="-1" strike="noStrike">
              <a:solidFill>
                <a:srgbClr val="ffffff"/>
              </a:solidFill>
              <a:latin typeface="Arial Rounded MT Bold"/>
            </a:endParaRPr>
          </a:p>
        </p:txBody>
      </p:sp>
      <p:sp>
        <p:nvSpPr>
          <p:cNvPr id="157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49D50-F012-4EB2-87E6-2E98828538C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 Box 1"/>
          <p:cNvSpPr/>
          <p:nvPr/>
        </p:nvSpPr>
        <p:spPr>
          <a:xfrm>
            <a:off x="0" y="620640"/>
            <a:ext cx="8820000" cy="6315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art.125, comma 10, </a:t>
            </a:r>
            <a:r>
              <a:rPr b="1" lang="it-IT" sz="3200" spc="-1" strike="noStrike">
                <a:solidFill>
                  <a:srgbClr val="00ff00"/>
                </a:solidFill>
                <a:latin typeface="Calibri"/>
              </a:rPr>
              <a:t>dispone da un lato</a:t>
            </a:r>
            <a:r>
              <a:rPr b="1" lang="it-IT" sz="3200" spc="-1" strike="noStrike">
                <a:solidFill>
                  <a:srgbClr val="ffffff"/>
                </a:solidFill>
                <a:latin typeface="Calibri"/>
              </a:rPr>
              <a:t>, che per  beni e servizi é ammessa l’acquisizione in relazione all'oggetto ed ai limiti di importo delle singole voci di spesa preventivamente </a:t>
            </a:r>
            <a:r>
              <a:rPr b="1" lang="it-IT" sz="3200" spc="-1" strike="noStrike">
                <a:solidFill>
                  <a:srgbClr val="ffff00"/>
                </a:solidFill>
                <a:latin typeface="Calibri"/>
              </a:rPr>
              <a:t>individuate con provvedimento di ciascuna stazione appaltante, con riguardo alle proprie specifiche esigenze</a:t>
            </a:r>
            <a:r>
              <a:rPr b="1" lang="it-IT" sz="3200" spc="-1" strike="noStrike">
                <a:solidFill>
                  <a:srgbClr val="ffffff"/>
                </a:solidFill>
                <a:latin typeface="Calibri"/>
              </a:rPr>
              <a:t> </a:t>
            </a:r>
            <a:r>
              <a:rPr b="1" lang="it-IT" sz="3200" spc="-1" strike="noStrike">
                <a:solidFill>
                  <a:srgbClr val="00ff00"/>
                </a:solidFill>
                <a:latin typeface="Calibri"/>
              </a:rPr>
              <a:t>e, dall’altro, </a:t>
            </a:r>
            <a:r>
              <a:rPr b="1" lang="it-IT" sz="3200" spc="-1" strike="noStrike">
                <a:solidFill>
                  <a:srgbClr val="ffffff"/>
                </a:solidFill>
                <a:latin typeface="Calibri"/>
              </a:rPr>
              <a:t>che Il ricorso alle acquisizioni in economia é altresì consentito in  ipotesi da esso specificamente previste .</a:t>
            </a:r>
            <a:endParaRPr b="0" lang="en-US" sz="32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7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1A7D4C-662A-43D1-8A16-09C9F33C6DB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Text Box 1"/>
          <p:cNvSpPr/>
          <p:nvPr/>
        </p:nvSpPr>
        <p:spPr>
          <a:xfrm>
            <a:off x="0" y="620640"/>
            <a:ext cx="8675640" cy="610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sistema di acquisizione in economia di servizi e forniture è caratterizzato da due elementi sostanziali:</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1) il limite massimo della spes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2) la definizione precisa delle prestazioni che possono essere acquisite mediante detta procedura.</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Pertanto, si può correttamente procedere alle acquisizioni in economia, a condizione di </a:t>
            </a:r>
            <a:r>
              <a:rPr b="1" lang="it-IT" sz="2400" spc="-1" strike="noStrike">
                <a:solidFill>
                  <a:srgbClr val="ffff00"/>
                </a:solidFill>
                <a:latin typeface="Calibri"/>
              </a:rPr>
              <a:t>rispettare i limiti di valore</a:t>
            </a:r>
            <a:r>
              <a:rPr b="1" lang="it-IT" sz="2400" spc="-1" strike="noStrike">
                <a:solidFill>
                  <a:srgbClr val="ffffff"/>
                </a:solidFill>
                <a:latin typeface="Calibri"/>
              </a:rPr>
              <a:t> e di </a:t>
            </a:r>
            <a:r>
              <a:rPr b="1" lang="it-IT" sz="2400" spc="-1" strike="noStrike">
                <a:solidFill>
                  <a:srgbClr val="ffff00"/>
                </a:solidFill>
                <a:latin typeface="Calibri"/>
              </a:rPr>
              <a:t>rientrare</a:t>
            </a:r>
            <a:r>
              <a:rPr b="1" lang="it-IT" sz="2400" spc="-1" strike="noStrike">
                <a:solidFill>
                  <a:srgbClr val="ffffff"/>
                </a:solidFill>
                <a:latin typeface="Calibri"/>
              </a:rPr>
              <a:t> nell’ambito degli oggetti definiti da </a:t>
            </a:r>
            <a:r>
              <a:rPr b="1" lang="it-IT" sz="2400" spc="-1" strike="noStrike">
                <a:solidFill>
                  <a:srgbClr val="00ff00"/>
                </a:solidFill>
                <a:latin typeface="Calibri"/>
              </a:rPr>
              <a:t>apposito provvedimento dell’amministrazione</a:t>
            </a:r>
            <a:r>
              <a:rPr b="1" lang="it-IT" sz="2400" spc="-1" strike="noStrike">
                <a:solidFill>
                  <a:srgbClr val="ffffff"/>
                </a:solidFill>
                <a:latin typeface="Calibri"/>
              </a:rPr>
              <a:t>, e per i quali sia dimostrabile inoltre che detti oggetti siano “per loro natura” suscettibili di acquisizione in economia.</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7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95A0D-3DD9-4490-A235-FB2867124B49}"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7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Text Box 1"/>
          <p:cNvSpPr/>
          <p:nvPr/>
        </p:nvSpPr>
        <p:spPr>
          <a:xfrm>
            <a:off x="179280" y="476280"/>
            <a:ext cx="8640720" cy="639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ea typeface="Calibri"/>
              </a:rPr>
              <a:t>Il provvedimento  </a:t>
            </a:r>
            <a:r>
              <a:rPr b="1" lang="it-IT" sz="2400" spc="-1" strike="noStrike">
                <a:solidFill>
                  <a:srgbClr val="ffffff"/>
                </a:solidFill>
                <a:latin typeface="Calibri"/>
                <a:ea typeface="Calibri"/>
              </a:rPr>
              <a:t>di cui all’art. 125, c.10, che  elenca gli oggetti e i limiti di importo delle singole voci di spesa con riguardo alle specifiche esigenze della S.A. in  base alle quali acquisire in economia beni e servizi,  è un </a:t>
            </a:r>
            <a:r>
              <a:rPr b="1" lang="it-IT" sz="2400" spc="-1" strike="noStrike">
                <a:solidFill>
                  <a:srgbClr val="ffff00"/>
                </a:solidFill>
                <a:latin typeface="Calibri"/>
                <a:ea typeface="Calibri"/>
              </a:rPr>
              <a:t>atto di carattere regolamentare </a:t>
            </a:r>
            <a:r>
              <a:rPr b="1" lang="it-IT" sz="2400" spc="-1" strike="noStrike">
                <a:solidFill>
                  <a:srgbClr val="ffffff"/>
                </a:solidFill>
                <a:latin typeface="Calibri"/>
                <a:ea typeface="Calibri"/>
              </a:rPr>
              <a:t>che deve individuare tali fattispecie prima che si  proceda all’acquisto.</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Tale atto assume, di norma, la forma del </a:t>
            </a:r>
            <a:r>
              <a:rPr b="1" lang="it-IT" sz="2400" spc="-1" strike="noStrike">
                <a:solidFill>
                  <a:srgbClr val="ffff00"/>
                </a:solidFill>
                <a:latin typeface="Calibri"/>
                <a:ea typeface="Calibri"/>
              </a:rPr>
              <a:t>regolamento interno </a:t>
            </a:r>
            <a:r>
              <a:rPr b="1" lang="it-IT" sz="2400" spc="-1" strike="noStrike">
                <a:solidFill>
                  <a:srgbClr val="ffffff"/>
                </a:solidFill>
                <a:latin typeface="Calibri"/>
                <a:ea typeface="Calibri"/>
              </a:rPr>
              <a:t>(cd. regolamento economale), tramite il quale viene individuato l’</a:t>
            </a:r>
            <a:r>
              <a:rPr b="1" lang="it-IT" sz="2400" spc="-1" strike="noStrike">
                <a:solidFill>
                  <a:srgbClr val="ffff00"/>
                </a:solidFill>
                <a:latin typeface="Calibri"/>
                <a:ea typeface="Calibri"/>
              </a:rPr>
              <a:t>oggetto delle prestazioni affidabili in economia. </a:t>
            </a:r>
            <a:endParaRPr b="0" lang="en-US" sz="2400" spc="-1" strike="noStrike">
              <a:solidFill>
                <a:srgbClr val="ffffff"/>
              </a:solidFill>
              <a:latin typeface="Arial Rounded MT Bold"/>
            </a:endParaRPr>
          </a:p>
          <a:p>
            <a:pPr algn="just">
              <a:lnSpc>
                <a:spcPct val="100000"/>
              </a:lnSpc>
              <a:spcBef>
                <a:spcPts val="601"/>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ea typeface="Calibri"/>
              </a:rPr>
              <a:t>Anche le scuole  stazioni appaltanti,  </a:t>
            </a:r>
            <a:r>
              <a:rPr b="1" lang="it-IT" sz="2400" spc="-1" strike="noStrike">
                <a:solidFill>
                  <a:srgbClr val="ffff00"/>
                </a:solidFill>
                <a:latin typeface="Calibri"/>
                <a:ea typeface="Calibri"/>
              </a:rPr>
              <a:t>dovranno </a:t>
            </a:r>
            <a:r>
              <a:rPr b="1" lang="it-IT" sz="2400" spc="-1" strike="noStrike">
                <a:solidFill>
                  <a:srgbClr val="ffffff"/>
                </a:solidFill>
                <a:latin typeface="Calibri"/>
                <a:ea typeface="Calibri"/>
              </a:rPr>
              <a:t>redigere un Regolamento interno  per  rispettare le norme dal Codice dei Contratti,</a:t>
            </a:r>
            <a:r>
              <a:rPr b="1" lang="it-IT" sz="2400" spc="-1" strike="noStrike">
                <a:solidFill>
                  <a:srgbClr val="ffff00"/>
                </a:solidFill>
                <a:latin typeface="Calibri"/>
                <a:ea typeface="Calibri"/>
              </a:rPr>
              <a:t> prima </a:t>
            </a:r>
            <a:r>
              <a:rPr b="1" lang="it-IT" sz="2400" spc="-1" strike="noStrike">
                <a:solidFill>
                  <a:srgbClr val="ffffff"/>
                </a:solidFill>
                <a:latin typeface="Calibri"/>
                <a:ea typeface="Calibri"/>
              </a:rPr>
              <a:t>di porre in essere le procedure relative agli affidamenti in economia di  forniture e serviz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7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54B547-5EF2-4362-99E9-6597D120FA8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0"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Text Box 1"/>
          <p:cNvSpPr/>
          <p:nvPr/>
        </p:nvSpPr>
        <p:spPr>
          <a:xfrm>
            <a:off x="179280" y="333360"/>
            <a:ext cx="8640720" cy="723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rPr>
              <a:t>Art. 125 </a:t>
            </a:r>
            <a:endParaRPr b="0" lang="en-US" sz="2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rPr>
              <a:t>Lavori, servizi e forniture in economia</a:t>
            </a:r>
            <a:endParaRPr b="0" lang="en-US" sz="20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00"/>
                </a:solidFill>
                <a:latin typeface="Calibri"/>
              </a:rPr>
              <a:t>Acquisizioni in economia di forniture e servizi</a:t>
            </a:r>
            <a:endParaRPr b="0" lang="en-US" sz="20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comma 11 dell’art. 125, al primo punto, stabilisce che per servizi o forniture di importo </a:t>
            </a:r>
            <a:r>
              <a:rPr b="1" lang="it-IT" sz="2400" spc="-1" strike="noStrike">
                <a:solidFill>
                  <a:srgbClr val="ffff00"/>
                </a:solidFill>
                <a:latin typeface="Calibri"/>
              </a:rPr>
              <a:t>pari o superiore a €. 20.000 </a:t>
            </a:r>
            <a:r>
              <a:rPr b="1" lang="it-IT" sz="2400" spc="-1" strike="noStrike">
                <a:solidFill>
                  <a:srgbClr val="ffffff"/>
                </a:solidFill>
                <a:latin typeface="Calibri"/>
              </a:rPr>
              <a:t>e fino alle soglie comunitarie, le stazioni appaltanti procedano all'affidamento mediante cottimo fiduciario</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Sempre il comma 11 dell’art. 125, al secondo punto, analogamente a quanto previsto per i lavori al comma 8, prescrive letteralmente che per le forniture ed i servizi di </a:t>
            </a:r>
            <a:r>
              <a:rPr b="1" lang="it-IT" sz="2400" spc="-1" strike="noStrike">
                <a:solidFill>
                  <a:srgbClr val="ffff00"/>
                </a:solidFill>
                <a:latin typeface="Calibri"/>
              </a:rPr>
              <a:t>importo inferiore a €. 20.000  </a:t>
            </a:r>
            <a:r>
              <a:rPr b="1" lang="it-IT" sz="2400" spc="-1" strike="noStrike">
                <a:solidFill>
                  <a:srgbClr val="ffffff"/>
                </a:solidFill>
                <a:latin typeface="Calibri"/>
              </a:rPr>
              <a:t>le stazioni appaltanti possono procedere </a:t>
            </a:r>
            <a:r>
              <a:rPr b="1" lang="it-IT" sz="2400" spc="-1" strike="noStrike">
                <a:solidFill>
                  <a:srgbClr val="ffff00"/>
                </a:solidFill>
                <a:latin typeface="Calibri"/>
              </a:rPr>
              <a:t>all’affidamento diretto </a:t>
            </a:r>
            <a:r>
              <a:rPr b="1" lang="it-IT" sz="2400" spc="-1" strike="noStrike">
                <a:solidFill>
                  <a:srgbClr val="ffffff"/>
                </a:solidFill>
                <a:latin typeface="Calibri"/>
              </a:rPr>
              <a:t>attraverso l’attività del responsabile del procedimento.</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Il punto m-bis dell’art. 4 della legge 12 luglio 2011,n,106 di conversione del D.L. 13 maggio 2011,n.70 (c.d. Decreto Sviluppo) modifica tale disposizione stabilendo che «all’art.125, comma 11 , primo e secondo periodo, le parole </a:t>
            </a:r>
            <a:r>
              <a:rPr b="1" lang="it-IT" sz="2400" spc="-1" strike="noStrike">
                <a:solidFill>
                  <a:srgbClr val="ffff00"/>
                </a:solidFill>
                <a:latin typeface="Calibri"/>
              </a:rPr>
              <a:t>«ventimila euro» </a:t>
            </a:r>
            <a:r>
              <a:rPr b="1" lang="it-IT" sz="2400" spc="-1" strike="noStrike">
                <a:solidFill>
                  <a:srgbClr val="ffffff"/>
                </a:solidFill>
                <a:latin typeface="Calibri"/>
              </a:rPr>
              <a:t>sono sostituite dalle seguenti </a:t>
            </a:r>
            <a:r>
              <a:rPr b="1" lang="it-IT" sz="3200" spc="-1" strike="noStrike">
                <a:solidFill>
                  <a:srgbClr val="ffff00"/>
                </a:solidFill>
                <a:latin typeface="Calibri"/>
              </a:rPr>
              <a:t>«quarantamila euro».</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82"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C8ECC-6631-45C4-93E5-CDDAFD0B683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3" name="Text Box 3"/>
          <p:cNvSpPr/>
          <p:nvPr/>
        </p:nvSpPr>
        <p:spPr>
          <a:xfrm>
            <a:off x="685800" y="-46080"/>
            <a:ext cx="7772400" cy="45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c000"/>
                </a:solidFill>
                <a:latin typeface="Arial"/>
              </a:rPr>
              <a:t>Codice dei contratti pubblici</a:t>
            </a:r>
            <a:endParaRPr b="0" lang="en-US" sz="2800" spc="-1" strike="noStrike">
              <a:solidFill>
                <a:srgbClr val="ffffff"/>
              </a:solidFill>
              <a:latin typeface="Arial Rounded MT Bol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Text Box 1"/>
          <p:cNvSpPr/>
          <p:nvPr/>
        </p:nvSpPr>
        <p:spPr>
          <a:xfrm>
            <a:off x="468360" y="476280"/>
            <a:ext cx="8351640" cy="6885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Acquisizioni in economia di forniture e servizi</a:t>
            </a:r>
            <a:endParaRPr b="0" lang="en-US" sz="32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Letta tale norma appare corretto desumere che anche  le  scuole quali stazioni appaltanti, in caso di acquisizioni in economia di forniture e servizi </a:t>
            </a:r>
            <a:r>
              <a:rPr b="1" lang="it-IT" sz="3200" spc="-1" strike="noStrike">
                <a:solidFill>
                  <a:srgbClr val="ffff00"/>
                </a:solidFill>
                <a:latin typeface="Calibri"/>
              </a:rPr>
              <a:t>di importo inferiore a €. 40.000</a:t>
            </a:r>
            <a:r>
              <a:rPr b="1" lang="it-IT" sz="3200" spc="-1" strike="noStrike">
                <a:solidFill>
                  <a:srgbClr val="ffffff"/>
                </a:solidFill>
                <a:latin typeface="Calibri"/>
              </a:rPr>
              <a:t>,  possano procedere all’affidamento diretto da parte del D.S. responsabile del procedimento. </a:t>
            </a:r>
            <a:endParaRPr b="0" lang="en-US" sz="32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l  D.S. </a:t>
            </a:r>
            <a:r>
              <a:rPr b="1" lang="it-IT" sz="3200" spc="-1" strike="noStrike">
                <a:solidFill>
                  <a:srgbClr val="ffffff"/>
                </a:solidFill>
                <a:latin typeface="Calibri"/>
              </a:rPr>
              <a:t>può anche in questi casi </a:t>
            </a:r>
            <a:r>
              <a:rPr b="1" lang="it-IT" sz="3200" spc="-1" strike="noStrike">
                <a:solidFill>
                  <a:srgbClr val="ffff00"/>
                </a:solidFill>
                <a:latin typeface="Calibri"/>
              </a:rPr>
              <a:t>delegare</a:t>
            </a:r>
            <a:r>
              <a:rPr b="1" lang="it-IT" sz="3200" spc="-1" strike="noStrike">
                <a:solidFill>
                  <a:srgbClr val="ffffff"/>
                </a:solidFill>
                <a:latin typeface="Calibri"/>
              </a:rPr>
              <a:t>  la funzione di responsabile del procedimento  ad uno dei suoi collaboratori o al </a:t>
            </a:r>
            <a:r>
              <a:rPr b="1" lang="it-IT" sz="3200" spc="-1" strike="noStrike">
                <a:solidFill>
                  <a:srgbClr val="ffff00"/>
                </a:solidFill>
                <a:latin typeface="Calibri"/>
              </a:rPr>
              <a:t>Direttore SGA.</a:t>
            </a:r>
            <a:endParaRPr b="0" lang="en-US" sz="32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585"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9B159-2062-4A40-87A9-46909FF513A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6"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Text Box 1"/>
          <p:cNvSpPr/>
          <p:nvPr/>
        </p:nvSpPr>
        <p:spPr>
          <a:xfrm>
            <a:off x="250920" y="476280"/>
            <a:ext cx="8569080" cy="700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Art. 125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Lavori, servizi e forniture in economia</a:t>
            </a:r>
            <a:endParaRPr b="0" lang="en-US" sz="24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Acquisizioni in economia di forniture e servizi</a:t>
            </a:r>
            <a:endParaRPr b="0" lang="en-US" sz="2800" spc="-1" strike="noStrike">
              <a:solidFill>
                <a:srgbClr val="ffffff"/>
              </a:solidFill>
              <a:latin typeface="Arial Rounded MT Bold"/>
            </a:endParaRPr>
          </a:p>
          <a:p>
            <a:pPr algn="ct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0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ffff00"/>
                </a:solidFill>
                <a:latin typeface="Calibri"/>
              </a:rPr>
              <a:t>Il D.S.G.A </a:t>
            </a:r>
            <a:r>
              <a:rPr b="1" lang="it-IT" sz="3000" spc="-1" strike="noStrike">
                <a:solidFill>
                  <a:srgbClr val="ffffff"/>
                </a:solidFill>
                <a:latin typeface="Calibri"/>
              </a:rPr>
              <a:t>assolve, comunque, al compito di svolgere l’attività istruttoria ( art. 32 D.I. 44/01 ).</a:t>
            </a:r>
            <a:endParaRPr b="0" lang="en-US" sz="3000" spc="-1" strike="noStrike">
              <a:solidFill>
                <a:srgbClr val="ffffff"/>
              </a:solidFill>
              <a:latin typeface="Arial Rounded MT Bold"/>
            </a:endParaRPr>
          </a:p>
          <a:p>
            <a:pPr algn="just">
              <a:lnSpc>
                <a:spcPct val="100000"/>
              </a:lnSpc>
              <a:spcBef>
                <a:spcPts val="7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000" spc="-1" strike="noStrike">
                <a:solidFill>
                  <a:srgbClr val="ffffff"/>
                </a:solidFill>
                <a:latin typeface="Calibri"/>
              </a:rPr>
              <a:t>Anche per servizi e forniture affidati con procedura di cottimo fiduciario il </a:t>
            </a:r>
            <a:r>
              <a:rPr b="1" lang="it-IT" sz="3000" spc="-1" strike="noStrike">
                <a:solidFill>
                  <a:srgbClr val="ffff00"/>
                </a:solidFill>
                <a:latin typeface="Calibri"/>
              </a:rPr>
              <a:t>contraente privato</a:t>
            </a:r>
            <a:r>
              <a:rPr b="1" lang="it-IT" sz="3000" spc="-1" strike="noStrike">
                <a:solidFill>
                  <a:srgbClr val="ffffff"/>
                </a:solidFill>
                <a:latin typeface="Calibri"/>
              </a:rPr>
              <a:t>, così come nel caso di cottimo fiduciario relativo a lavori, </a:t>
            </a:r>
            <a:r>
              <a:rPr b="1" lang="it-IT" sz="3000" spc="-1" strike="noStrike">
                <a:solidFill>
                  <a:srgbClr val="ffff00"/>
                </a:solidFill>
                <a:latin typeface="Calibri"/>
              </a:rPr>
              <a:t>deve</a:t>
            </a:r>
            <a:r>
              <a:rPr b="1" lang="it-IT" sz="3000" spc="-1" strike="noStrike">
                <a:solidFill>
                  <a:srgbClr val="ffffff"/>
                </a:solidFill>
                <a:latin typeface="Calibri"/>
              </a:rPr>
              <a:t> essere in possesso dei requisiti di </a:t>
            </a:r>
            <a:r>
              <a:rPr b="1" lang="it-IT" sz="3000" spc="-1" strike="noStrike">
                <a:solidFill>
                  <a:srgbClr val="ffff00"/>
                </a:solidFill>
                <a:latin typeface="Calibri"/>
              </a:rPr>
              <a:t>capacità tecnico-professionale</a:t>
            </a:r>
            <a:r>
              <a:rPr b="1" lang="it-IT" sz="3000" spc="-1" strike="noStrike">
                <a:solidFill>
                  <a:srgbClr val="ffffff"/>
                </a:solidFill>
                <a:latin typeface="Calibri"/>
              </a:rPr>
              <a:t> ed </a:t>
            </a:r>
            <a:r>
              <a:rPr b="1" lang="it-IT" sz="3000" spc="-1" strike="noStrike">
                <a:solidFill>
                  <a:srgbClr val="ffff00"/>
                </a:solidFill>
                <a:latin typeface="Calibri"/>
              </a:rPr>
              <a:t>economico-finanziaria</a:t>
            </a:r>
            <a:r>
              <a:rPr b="1" lang="it-IT" sz="3000" spc="-1" strike="noStrike">
                <a:solidFill>
                  <a:srgbClr val="ffffff"/>
                </a:solidFill>
                <a:latin typeface="Calibri"/>
              </a:rPr>
              <a:t> prescritti per prestazioni di pari importo affidate mediante gare ad </a:t>
            </a:r>
            <a:r>
              <a:rPr b="1" lang="it-IT" sz="3000" spc="-1" strike="noStrike">
                <a:solidFill>
                  <a:srgbClr val="ffff00"/>
                </a:solidFill>
                <a:latin typeface="Calibri"/>
              </a:rPr>
              <a:t>evidenza pubblica.</a:t>
            </a:r>
            <a:endParaRPr b="0" lang="en-US" sz="30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000" spc="-1" strike="noStrike">
              <a:solidFill>
                <a:srgbClr val="ffffff"/>
              </a:solidFill>
              <a:latin typeface="Arial Rounded MT Bold"/>
            </a:endParaRPr>
          </a:p>
        </p:txBody>
      </p:sp>
      <p:sp>
        <p:nvSpPr>
          <p:cNvPr id="1588" name="Text Box 2"/>
          <p:cNvSpPr/>
          <p:nvPr/>
        </p:nvSpPr>
        <p:spPr>
          <a:xfrm>
            <a:off x="6588000" y="640080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E523B-BBBC-497F-8DCE-0348834EEFA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89" name="Text Box 3"/>
          <p:cNvSpPr/>
          <p:nvPr/>
        </p:nvSpPr>
        <p:spPr>
          <a:xfrm>
            <a:off x="685800" y="-46080"/>
            <a:ext cx="7772400" cy="641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48068-E251-4379-A3F3-E1BEBD3B5FC6}"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39" name="Text Box 2"/>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0" name="Text Box 3"/>
          <p:cNvSpPr/>
          <p:nvPr/>
        </p:nvSpPr>
        <p:spPr>
          <a:xfrm>
            <a:off x="179280" y="907920"/>
            <a:ext cx="8425080" cy="52261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Times New Roman"/>
              </a:rPr>
              <a:t>Ma quale è la soglia comunitaria?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Times New Roman"/>
              </a:rPr>
              <a:t>Come stabilire il valore di un contratto?</a:t>
            </a:r>
            <a:endParaRPr b="0" lang="en-US" sz="3600" spc="-1" strike="noStrike">
              <a:solidFill>
                <a:srgbClr val="ffffff"/>
              </a:solidFill>
              <a:latin typeface="Arial Rounded MT Bold"/>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60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ff"/>
                </a:solidFill>
                <a:latin typeface="Times New Roman"/>
              </a:rPr>
              <a:t> </a:t>
            </a:r>
            <a:r>
              <a:rPr b="1" lang="it-IT" sz="2400" spc="-1" strike="noStrike">
                <a:solidFill>
                  <a:srgbClr val="ffffff"/>
                </a:solidFill>
                <a:latin typeface="Times New Roman"/>
              </a:rPr>
              <a:t>L’art. 29 del Codice c.p. stabilisce che “Il calcolo del </a:t>
            </a:r>
            <a:r>
              <a:rPr b="1" lang="it-IT" sz="2400" spc="-1" strike="noStrike">
                <a:solidFill>
                  <a:srgbClr val="ffff00"/>
                </a:solidFill>
                <a:latin typeface="Times New Roman"/>
              </a:rPr>
              <a:t>valore</a:t>
            </a:r>
            <a:r>
              <a:rPr b="1" lang="it-IT" sz="2400" spc="-1" strike="noStrike">
                <a:solidFill>
                  <a:srgbClr val="ffffff"/>
                </a:solidFill>
                <a:latin typeface="Times New Roman"/>
              </a:rPr>
              <a:t> stimato</a:t>
            </a:r>
            <a:r>
              <a:rPr b="1" lang="it-IT" sz="2400" spc="-1" strike="noStrike">
                <a:solidFill>
                  <a:srgbClr val="ffff00"/>
                </a:solidFill>
                <a:latin typeface="Times New Roman"/>
              </a:rPr>
              <a:t> </a:t>
            </a:r>
            <a:r>
              <a:rPr b="1" lang="it-IT" sz="2400" spc="-1" strike="noStrike">
                <a:solidFill>
                  <a:srgbClr val="ffffff"/>
                </a:solidFill>
                <a:latin typeface="Times New Roman"/>
              </a:rPr>
              <a:t>degli appalti pubblici e delle concessioni di lavori o servizi pubblici è basato sull’</a:t>
            </a:r>
            <a:r>
              <a:rPr b="1" lang="it-IT" sz="2400" spc="-1" strike="noStrike">
                <a:solidFill>
                  <a:srgbClr val="ffff00"/>
                </a:solidFill>
                <a:latin typeface="Times New Roman"/>
              </a:rPr>
              <a:t>importo</a:t>
            </a:r>
            <a:r>
              <a:rPr b="1" lang="it-IT" sz="2400" spc="-1" strike="noStrike">
                <a:solidFill>
                  <a:srgbClr val="ffffff"/>
                </a:solidFill>
                <a:latin typeface="Times New Roman"/>
              </a:rPr>
              <a:t> </a:t>
            </a:r>
            <a:r>
              <a:rPr b="1" lang="it-IT" sz="2400" spc="-1" strike="noStrike">
                <a:solidFill>
                  <a:srgbClr val="ffff00"/>
                </a:solidFill>
                <a:latin typeface="Times New Roman"/>
              </a:rPr>
              <a:t>totale pagabile al netto dell’IVA</a:t>
            </a:r>
            <a:r>
              <a:rPr b="1" lang="it-IT" sz="2400" spc="-1" strike="noStrike">
                <a:solidFill>
                  <a:srgbClr val="ffffff"/>
                </a:solidFill>
                <a:latin typeface="Times New Roman"/>
              </a:rPr>
              <a:t> (valutato dalle stazioni appaltanti). </a:t>
            </a:r>
            <a:endParaRPr b="0" lang="en-US" sz="2400" spc="-1" strike="noStrike">
              <a:solidFill>
                <a:srgbClr val="ffffff"/>
              </a:solidFill>
              <a:latin typeface="Arial Rounded MT Bold"/>
            </a:endParaRPr>
          </a:p>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a:p>
            <a:pPr marL="343080" indent="-341640" algn="just">
              <a:lnSpc>
                <a:spcPct val="100000"/>
              </a:lnSpc>
              <a:spcBef>
                <a:spcPts val="601"/>
              </a:spcBef>
              <a:buClr>
                <a:srgbClr val="3366ff"/>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00ff00"/>
                </a:solidFill>
                <a:latin typeface="Times New Roman"/>
              </a:rPr>
              <a:t>NESSUN PROGETTO D’OPERA O D’ACQUISTO PUÒ ESSERE FRAZIONATO AL FINE DI ESCLUDERLO DALL’OSSERVANZA DELLE NORME.</a:t>
            </a:r>
            <a:endParaRPr b="0" lang="en-US" sz="2400" spc="-1" strike="noStrike">
              <a:solidFill>
                <a:srgbClr val="ffffff"/>
              </a:solidFill>
              <a:latin typeface="Arial Rounded MT Bol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Text Box 1"/>
          <p:cNvSpPr/>
          <p:nvPr/>
        </p:nvSpPr>
        <p:spPr>
          <a:xfrm>
            <a:off x="0" y="836640"/>
            <a:ext cx="9144000" cy="60246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2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 </a:t>
            </a:r>
            <a:r>
              <a:rPr b="1" i="1" lang="it-IT" sz="8000" spc="-1" strike="noStrike">
                <a:solidFill>
                  <a:srgbClr val="ffff00"/>
                </a:solidFill>
                <a:latin typeface="Calibri"/>
              </a:rPr>
              <a:t>D.U.R.C.</a:t>
            </a:r>
            <a:endParaRPr b="0" lang="en-US" sz="8000" spc="-1" strike="noStrike">
              <a:solidFill>
                <a:srgbClr val="ffffff"/>
              </a:solidFill>
              <a:latin typeface="Arial Rounded MT Bold"/>
            </a:endParaRPr>
          </a:p>
          <a:p>
            <a:pPr marL="343080" indent="-341640" algn="ctr">
              <a:lnSpc>
                <a:spcPct val="10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800" spc="-1" strike="noStrike">
                <a:solidFill>
                  <a:srgbClr val="00ffff"/>
                </a:solidFill>
                <a:latin typeface="Calibri"/>
              </a:rPr>
              <a:t>Documento Unico di Regolarità Contributiva</a:t>
            </a:r>
            <a:endParaRPr b="0" lang="en-US" sz="3800" spc="-1" strike="noStrike">
              <a:solidFill>
                <a:srgbClr val="ffffff"/>
              </a:solidFill>
              <a:latin typeface="Arial Rounded MT Bold"/>
            </a:endParaRPr>
          </a:p>
          <a:p>
            <a:pPr marL="343080" indent="-341640" algn="ctr">
              <a:lnSpc>
                <a:spcPct val="100000"/>
              </a:lnSpc>
              <a:spcBef>
                <a:spcPts val="9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800" spc="-1" strike="noStrike">
                <a:solidFill>
                  <a:srgbClr val="00ffff"/>
                </a:solidFill>
                <a:latin typeface="Calibri"/>
              </a:rPr>
              <a:t>istituito dall’art.9 del D.L.vo n.124/2004</a:t>
            </a:r>
            <a:endParaRPr b="0" lang="en-US" sz="38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Certifica l'avvenuto versamento dei contributi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da parte dei soggetti obbligati agli istituti </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previdenziali, assistenziali ed assicurativi</a:t>
            </a:r>
            <a:endParaRPr b="0" lang="en-US" sz="3600" spc="-1" strike="noStrike">
              <a:solidFill>
                <a:srgbClr val="ffffff"/>
              </a:solidFill>
              <a:latin typeface="Arial Rounded MT Bold"/>
            </a:endParaRPr>
          </a:p>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66"/>
                </a:solidFill>
                <a:latin typeface="Calibri"/>
              </a:rPr>
              <a:t>(Inps, Inail e Casse Edili).</a:t>
            </a:r>
            <a:endParaRPr b="0" lang="en-US" sz="3600" spc="-1" strike="noStrike">
              <a:solidFill>
                <a:srgbClr val="ffffff"/>
              </a:solidFill>
              <a:latin typeface="Arial Rounded MT Bold"/>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Rounded MT Bold"/>
            </a:endParaRPr>
          </a:p>
        </p:txBody>
      </p:sp>
      <p:sp>
        <p:nvSpPr>
          <p:cNvPr id="159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97A04-5D00-45FB-8349-DEA1D78B5EB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92"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3" name="Segnaposto contenuto 2" descr=""/>
          <p:cNvPicPr/>
          <p:nvPr/>
        </p:nvPicPr>
        <p:blipFill>
          <a:blip r:embed="rId1"/>
          <a:stretch/>
        </p:blipFill>
        <p:spPr>
          <a:xfrm>
            <a:off x="-42840" y="755640"/>
            <a:ext cx="9326520" cy="5840280"/>
          </a:xfrm>
          <a:prstGeom prst="rect">
            <a:avLst/>
          </a:prstGeom>
          <a:ln w="0">
            <a:noFill/>
          </a:ln>
        </p:spPr>
      </p:pic>
      <p:sp>
        <p:nvSpPr>
          <p:cNvPr id="1594"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CCCFD-3D6B-48B6-BCD6-C9A116364C50}"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595" name="PlaceHolder 1"/>
          <p:cNvSpPr>
            <a:spLocks noGrp="1"/>
          </p:cNvSpPr>
          <p:nvPr>
            <p:ph type="title"/>
          </p:nvPr>
        </p:nvSpPr>
        <p:spPr>
          <a:xfrm>
            <a:off x="685800" y="-360"/>
            <a:ext cx="7772400" cy="7650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
        <p:nvSpPr>
          <p:cNvPr id="1596" name="Stella a 5 punte 1"/>
          <p:cNvSpPr/>
          <p:nvPr/>
        </p:nvSpPr>
        <p:spPr>
          <a:xfrm>
            <a:off x="4140360" y="3645000"/>
            <a:ext cx="718920" cy="647640"/>
          </a:xfrm>
          <a:custGeom>
            <a:avLst/>
            <a:gdLst/>
            <a:ahLst/>
            <a:rect l="l" t="t" r="r" b="b"/>
            <a:pathLst>
              <a:path w="719138" h="647700">
                <a:moveTo>
                  <a:pt x="1" y="247399"/>
                </a:moveTo>
                <a:lnTo>
                  <a:pt x="274688" y="247400"/>
                </a:lnTo>
                <a:lnTo>
                  <a:pt x="359569" y="0"/>
                </a:lnTo>
                <a:lnTo>
                  <a:pt x="444450" y="247400"/>
                </a:lnTo>
                <a:lnTo>
                  <a:pt x="719137" y="247399"/>
                </a:lnTo>
                <a:lnTo>
                  <a:pt x="496910" y="400299"/>
                </a:lnTo>
                <a:lnTo>
                  <a:pt x="581794" y="647698"/>
                </a:lnTo>
                <a:lnTo>
                  <a:pt x="359569" y="494795"/>
                </a:lnTo>
                <a:lnTo>
                  <a:pt x="137344" y="647698"/>
                </a:lnTo>
                <a:lnTo>
                  <a:pt x="222228" y="400299"/>
                </a:lnTo>
                <a:lnTo>
                  <a:pt x="1" y="24739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Text Box 1"/>
          <p:cNvSpPr/>
          <p:nvPr/>
        </p:nvSpPr>
        <p:spPr>
          <a:xfrm>
            <a:off x="179280" y="1052640"/>
            <a:ext cx="8713800" cy="57261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3200" spc="-1" strike="noStrike">
                <a:solidFill>
                  <a:srgbClr val="ffff00"/>
                </a:solidFill>
                <a:latin typeface="Calibri"/>
              </a:rPr>
              <a:t>L’art. 6, comma 1, Decreto del Presidente della Repubblica 5 ottobre 2010, n. 207</a:t>
            </a:r>
            <a:r>
              <a:rPr b="1" lang="it-IT" sz="3200" spc="-1" strike="noStrike">
                <a:solidFill>
                  <a:srgbClr val="ffffff"/>
                </a:solidFill>
                <a:latin typeface="Calibri"/>
              </a:rPr>
              <a:t>, “Regolamento di esecuzione ed attuazione del decreto legislativo 12 aprile 2006, n. 163 definisce il DURC come  </a:t>
            </a:r>
            <a:r>
              <a:rPr b="1" lang="it-IT" sz="3200" spc="-1" strike="noStrike">
                <a:solidFill>
                  <a:srgbClr val="ffff00"/>
                </a:solidFill>
                <a:latin typeface="Calibri"/>
              </a:rPr>
              <a:t>“</a:t>
            </a:r>
            <a:r>
              <a:rPr b="1" i="1" lang="it-IT" sz="3200" spc="-1" strike="noStrike">
                <a:solidFill>
                  <a:srgbClr val="ffff00"/>
                </a:solidFill>
                <a:latin typeface="Calibri"/>
              </a:rPr>
              <a:t>il certificato che attesta contestualmente la regolarità di un operatore economico per</a:t>
            </a:r>
            <a:r>
              <a:rPr b="1" lang="it-IT" sz="3200" spc="-1" strike="noStrike">
                <a:solidFill>
                  <a:srgbClr val="ffff00"/>
                </a:solidFill>
                <a:latin typeface="Calibri"/>
              </a:rPr>
              <a:t> </a:t>
            </a:r>
            <a:r>
              <a:rPr b="1" i="1" lang="it-IT" sz="3200" spc="-1" strike="noStrike">
                <a:solidFill>
                  <a:srgbClr val="ffff00"/>
                </a:solidFill>
                <a:latin typeface="Calibri"/>
              </a:rPr>
              <a:t>quanto concerne gli adempimenti INPS, INAIL, nonché Cassa Edile per i lavori, verificati sulla</a:t>
            </a:r>
            <a:r>
              <a:rPr b="1" lang="it-IT" sz="3200" spc="-1" strike="noStrike">
                <a:solidFill>
                  <a:srgbClr val="ffff00"/>
                </a:solidFill>
                <a:latin typeface="Calibri"/>
              </a:rPr>
              <a:t> </a:t>
            </a:r>
            <a:r>
              <a:rPr b="1" i="1" lang="it-IT" sz="3200" spc="-1" strike="noStrike">
                <a:solidFill>
                  <a:srgbClr val="ffff00"/>
                </a:solidFill>
                <a:latin typeface="Calibri"/>
              </a:rPr>
              <a:t>base della rispettiva normativa di riferimento”</a:t>
            </a:r>
            <a:r>
              <a:rPr b="1" i="1" lang="it-IT" sz="3200" spc="-1" strike="noStrike">
                <a:solidFill>
                  <a:srgbClr val="ffffff"/>
                </a:solidFill>
                <a:latin typeface="Calibri"/>
              </a:rPr>
              <a:t>.</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59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14EF5-2A3E-4E9A-B0ED-EC358B1D69E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599" name="Text Box 3"/>
          <p:cNvSpPr/>
          <p:nvPr/>
        </p:nvSpPr>
        <p:spPr>
          <a:xfrm>
            <a:off x="685800" y="0"/>
            <a:ext cx="7772400" cy="1052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1"/>
          <p:cNvSpPr/>
          <p:nvPr/>
        </p:nvSpPr>
        <p:spPr>
          <a:xfrm>
            <a:off x="539640" y="981000"/>
            <a:ext cx="8209080" cy="57261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L’art. 3, comma 22, del Codice dei contratti</a:t>
            </a:r>
            <a:r>
              <a:rPr b="1" lang="it-IT" sz="3200" spc="-1" strike="noStrike">
                <a:solidFill>
                  <a:srgbClr val="ffffff"/>
                </a:solidFill>
                <a:latin typeface="Calibri"/>
                <a:ea typeface="Calibri"/>
              </a:rPr>
              <a:t> precisa che  è individuato operatore economico </a:t>
            </a:r>
            <a:r>
              <a:rPr b="1" lang="it-IT" sz="3200" spc="-1" strike="noStrike">
                <a:solidFill>
                  <a:srgbClr val="ffff00"/>
                </a:solidFill>
                <a:latin typeface="Calibri"/>
                <a:ea typeface="Calibri"/>
              </a:rPr>
              <a:t>“</a:t>
            </a:r>
            <a:r>
              <a:rPr b="1" i="1" lang="it-IT" sz="3200" spc="-1" strike="noStrike">
                <a:solidFill>
                  <a:srgbClr val="ffff00"/>
                </a:solidFill>
                <a:latin typeface="Calibri"/>
                <a:ea typeface="Calibri"/>
              </a:rPr>
              <a:t>l'imprenditore, il fornitore e il prestatore di</a:t>
            </a:r>
            <a:r>
              <a:rPr b="1" lang="it-IT" sz="3200" spc="-1" strike="noStrike">
                <a:solidFill>
                  <a:srgbClr val="ffff00"/>
                </a:solidFill>
                <a:latin typeface="Calibri"/>
                <a:ea typeface="Calibri"/>
              </a:rPr>
              <a:t> </a:t>
            </a:r>
            <a:r>
              <a:rPr b="1" i="1" lang="it-IT" sz="3200" spc="-1" strike="noStrike">
                <a:solidFill>
                  <a:srgbClr val="ffff00"/>
                </a:solidFill>
                <a:latin typeface="Calibri"/>
                <a:ea typeface="Calibri"/>
              </a:rPr>
              <a:t>servizi o un raggruppamento o consorzio di essi.” </a:t>
            </a:r>
            <a:r>
              <a:rPr b="1" lang="it-IT" sz="3200" spc="-1" strike="noStrike">
                <a:solidFill>
                  <a:srgbClr val="ffffff"/>
                </a:solidFill>
                <a:latin typeface="Calibri"/>
                <a:ea typeface="Calibri"/>
              </a:rPr>
              <a:t>sia esso persona fisica o persona giuridica, che sia parte di un rapporto contrattuale con la P.A. obbligato ai fini del rilascio del DURC sia all’ iscrizione nei confronti degli Enti previdenziali che delle Casse edili .</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B2155-8570-4D42-85E0-2AB585232C0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2" name="Text Box 3"/>
          <p:cNvSpPr/>
          <p:nvPr/>
        </p:nvSpPr>
        <p:spPr>
          <a:xfrm>
            <a:off x="685800" y="115920"/>
            <a:ext cx="7772400" cy="865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Text Box 1"/>
          <p:cNvSpPr/>
          <p:nvPr/>
        </p:nvSpPr>
        <p:spPr>
          <a:xfrm>
            <a:off x="250920" y="765000"/>
            <a:ext cx="8642160" cy="63882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Il DURC, </a:t>
            </a:r>
            <a:r>
              <a:rPr b="1" lang="it-IT" sz="3200" spc="-1" strike="noStrike">
                <a:solidFill>
                  <a:srgbClr val="ffffff"/>
                </a:solidFill>
                <a:latin typeface="Calibri"/>
              </a:rPr>
              <a:t>attesta contestualmente la situazione contributiva nei confronti di più enti quando il soggetto, per il quale si effettua la verifica della regolarità, è contemporaneamente iscritto ad almeno </a:t>
            </a:r>
            <a:r>
              <a:rPr b="1" lang="it-IT" sz="3200" spc="-1" strike="noStrike">
                <a:solidFill>
                  <a:srgbClr val="ffff00"/>
                </a:solidFill>
                <a:latin typeface="Calibri"/>
              </a:rPr>
              <a:t>2 </a:t>
            </a:r>
            <a:r>
              <a:rPr b="1" lang="it-IT" sz="3200" spc="-1" strike="noStrike">
                <a:solidFill>
                  <a:srgbClr val="ffffff"/>
                </a:solidFill>
                <a:latin typeface="Calibri"/>
              </a:rPr>
              <a:t>degli Enti tenuti al rilascio del documento stesso.</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n casi particolari il termine “DURC” è utilizzato anche con riferimento alla regolarità contributiva di un soggetto tenuto all’iscrizione presso </a:t>
            </a:r>
            <a:r>
              <a:rPr b="1" lang="it-IT" sz="3200" spc="-1" strike="noStrike">
                <a:solidFill>
                  <a:srgbClr val="ffff00"/>
                </a:solidFill>
                <a:latin typeface="Calibri"/>
              </a:rPr>
              <a:t>un solo </a:t>
            </a:r>
            <a:r>
              <a:rPr b="1" lang="it-IT" sz="3200" spc="-1" strike="noStrike">
                <a:solidFill>
                  <a:srgbClr val="ffffff"/>
                </a:solidFill>
                <a:latin typeface="Calibri"/>
              </a:rPr>
              <a:t>Istituto previdenziale.</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4B0FE-167D-40EF-8EC3-8F8571A2E64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5"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1"/>
          <p:cNvSpPr/>
          <p:nvPr/>
        </p:nvSpPr>
        <p:spPr>
          <a:xfrm>
            <a:off x="250920" y="765000"/>
            <a:ext cx="8642160" cy="648972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In queste ipotesi, </a:t>
            </a:r>
            <a:r>
              <a:rPr b="1" lang="it-IT" sz="3200" spc="-1" strike="noStrike">
                <a:solidFill>
                  <a:srgbClr val="ffff00"/>
                </a:solidFill>
                <a:latin typeface="Calibri"/>
                <a:ea typeface="Calibri"/>
              </a:rPr>
              <a:t>non può</a:t>
            </a:r>
            <a:r>
              <a:rPr b="1" lang="it-IT" sz="3200" spc="-1" strike="noStrike">
                <a:solidFill>
                  <a:srgbClr val="ffffff"/>
                </a:solidFill>
                <a:latin typeface="Calibri"/>
                <a:ea typeface="Calibri"/>
              </a:rPr>
              <a:t> essere utilizzato il servizio on-line di richiesta DURC , </a:t>
            </a:r>
            <a:r>
              <a:rPr b="1" lang="it-IT" sz="3200" spc="-1" strike="noStrike">
                <a:solidFill>
                  <a:srgbClr val="ffff00"/>
                </a:solidFill>
                <a:latin typeface="Calibri"/>
                <a:ea typeface="Calibri"/>
              </a:rPr>
              <a:t>ma deve </a:t>
            </a:r>
            <a:r>
              <a:rPr b="1" lang="it-IT" sz="3200" spc="-1" strike="noStrike">
                <a:solidFill>
                  <a:srgbClr val="ffffff"/>
                </a:solidFill>
                <a:latin typeface="Calibri"/>
                <a:ea typeface="Calibri"/>
              </a:rPr>
              <a:t>essere acquisita :</a:t>
            </a:r>
            <a:endParaRPr b="0" lang="en-US" sz="3200" spc="-1" strike="noStrike">
              <a:solidFill>
                <a:srgbClr val="ffffff"/>
              </a:solidFill>
              <a:latin typeface="Arial Rounded MT Bold"/>
            </a:endParaRPr>
          </a:p>
          <a:p>
            <a:pPr algn="just">
              <a:lnSpc>
                <a:spcPct val="115000"/>
              </a:lnSpc>
              <a:spcBef>
                <a:spcPts val="799"/>
              </a:spcBef>
              <a:buClr>
                <a:srgbClr val="3366ff"/>
              </a:buClr>
              <a:buFont typeface="Symbol"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una singola certificazione di </a:t>
            </a:r>
            <a:r>
              <a:rPr b="1" lang="it-IT" sz="3200" spc="-1" strike="noStrike">
                <a:solidFill>
                  <a:srgbClr val="00ffff"/>
                </a:solidFill>
                <a:latin typeface="Calibri"/>
                <a:ea typeface="Calibri"/>
              </a:rPr>
              <a:t>regolarità contributiva</a:t>
            </a:r>
            <a:r>
              <a:rPr b="1" lang="it-IT" sz="3200" spc="-1" strike="noStrike">
                <a:solidFill>
                  <a:srgbClr val="ffffff"/>
                </a:solidFill>
                <a:latin typeface="Calibri"/>
                <a:ea typeface="Calibri"/>
              </a:rPr>
              <a:t> rilasciata dall’ente presso il quale il soggetto è iscritto; </a:t>
            </a:r>
            <a:endParaRPr b="0" lang="en-US" sz="3200" spc="-1" strike="noStrike">
              <a:solidFill>
                <a:srgbClr val="ffffff"/>
              </a:solidFill>
              <a:latin typeface="Arial Rounded MT Bold"/>
            </a:endParaRPr>
          </a:p>
          <a:p>
            <a:pPr algn="just">
              <a:lnSpc>
                <a:spcPct val="115000"/>
              </a:lnSpc>
              <a:spcBef>
                <a:spcPts val="799"/>
              </a:spcBef>
              <a:buClr>
                <a:srgbClr val="3366ff"/>
              </a:buClr>
              <a:buFont typeface="Symbol"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ed un’attestazione di </a:t>
            </a:r>
            <a:r>
              <a:rPr b="1" lang="it-IT" sz="3200" spc="-1" strike="noStrike">
                <a:solidFill>
                  <a:srgbClr val="00ffff"/>
                </a:solidFill>
                <a:latin typeface="Calibri"/>
                <a:ea typeface="Calibri"/>
              </a:rPr>
              <a:t>non sussistenza dell’obbligo</a:t>
            </a:r>
            <a:r>
              <a:rPr b="1" lang="it-IT" sz="3200" spc="-1" strike="noStrike">
                <a:solidFill>
                  <a:srgbClr val="ffffff"/>
                </a:solidFill>
                <a:latin typeface="Calibri"/>
                <a:ea typeface="Calibri"/>
              </a:rPr>
              <a:t> all’iscrizione rilasciata dall’ente presso il quale il soggetto dichiara di non avere l’obbligo di iscrizione.</a:t>
            </a:r>
            <a:endParaRPr b="0" lang="en-US" sz="3200" spc="-1" strike="noStrike">
              <a:solidFill>
                <a:srgbClr val="ffffff"/>
              </a:solidFill>
              <a:latin typeface="Arial Rounded MT Bold"/>
            </a:endParaRPr>
          </a:p>
          <a:p>
            <a:pPr algn="ct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0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FAF6D-79F0-42A6-A693-01467F74A2A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08"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Text Box 1"/>
          <p:cNvSpPr/>
          <p:nvPr/>
        </p:nvSpPr>
        <p:spPr>
          <a:xfrm>
            <a:off x="698400" y="836640"/>
            <a:ext cx="7618680" cy="541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L'OBBLIGO, NELL'AMBITO DELLE PROCEDURE DI </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PPALTO, PER IMPRESE E AUTONOMI, SCATTA IN CASO DI:</a:t>
            </a:r>
            <a:endParaRPr b="0" lang="en-US" sz="24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PPALTI DI OPERE, SERVIZI E FORNITURE;</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SUBAPPAL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LAVORI PRIVATI DELL'EDILIZIA SOGGETTI AL RILASCIO</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DELLA CONCESSIONE EDILIZIA;</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CCESSO E SOVVENZIONI COMUNITARIE PER LA</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REALIZZAZIONE DI INVESTIMENTI;</a:t>
            </a:r>
            <a:endParaRPr b="0" lang="en-US" sz="2400" spc="-1" strike="noStrike">
              <a:solidFill>
                <a:srgbClr val="ffffff"/>
              </a:solidFill>
              <a:latin typeface="Arial Rounded MT Bold"/>
            </a:endParaRPr>
          </a:p>
          <a:p>
            <a:pPr algn="just">
              <a:lnSpc>
                <a:spcPct val="100000"/>
              </a:lnSpc>
              <a:spcBef>
                <a:spcPts val="700"/>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FRUIZIONE DI BENEFICI NORMATIVI E CONTRIBUTIVI</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CONNESSI AL VERSAMENTO DELLA CONTRIBUZIONE</a:t>
            </a:r>
            <a:endParaRPr b="0" lang="en-US" sz="24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ff"/>
                </a:solidFill>
                <a:latin typeface="Calibri"/>
              </a:rPr>
              <a:t>     </a:t>
            </a:r>
            <a:r>
              <a:rPr b="1" lang="it-IT" sz="2400" spc="-1" strike="noStrike">
                <a:solidFill>
                  <a:srgbClr val="ffffff"/>
                </a:solidFill>
                <a:latin typeface="Calibri"/>
              </a:rPr>
              <a:t>PER I LAVORATORI DIPENDENTI.</a:t>
            </a:r>
            <a:endParaRPr b="0" lang="en-US" sz="24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1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1F280-68F1-427E-A041-2EC04719D9D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1"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Text Box 1"/>
          <p:cNvSpPr/>
          <p:nvPr/>
        </p:nvSpPr>
        <p:spPr>
          <a:xfrm>
            <a:off x="108000" y="907920"/>
            <a:ext cx="8640720" cy="5473800"/>
          </a:xfrm>
          <a:prstGeom prst="rect">
            <a:avLst/>
          </a:prstGeom>
          <a:noFill/>
          <a:ln w="0">
            <a:noFill/>
          </a:ln>
        </p:spPr>
        <p:style>
          <a:lnRef idx="0"/>
          <a:fillRef idx="0"/>
          <a:effectRef idx="0"/>
          <a:fontRef idx="minor"/>
        </p:style>
        <p:txBody>
          <a:bodyPr lIns="90000" rIns="90000" tIns="46800" bIns="46800" anchor="t">
            <a:noAutofit/>
          </a:bodyPr>
          <a:p>
            <a:pPr marL="343080" indent="-341640" algn="just">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    </a:t>
            </a:r>
            <a:r>
              <a:rPr b="1" lang="it-IT" sz="2400" spc="-1" strike="noStrike">
                <a:solidFill>
                  <a:srgbClr val="ffffff"/>
                </a:solidFill>
                <a:latin typeface="Calibri"/>
              </a:rPr>
              <a:t>LA NOTA DEL MEF  - DIPARTIMENTO DELLA RAGIONERIA GENERALE DELLO STATO, </a:t>
            </a:r>
            <a:r>
              <a:rPr b="1" lang="it-IT" sz="2400" spc="-1" strike="noStrike">
                <a:solidFill>
                  <a:srgbClr val="ffff00"/>
                </a:solidFill>
                <a:latin typeface="Calibri"/>
              </a:rPr>
              <a:t>DEL 7 MAGGIO 2009</a:t>
            </a:r>
            <a:r>
              <a:rPr b="1" lang="it-IT" sz="2400" spc="-1" strike="noStrike">
                <a:solidFill>
                  <a:srgbClr val="ffffff"/>
                </a:solidFill>
                <a:latin typeface="Calibri"/>
              </a:rPr>
              <a:t>, INDIRIZZATA  A TUTTE LE RAGIONERIE TERRITORIALI ED </a:t>
            </a:r>
            <a:r>
              <a:rPr b="1" lang="it-IT" sz="2400" spc="-1" strike="noStrike">
                <a:solidFill>
                  <a:srgbClr val="ffff00"/>
                </a:solidFill>
                <a:latin typeface="Calibri"/>
              </a:rPr>
              <a:t>AI REVISORI DEI CONTI PRESSO LE ISTITUZIONI SCOLASTICHE</a:t>
            </a:r>
            <a:r>
              <a:rPr b="1" lang="it-IT" sz="2400" spc="-1" strike="noStrike">
                <a:solidFill>
                  <a:srgbClr val="ffffff"/>
                </a:solidFill>
                <a:latin typeface="Calibri"/>
              </a:rPr>
              <a:t> CONFERMAVA </a:t>
            </a:r>
            <a:r>
              <a:rPr b="1" lang="it-IT" sz="2400" spc="-1" strike="noStrike">
                <a:solidFill>
                  <a:srgbClr val="ffff00"/>
                </a:solidFill>
                <a:latin typeface="Calibri"/>
              </a:rPr>
              <a:t>L’OBBLIGATORIETÀ</a:t>
            </a:r>
            <a:r>
              <a:rPr b="1" lang="it-IT" sz="2400" spc="-1" strike="noStrike">
                <a:solidFill>
                  <a:srgbClr val="ffffff"/>
                </a:solidFill>
                <a:latin typeface="Calibri"/>
              </a:rPr>
              <a:t> DEL DURC PER TUTTI I FORNITORI CHE CONTRATTAVANO CON LA P.A., ANCHE PER </a:t>
            </a:r>
            <a:r>
              <a:rPr b="1" lang="it-IT" sz="2400" spc="-1" strike="noStrike">
                <a:solidFill>
                  <a:srgbClr val="ffff00"/>
                </a:solidFill>
                <a:latin typeface="Calibri"/>
              </a:rPr>
              <a:t>ACQUISTI DI MODESTA ENTITÀ, </a:t>
            </a:r>
            <a:r>
              <a:rPr b="1" lang="it-IT" sz="2400" spc="-1" strike="noStrike" u="sng">
                <a:solidFill>
                  <a:srgbClr val="00ff00"/>
                </a:solidFill>
                <a:uFillTx/>
                <a:latin typeface="Calibri"/>
              </a:rPr>
              <a:t>MA NON CHIARIVA</a:t>
            </a:r>
            <a:r>
              <a:rPr b="1" lang="it-IT" sz="2400" spc="-1" strike="noStrike">
                <a:solidFill>
                  <a:srgbClr val="ffffff"/>
                </a:solidFill>
                <a:latin typeface="Calibri"/>
              </a:rPr>
              <a:t> LA MISURA DELL’IMPORTO AL DI SOTTO DEL QUALE LA FORNITURA DEVESSE CONSIDERARSI DI MODESTA ENTITÀ, </a:t>
            </a:r>
            <a:r>
              <a:rPr b="1" lang="it-IT" sz="2400" spc="-1" strike="noStrike" u="sng">
                <a:solidFill>
                  <a:srgbClr val="00ff00"/>
                </a:solidFill>
                <a:uFillTx/>
                <a:latin typeface="Calibri"/>
              </a:rPr>
              <a:t>LIMITANDOSI</a:t>
            </a:r>
            <a:r>
              <a:rPr b="1" lang="it-IT" sz="2400" spc="-1" strike="noStrike">
                <a:solidFill>
                  <a:srgbClr val="ffffff"/>
                </a:solidFill>
                <a:latin typeface="Calibri"/>
              </a:rPr>
              <a:t> A STABILIRE  CHE PER LE FORNITURE DI MODESTA ENTITÀ NEI CONFRONTI DEI SOGGETTI CONTRAENTI CON L’AMMINISTRAZIONE,  </a:t>
            </a:r>
            <a:r>
              <a:rPr b="1" lang="it-IT" sz="2400" spc="-1" strike="noStrike">
                <a:solidFill>
                  <a:srgbClr val="ffff00"/>
                </a:solidFill>
                <a:latin typeface="Calibri"/>
              </a:rPr>
              <a:t>IN LUOGO DEL DURC, </a:t>
            </a:r>
            <a:r>
              <a:rPr b="1" lang="it-IT" sz="2400" spc="-1" strike="noStrike" u="sng">
                <a:solidFill>
                  <a:srgbClr val="00ff00"/>
                </a:solidFill>
                <a:uFillTx/>
                <a:latin typeface="Calibri"/>
              </a:rPr>
              <a:t>FOSSE POSSIBILE</a:t>
            </a:r>
            <a:r>
              <a:rPr b="1" lang="it-IT" sz="2400" spc="-1" strike="noStrike">
                <a:solidFill>
                  <a:srgbClr val="ffffff"/>
                </a:solidFill>
                <a:latin typeface="Calibri"/>
              </a:rPr>
              <a:t> ACQUISIRE UNA </a:t>
            </a:r>
            <a:r>
              <a:rPr b="1" lang="it-IT" sz="2400" spc="-1" strike="noStrike">
                <a:solidFill>
                  <a:srgbClr val="ffff00"/>
                </a:solidFill>
                <a:latin typeface="Calibri"/>
              </a:rPr>
              <a:t>DICHIARAZIONE SOSTITUTIVA </a:t>
            </a:r>
            <a:r>
              <a:rPr b="1" lang="it-IT" sz="2400" spc="-1" strike="noStrike">
                <a:solidFill>
                  <a:srgbClr val="ffffff"/>
                </a:solidFill>
                <a:latin typeface="Calibri"/>
              </a:rPr>
              <a:t>AI SENSI DELL’ART.46, C.1, LETT. P, DEL DPR. N.445/2009. </a:t>
            </a:r>
            <a:endParaRPr b="0" lang="en-US" sz="24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
        <p:nvSpPr>
          <p:cNvPr id="161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A2606-25AA-428E-B68F-8D70E0A9A9D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4"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2" descr=""/>
          <p:cNvPicPr/>
          <p:nvPr/>
        </p:nvPicPr>
        <p:blipFill>
          <a:blip r:embed="rId1"/>
          <a:stretch/>
        </p:blipFill>
        <p:spPr>
          <a:xfrm>
            <a:off x="0" y="719280"/>
            <a:ext cx="9036000" cy="5997600"/>
          </a:xfrm>
          <a:prstGeom prst="rect">
            <a:avLst/>
          </a:prstGeom>
          <a:ln w="0">
            <a:noFill/>
          </a:ln>
        </p:spPr>
      </p:pic>
      <p:sp>
        <p:nvSpPr>
          <p:cNvPr id="1616"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A7FB4-AC8C-45B9-8DD2-CC7B8ED132A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17" name="Text Box 5"/>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Text Box 1"/>
          <p:cNvSpPr/>
          <p:nvPr/>
        </p:nvSpPr>
        <p:spPr>
          <a:xfrm>
            <a:off x="108000" y="907920"/>
            <a:ext cx="8928000" cy="57978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4400" spc="-1" strike="noStrike">
                <a:solidFill>
                  <a:srgbClr val="00ffff"/>
                </a:solidFill>
                <a:latin typeface="Calibri"/>
              </a:rPr>
              <a:t>APPARE CORRETTO DUNQUE</a:t>
            </a:r>
            <a:endParaRPr b="0" lang="en-US" sz="4400" spc="-1" strike="noStrike">
              <a:solidFill>
                <a:srgbClr val="ffffff"/>
              </a:solidFill>
              <a:latin typeface="Arial Rounded MT Bold"/>
            </a:endParaRPr>
          </a:p>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4400" spc="-1" strike="noStrike">
                <a:solidFill>
                  <a:srgbClr val="00ffff"/>
                </a:solidFill>
                <a:latin typeface="Calibri"/>
              </a:rPr>
              <a:t>DEDURRE CHE PER LE II.SS.AA. </a:t>
            </a:r>
            <a:endParaRPr b="0" lang="en-US" sz="4400" spc="-1" strike="noStrike">
              <a:solidFill>
                <a:srgbClr val="ffffff"/>
              </a:solidFill>
              <a:latin typeface="Arial Rounded MT Bold"/>
            </a:endParaRPr>
          </a:p>
          <a:p>
            <a:pPr marL="343080" indent="-341640" algn="ctr">
              <a:lnSpc>
                <a:spcPct val="100000"/>
              </a:lnSpc>
              <a:spcBef>
                <a:spcPts val="13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ff"/>
                </a:solidFill>
                <a:latin typeface="Calibri"/>
              </a:rPr>
              <a:t>AI FINI DEL </a:t>
            </a:r>
            <a:r>
              <a:rPr b="1" lang="it-IT" sz="4400" spc="-1" strike="noStrike">
                <a:solidFill>
                  <a:srgbClr val="ffff00"/>
                </a:solidFill>
                <a:latin typeface="Calibri"/>
              </a:rPr>
              <a:t>DURC </a:t>
            </a:r>
            <a:r>
              <a:rPr b="1" lang="it-IT" sz="4400" spc="-1" strike="noStrike">
                <a:solidFill>
                  <a:srgbClr val="ffffff"/>
                </a:solidFill>
                <a:latin typeface="Calibri"/>
              </a:rPr>
              <a:t>SIANO DA </a:t>
            </a:r>
            <a:endParaRPr b="0" lang="en-US" sz="44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ESCLUDERE  SOLO LE MINUTE SPESE </a:t>
            </a:r>
            <a:endParaRPr b="0" lang="en-US" sz="4400" spc="-1" strike="noStrike">
              <a:solidFill>
                <a:srgbClr val="ffffff"/>
              </a:solidFill>
              <a:latin typeface="Arial Rounded MT Bold"/>
            </a:endParaRPr>
          </a:p>
          <a:p>
            <a:pPr marL="343080" indent="-341640" algn="ct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ff"/>
                </a:solidFill>
                <a:latin typeface="Calibri"/>
              </a:rPr>
              <a:t>EFFETTUATE DAL D.S.G.A. AI SENSI DELL’ART. 17, D.I. n.44/2001.  </a:t>
            </a:r>
            <a:endParaRPr b="0" lang="en-US" sz="4400" spc="-1" strike="noStrike">
              <a:solidFill>
                <a:srgbClr val="ffffff"/>
              </a:solidFill>
              <a:latin typeface="Arial Rounded MT Bold"/>
            </a:endParaRPr>
          </a:p>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Arial Rounded MT Bold"/>
            </a:endParaRPr>
          </a:p>
        </p:txBody>
      </p:sp>
      <p:sp>
        <p:nvSpPr>
          <p:cNvPr id="161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BB5D0B-8326-42E4-BC34-C7BCE32550F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0"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C447C-0127-482F-AACB-D9726CF30D4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2" name="Text Box 2"/>
          <p:cNvSpPr/>
          <p:nvPr/>
        </p:nvSpPr>
        <p:spPr>
          <a:xfrm>
            <a:off x="685800" y="0"/>
            <a:ext cx="7772400" cy="1052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3" name="Text Box 3"/>
          <p:cNvSpPr/>
          <p:nvPr/>
        </p:nvSpPr>
        <p:spPr>
          <a:xfrm>
            <a:off x="250920" y="1390680"/>
            <a:ext cx="8497800" cy="4794120"/>
          </a:xfrm>
          <a:prstGeom prst="rect">
            <a:avLst/>
          </a:prstGeom>
          <a:noFill/>
          <a:ln w="0">
            <a:noFill/>
          </a:ln>
        </p:spPr>
        <p:style>
          <a:lnRef idx="0"/>
          <a:fillRef idx="0"/>
          <a:effectRef idx="0"/>
          <a:fontRef idx="minor"/>
        </p:style>
        <p:txBody>
          <a:bodyPr lIns="90000" rIns="90000" tIns="46800" bIns="46800" anchor="ctr">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66ffff"/>
                </a:solidFill>
                <a:latin typeface="Calibri"/>
              </a:rPr>
              <a:t>PROCEDURE DA ADOTTARE DEFINITO IL VALORE DEL CONTRATTO</a:t>
            </a:r>
            <a:endParaRPr b="0" lang="en-US" sz="24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Valore di stima pari o superiore a </a:t>
            </a:r>
            <a:r>
              <a:rPr b="1" lang="it-IT" sz="2200" spc="-1" strike="noStrike">
                <a:solidFill>
                  <a:srgbClr val="ffff00"/>
                </a:solidFill>
                <a:latin typeface="Calibri"/>
              </a:rPr>
              <a:t>€.200.000 </a:t>
            </a:r>
            <a:r>
              <a:rPr b="1" lang="it-IT" sz="2200" spc="-1" strike="noStrike">
                <a:solidFill>
                  <a:srgbClr val="ffffff"/>
                </a:solidFill>
                <a:latin typeface="Calibri"/>
              </a:rPr>
              <a:t>(Iva esclusa) bisogna seguire i</a:t>
            </a:r>
            <a:r>
              <a:rPr b="1" lang="it-IT" sz="2200" spc="-1" strike="noStrike">
                <a:solidFill>
                  <a:srgbClr val="ffcc66"/>
                </a:solidFill>
                <a:latin typeface="Calibri"/>
              </a:rPr>
              <a:t> </a:t>
            </a:r>
            <a:r>
              <a:rPr b="1" lang="it-IT" sz="2200" spc="-1" strike="noStrike">
                <a:solidFill>
                  <a:srgbClr val="ffffff"/>
                </a:solidFill>
                <a:latin typeface="Calibri"/>
              </a:rPr>
              <a:t>sistemi di gara e le procedure previste e recepite nel </a:t>
            </a:r>
            <a:r>
              <a:rPr b="1" lang="it-IT" sz="2200" spc="-1" strike="noStrike">
                <a:solidFill>
                  <a:srgbClr val="ffff00"/>
                </a:solidFill>
                <a:latin typeface="Calibri"/>
              </a:rPr>
              <a:t>“Codice dei contratti pubblici”.</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rPr>
              <a:t>Valore di stima inferiore a </a:t>
            </a:r>
            <a:r>
              <a:rPr b="1" lang="it-IT" sz="2200" spc="-1" strike="noStrike">
                <a:solidFill>
                  <a:srgbClr val="ffff00"/>
                </a:solidFill>
                <a:latin typeface="Calibri"/>
              </a:rPr>
              <a:t>€.200.000 </a:t>
            </a:r>
            <a:r>
              <a:rPr b="1" lang="it-IT" sz="2200" spc="-1" strike="noStrike">
                <a:solidFill>
                  <a:srgbClr val="ffffff"/>
                </a:solidFill>
                <a:latin typeface="Calibri"/>
              </a:rPr>
              <a:t>(Iva esclusa) bisogna fare riferimento a quanto previsto dal </a:t>
            </a:r>
            <a:r>
              <a:rPr b="1" lang="it-IT" sz="2200" spc="-1" strike="noStrike">
                <a:solidFill>
                  <a:srgbClr val="ffff00"/>
                </a:solidFill>
                <a:latin typeface="Calibri"/>
              </a:rPr>
              <a:t>TITOLO II </a:t>
            </a:r>
            <a:r>
              <a:rPr b="1" lang="it-IT" sz="2200" spc="-1" strike="noStrike">
                <a:solidFill>
                  <a:srgbClr val="ffffff"/>
                </a:solidFill>
                <a:latin typeface="Calibri"/>
              </a:rPr>
              <a:t>( contratti sotto soglia comunitaria)</a:t>
            </a:r>
            <a:r>
              <a:rPr b="1" lang="it-IT" sz="2200" spc="-1" strike="noStrike">
                <a:solidFill>
                  <a:srgbClr val="ffcc66"/>
                </a:solidFill>
                <a:latin typeface="Calibri"/>
              </a:rPr>
              <a:t> </a:t>
            </a:r>
            <a:r>
              <a:rPr b="1" lang="it-IT" sz="2200" spc="-1" strike="noStrike">
                <a:solidFill>
                  <a:srgbClr val="ffff00"/>
                </a:solidFill>
                <a:latin typeface="Calibri"/>
              </a:rPr>
              <a:t>art. 125 </a:t>
            </a:r>
            <a:r>
              <a:rPr b="1" lang="it-IT" sz="2200" spc="-1" strike="noStrike">
                <a:solidFill>
                  <a:srgbClr val="ffffff"/>
                </a:solidFill>
                <a:latin typeface="Calibri"/>
              </a:rPr>
              <a:t>del codice stesso che prevede </a:t>
            </a:r>
            <a:r>
              <a:rPr b="1" lang="it-IT" sz="2200" spc="-1" strike="noStrike">
                <a:solidFill>
                  <a:srgbClr val="ffff00"/>
                </a:solidFill>
                <a:latin typeface="Calibri"/>
              </a:rPr>
              <a:t>due</a:t>
            </a:r>
            <a:r>
              <a:rPr b="1" lang="it-IT" sz="2200" spc="-1" strike="noStrike">
                <a:solidFill>
                  <a:srgbClr val="ffffff"/>
                </a:solidFill>
                <a:latin typeface="Calibri"/>
              </a:rPr>
              <a:t> diverse procedure, tenuto inoltre conto del disposto dell’</a:t>
            </a:r>
            <a:r>
              <a:rPr b="1" lang="it-IT" sz="2200" spc="-1" strike="noStrike">
                <a:solidFill>
                  <a:srgbClr val="ffff00"/>
                </a:solidFill>
                <a:latin typeface="Calibri"/>
              </a:rPr>
              <a:t>art. 124 </a:t>
            </a:r>
            <a:r>
              <a:rPr b="1" i="1" lang="it-IT" sz="2200" spc="-1" strike="noStrike">
                <a:solidFill>
                  <a:srgbClr val="ffffff"/>
                </a:solidFill>
                <a:latin typeface="Calibri"/>
              </a:rPr>
              <a:t>“… per i contratti sotto soglia non si applicano le norme di pubblicità e di comunicazione in ambito sopranazionale”:</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00"/>
                </a:solidFill>
                <a:latin typeface="Calibri"/>
              </a:rPr>
              <a:t>1) </a:t>
            </a:r>
            <a:r>
              <a:rPr b="1" lang="it-IT" sz="2200" spc="-1" strike="noStrike" u="sng">
                <a:solidFill>
                  <a:srgbClr val="66ffff"/>
                </a:solidFill>
                <a:uFillTx/>
                <a:latin typeface="Calibri"/>
              </a:rPr>
              <a:t>mediante amministrazione diretta</a:t>
            </a:r>
            <a:endParaRPr b="0" lang="en-US" sz="2200" spc="-1" strike="noStrike">
              <a:solidFill>
                <a:srgbClr val="ffffff"/>
              </a:solidFill>
              <a:latin typeface="Arial Rounded MT Bold"/>
            </a:endParaRPr>
          </a:p>
          <a:p>
            <a:pPr marL="343080" indent="-341640" algn="just">
              <a:lnSpc>
                <a:spcPct val="100000"/>
              </a:lnSpc>
              <a:spcBef>
                <a:spcPts val="55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00"/>
                </a:solidFill>
                <a:latin typeface="Calibri"/>
              </a:rPr>
              <a:t>2) </a:t>
            </a:r>
            <a:r>
              <a:rPr b="1" lang="it-IT" sz="2200" spc="-1" strike="noStrike" u="sng">
                <a:solidFill>
                  <a:srgbClr val="66ffff"/>
                </a:solidFill>
                <a:uFillTx/>
                <a:latin typeface="Calibri"/>
              </a:rPr>
              <a:t>mediante procedura di cottimo fiduciario </a:t>
            </a:r>
            <a:r>
              <a:rPr b="1" lang="it-IT" sz="2200" spc="-1" strike="noStrike">
                <a:solidFill>
                  <a:srgbClr val="ffffff"/>
                </a:solidFill>
                <a:latin typeface="Calibri"/>
              </a:rPr>
              <a:t>(procedura negoziata in cui le acquisizioni avvengono con affidamento a terzi).</a:t>
            </a:r>
            <a:endParaRPr b="0" lang="en-US" sz="2200" spc="-1" strike="noStrike">
              <a:solidFill>
                <a:srgbClr val="ffffff"/>
              </a:solidFill>
              <a:latin typeface="Arial Rounded MT Bol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Text Box 1"/>
          <p:cNvSpPr/>
          <p:nvPr/>
        </p:nvSpPr>
        <p:spPr>
          <a:xfrm>
            <a:off x="0" y="692280"/>
            <a:ext cx="8964720" cy="6242040"/>
          </a:xfrm>
          <a:prstGeom prst="rect">
            <a:avLst/>
          </a:prstGeom>
          <a:noFill/>
          <a:ln w="0">
            <a:noFill/>
          </a:ln>
        </p:spPr>
        <p:style>
          <a:lnRef idx="0"/>
          <a:fillRef idx="0"/>
          <a:effectRef idx="0"/>
          <a:fontRef idx="minor"/>
        </p:style>
        <p:txBody>
          <a:bodyPr lIns="90000" rIns="90000" tIns="46800" bIns="46800" anchor="t">
            <a:noAutofit/>
          </a:bodyPr>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00"/>
                </a:solidFill>
                <a:latin typeface="Calibri"/>
              </a:rPr>
              <a:t>L’art.16 bis,  comma 10, D.L. 29 novembre 2008 n.185, </a:t>
            </a:r>
            <a:r>
              <a:rPr b="1" lang="it-IT" sz="2800" spc="-1" strike="noStrike">
                <a:solidFill>
                  <a:srgbClr val="ffffff"/>
                </a:solidFill>
                <a:latin typeface="Calibri"/>
              </a:rPr>
              <a:t>convertito nella L. 28 gennaio 2009 n.2, ha stabilito che le stazioni appaltanti pubbliche </a:t>
            </a:r>
            <a:r>
              <a:rPr b="1" lang="it-IT" sz="2800" spc="-1" strike="noStrike">
                <a:solidFill>
                  <a:srgbClr val="ffff00"/>
                </a:solidFill>
                <a:latin typeface="Calibri"/>
              </a:rPr>
              <a:t>debbano acquisire d'ufficio,</a:t>
            </a:r>
            <a:r>
              <a:rPr b="1" lang="it-IT" sz="2800" spc="-1" strike="noStrike">
                <a:solidFill>
                  <a:srgbClr val="ffffff"/>
                </a:solidFill>
                <a:latin typeface="Calibri"/>
              </a:rPr>
              <a:t> anche attraverso strumenti informatici, il DURC dagli enti/istituti abilitati   al   rilascio   in tutti i casi richiesti dalla legge. </a:t>
            </a:r>
            <a:endParaRPr b="0" lang="en-US" sz="2800" spc="-1" strike="noStrike">
              <a:solidFill>
                <a:srgbClr val="ffffff"/>
              </a:solidFill>
              <a:latin typeface="Arial Rounded MT Bold"/>
            </a:endParaRPr>
          </a:p>
          <a:p>
            <a:pPr marL="341280" indent="-341280" algn="just">
              <a:lnSpc>
                <a:spcPct val="100000"/>
              </a:lnSpc>
              <a:spcBef>
                <a:spcPts val="700"/>
              </a:spcBef>
              <a:buClr>
                <a:srgbClr val="3366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ffff00"/>
                </a:solidFill>
                <a:latin typeface="Calibri"/>
              </a:rPr>
              <a:t>La nota INAIL prot. n. 2747 del 04.02.2009 </a:t>
            </a:r>
            <a:r>
              <a:rPr b="1" lang="it-IT" sz="2800" spc="-1" strike="noStrike">
                <a:solidFill>
                  <a:srgbClr val="ffffff"/>
                </a:solidFill>
                <a:latin typeface="Calibri"/>
              </a:rPr>
              <a:t>chiarisce che, in sede di svolgimento delle attività negoziali,  l’obbligo di richiesta ed acquisizione del DURC grava anche sulle </a:t>
            </a:r>
            <a:r>
              <a:rPr b="1" lang="it-IT" sz="2800" spc="-1" strike="noStrike">
                <a:solidFill>
                  <a:srgbClr val="ffff00"/>
                </a:solidFill>
                <a:latin typeface="Calibri"/>
              </a:rPr>
              <a:t>II.SS.AA.</a:t>
            </a:r>
            <a:r>
              <a:rPr b="1" lang="it-IT" sz="2800" spc="-1" strike="noStrike">
                <a:solidFill>
                  <a:srgbClr val="ffffff"/>
                </a:solidFill>
                <a:latin typeface="Calibri"/>
              </a:rPr>
              <a:t> </a:t>
            </a:r>
            <a:r>
              <a:rPr b="1" lang="it-IT" sz="2800" spc="-1" strike="noStrike">
                <a:solidFill>
                  <a:srgbClr val="66ffff"/>
                </a:solidFill>
                <a:latin typeface="Calibri"/>
              </a:rPr>
              <a:t>intese quali stazioni appaltanti “che bandiscono la gara”</a:t>
            </a:r>
            <a:r>
              <a:rPr b="1" lang="it-IT" sz="2800" spc="-1" strike="noStrike">
                <a:solidFill>
                  <a:srgbClr val="ffffff"/>
                </a:solidFill>
                <a:latin typeface="Calibri"/>
              </a:rPr>
              <a:t> che, dunque, </a:t>
            </a:r>
            <a:r>
              <a:rPr b="1" lang="it-IT" sz="2800" spc="-1" strike="noStrike">
                <a:solidFill>
                  <a:srgbClr val="ffff00"/>
                </a:solidFill>
                <a:latin typeface="Calibri"/>
              </a:rPr>
              <a:t>non possono “pretendere” dall’ offerente e/o dal  fornitore la presentazione del DURC </a:t>
            </a:r>
            <a:r>
              <a:rPr b="1" lang="it-IT" sz="2800" spc="-1" strike="noStrike">
                <a:solidFill>
                  <a:srgbClr val="ffffff"/>
                </a:solidFill>
                <a:latin typeface="Calibri"/>
              </a:rPr>
              <a:t>ai fini della relativa liquidazione. </a:t>
            </a:r>
            <a:endParaRPr b="0" lang="en-US" sz="2800" spc="-1" strike="noStrike">
              <a:solidFill>
                <a:srgbClr val="ffffff"/>
              </a:solidFill>
              <a:latin typeface="Arial Rounded MT Bold"/>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Rounded MT Bold"/>
            </a:endParaRPr>
          </a:p>
        </p:txBody>
      </p:sp>
      <p:sp>
        <p:nvSpPr>
          <p:cNvPr id="162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7ED51-E733-49B6-BB54-9EC54B958673}"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3"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Text Box 1"/>
          <p:cNvSpPr/>
          <p:nvPr/>
        </p:nvSpPr>
        <p:spPr>
          <a:xfrm>
            <a:off x="468360" y="1197000"/>
            <a:ext cx="8351640" cy="5599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Calibri"/>
              </a:rPr>
              <a:t>- L’articolo 6, comma 3, </a:t>
            </a:r>
            <a:r>
              <a:rPr b="1" lang="it-IT" sz="2800" spc="-1" strike="noStrike">
                <a:solidFill>
                  <a:srgbClr val="ffff00"/>
                </a:solidFill>
                <a:latin typeface="Calibri"/>
                <a:ea typeface="Calibri"/>
              </a:rPr>
              <a:t>Decreto del Presidente della Repubblica 5 ottobre 2010, n. 207</a:t>
            </a:r>
            <a:r>
              <a:rPr b="1" lang="it-IT" sz="2800" spc="-1" strike="noStrike">
                <a:solidFill>
                  <a:srgbClr val="ffffff"/>
                </a:solidFill>
                <a:latin typeface="Calibri"/>
                <a:ea typeface="Calibri"/>
              </a:rPr>
              <a:t>, “Regolamento di esecuzione ed attuazione del decreto legislativo 12 aprile 2006, n. 163</a:t>
            </a:r>
            <a:r>
              <a:rPr b="0" lang="it-IT" sz="2800" spc="-1" strike="noStrike">
                <a:solidFill>
                  <a:srgbClr val="ffffff"/>
                </a:solidFill>
                <a:latin typeface="Calibri"/>
                <a:ea typeface="Calibri"/>
              </a:rPr>
              <a:t> </a:t>
            </a:r>
            <a:r>
              <a:rPr b="1" lang="it-IT" sz="2800" spc="-1" strike="noStrike">
                <a:solidFill>
                  <a:srgbClr val="ffffff"/>
                </a:solidFill>
                <a:latin typeface="Calibri"/>
                <a:ea typeface="Calibri"/>
              </a:rPr>
              <a:t>ribadisce e specifica che le “amministrazioni aggiudicatrici” </a:t>
            </a:r>
            <a:r>
              <a:rPr b="1" lang="it-IT" sz="2800" spc="-1" strike="noStrike">
                <a:solidFill>
                  <a:srgbClr val="ffff00"/>
                </a:solidFill>
                <a:latin typeface="Calibri"/>
                <a:ea typeface="Calibri"/>
              </a:rPr>
              <a:t>devono richiedere d’ufficio il DURC per i  contratti pubblici. </a:t>
            </a:r>
            <a:endParaRPr b="0" lang="en-US" sz="2800" spc="-1" strike="noStrike">
              <a:solidFill>
                <a:srgbClr val="ffffff"/>
              </a:solidFill>
              <a:latin typeface="Arial Rounded MT Bold"/>
            </a:endParaRPr>
          </a:p>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Calibri"/>
              </a:rPr>
              <a:t>- Per questi soggetti, </a:t>
            </a:r>
            <a:r>
              <a:rPr b="1" lang="it-IT" sz="2800" spc="-1" strike="noStrike">
                <a:solidFill>
                  <a:srgbClr val="ffff00"/>
                </a:solidFill>
                <a:latin typeface="Calibri"/>
                <a:ea typeface="Calibri"/>
              </a:rPr>
              <a:t>tenuti </a:t>
            </a:r>
            <a:r>
              <a:rPr b="1" lang="it-IT" sz="2800" spc="-1" strike="noStrike">
                <a:solidFill>
                  <a:srgbClr val="ffffff"/>
                </a:solidFill>
                <a:latin typeface="Calibri"/>
                <a:ea typeface="Calibri"/>
              </a:rPr>
              <a:t>a richiedere il DURC d’ufficio in via telematica, INAIL, INPS e Casse edili rilasciano apposita abilitazione per l’accesso al servizio on-line.</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2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0EE8E9-FF47-48D7-BD5C-36B15F0D740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6" name="Text Box 3"/>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Text Box 1"/>
          <p:cNvSpPr/>
          <p:nvPr/>
        </p:nvSpPr>
        <p:spPr>
          <a:xfrm>
            <a:off x="250920" y="907920"/>
            <a:ext cx="835344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appalti pubblici di lavori, servizi e forniture disciplinati dal D.Lgs. n.163/2006;</a:t>
            </a:r>
            <a:endParaRPr b="0" lang="en-US" sz="32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iscrizione in elenchi ufficiali di fornitori o di prestatori di servizi delle pubbliche Amministrazioni;</a:t>
            </a:r>
            <a:endParaRPr b="0" lang="en-US" sz="3200" spc="-1" strike="noStrike">
              <a:solidFill>
                <a:srgbClr val="ffffff"/>
              </a:solidFill>
              <a:latin typeface="Arial Rounded MT Bold"/>
            </a:endParaRPr>
          </a:p>
          <a:p>
            <a:pPr marL="343080" indent="-341640" algn="just">
              <a:lnSpc>
                <a:spcPct val="100000"/>
              </a:lnSpc>
              <a:spcBef>
                <a:spcPts val="799"/>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verifica dell’idoneità tecnico-professionale dell’impresa affidataria in materia di salute e sicurezza nei luoghi di lavoro (D.L.81/2008 – Art. 90).</a:t>
            </a:r>
            <a:endParaRPr b="0" lang="en-US" sz="3200" spc="-1" strike="noStrike">
              <a:solidFill>
                <a:srgbClr val="ffffff"/>
              </a:solidFill>
              <a:latin typeface="Arial Rounded MT Bold"/>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
        <p:nvSpPr>
          <p:cNvPr id="162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797B55-42B6-4695-A536-BDCF90207DD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2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Text Box 1"/>
          <p:cNvSpPr/>
          <p:nvPr/>
        </p:nvSpPr>
        <p:spPr>
          <a:xfrm>
            <a:off x="179280" y="692280"/>
            <a:ext cx="8713800" cy="612756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a) la </a:t>
            </a:r>
            <a:r>
              <a:rPr b="1" lang="it-IT" sz="2800" spc="-1" strike="noStrike">
                <a:solidFill>
                  <a:srgbClr val="ffff00"/>
                </a:solidFill>
                <a:latin typeface="Calibri"/>
                <a:ea typeface="Calibri"/>
              </a:rPr>
              <a:t>verifica</a:t>
            </a:r>
            <a:r>
              <a:rPr b="1" lang="it-IT" sz="2800" spc="-1" strike="noStrike">
                <a:solidFill>
                  <a:srgbClr val="ffffff"/>
                </a:solidFill>
                <a:latin typeface="Calibri"/>
                <a:ea typeface="Calibri"/>
              </a:rPr>
              <a:t> della dichiarazione sostitutiva relativa al requisito di cui all'articolo 38, comma 1, lettera i), del Codice in ordine all’assenza di “violazioni gravi, definitivamente accertate, alle norme in materia di contributi previdenziali e assistenziali”</a:t>
            </a:r>
            <a:endParaRPr b="0" lang="en-US" sz="2800" spc="-1" strike="noStrike">
              <a:solidFill>
                <a:srgbClr val="ffffff"/>
              </a:solidFill>
              <a:latin typeface="Arial Rounded MT Bold"/>
            </a:endParaRPr>
          </a:p>
          <a:p>
            <a:pPr marL="343080" indent="-341640" algn="just">
              <a:lnSpc>
                <a:spcPct val="115000"/>
              </a:lnSpc>
              <a:spcBef>
                <a:spcPts val="451"/>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b) l‘</a:t>
            </a:r>
            <a:r>
              <a:rPr b="1" lang="it-IT" sz="2800" spc="-1" strike="noStrike">
                <a:solidFill>
                  <a:srgbClr val="ffff00"/>
                </a:solidFill>
                <a:latin typeface="Calibri"/>
                <a:ea typeface="Calibri"/>
              </a:rPr>
              <a:t>aggiudicazione definitiva </a:t>
            </a:r>
            <a:r>
              <a:rPr b="1" lang="it-IT" sz="2800" spc="-1" strike="noStrike">
                <a:solidFill>
                  <a:srgbClr val="ffffff"/>
                </a:solidFill>
                <a:latin typeface="Calibri"/>
                <a:ea typeface="Calibri"/>
              </a:rPr>
              <a:t>del contratto ai sensi dell'articolo 11, comma 8, del Codice,“aggiudicazione definitiva diventa efficace dopo la verifica del possesso dei prescritti requisiti</a:t>
            </a:r>
            <a:r>
              <a:rPr b="1" lang="it-IT" sz="1800" spc="-1" strike="noStrike">
                <a:solidFill>
                  <a:srgbClr val="ffffff"/>
                </a:solidFill>
                <a:latin typeface="Calibri"/>
                <a:ea typeface="Calibri"/>
              </a:rPr>
              <a:t>”</a:t>
            </a:r>
            <a:endParaRPr b="0" lang="en-US" sz="1800" spc="-1" strike="noStrike">
              <a:solidFill>
                <a:srgbClr val="ffffff"/>
              </a:solidFill>
              <a:latin typeface="Arial Rounded MT Bold"/>
            </a:endParaRPr>
          </a:p>
          <a:p>
            <a:pPr marL="343080" indent="-341640">
              <a:lnSpc>
                <a:spcPct val="10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Rounded MT Bold"/>
            </a:endParaRPr>
          </a:p>
        </p:txBody>
      </p:sp>
      <p:sp>
        <p:nvSpPr>
          <p:cNvPr id="163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29CCF1-654F-4C96-9462-B74C9BD53F9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2"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Text Box 1"/>
          <p:cNvSpPr/>
          <p:nvPr/>
        </p:nvSpPr>
        <p:spPr>
          <a:xfrm>
            <a:off x="179280" y="1197000"/>
            <a:ext cx="8713800" cy="545148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c) la stipula del contratto</a:t>
            </a:r>
            <a:endParaRPr b="0" lang="en-US" sz="28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d) il pagamento degli stati avanzamento lavori (SAL) o delle prestazioni relative a servizi e forniture (fatture)</a:t>
            </a:r>
            <a:endParaRPr b="0" lang="en-US" sz="2800" spc="-1" strike="noStrike">
              <a:solidFill>
                <a:srgbClr val="ffffff"/>
              </a:solidFill>
              <a:latin typeface="Arial Rounded MT Bold"/>
            </a:endParaRPr>
          </a:p>
          <a:p>
            <a:pPr marL="343080" indent="-341640" algn="just">
              <a:lnSpc>
                <a:spcPct val="115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e) il certificato di collaudo, il certificato di regolare esecuzione, il certificato di verifica di conformità, l'attestazione di regolare esecuzione, il pagamento del saldo finale.</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3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1A82E-9CF8-42C7-8E5D-3C4FFADB2E0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5" name="Text Box 3"/>
          <p:cNvSpPr/>
          <p:nvPr/>
        </p:nvSpPr>
        <p:spPr>
          <a:xfrm>
            <a:off x="685800" y="0"/>
            <a:ext cx="7772400" cy="1197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Text Box 1"/>
          <p:cNvSpPr/>
          <p:nvPr/>
        </p:nvSpPr>
        <p:spPr>
          <a:xfrm>
            <a:off x="108000" y="765000"/>
            <a:ext cx="8928000" cy="66535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400" spc="-1" strike="noStrike">
                <a:solidFill>
                  <a:srgbClr val="ffff00"/>
                </a:solidFill>
                <a:latin typeface="Calibri"/>
                <a:ea typeface="Calibri"/>
              </a:rPr>
              <a:t>Art. 6, comma 3,  Regolamento - obbligo di acquisizione DURC :</a:t>
            </a:r>
            <a:endParaRPr b="0" lang="en-US" sz="24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a:t>
            </a:r>
            <a:r>
              <a:rPr b="1" lang="it-IT" sz="2800" spc="-1" strike="noStrike">
                <a:solidFill>
                  <a:srgbClr val="ffff00"/>
                </a:solidFill>
                <a:latin typeface="Calibri"/>
                <a:ea typeface="Calibri"/>
              </a:rPr>
              <a:t>  deve </a:t>
            </a:r>
            <a:r>
              <a:rPr b="1" lang="it-IT" sz="2800" spc="-1" strike="noStrike">
                <a:solidFill>
                  <a:srgbClr val="ffffff"/>
                </a:solidFill>
                <a:latin typeface="Calibri"/>
                <a:ea typeface="Calibri"/>
              </a:rPr>
              <a:t>essere acquisito </a:t>
            </a:r>
            <a:r>
              <a:rPr b="1" lang="it-IT" sz="2800" spc="-1" strike="noStrike">
                <a:solidFill>
                  <a:srgbClr val="ffff00"/>
                </a:solidFill>
                <a:latin typeface="Calibri"/>
                <a:ea typeface="Calibri"/>
              </a:rPr>
              <a:t>un DURC </a:t>
            </a:r>
            <a:r>
              <a:rPr b="1" lang="it-IT" sz="2800" spc="-1" strike="noStrike">
                <a:solidFill>
                  <a:srgbClr val="ffffff"/>
                </a:solidFill>
                <a:latin typeface="Calibri"/>
                <a:ea typeface="Calibri"/>
              </a:rPr>
              <a:t>per ogni </a:t>
            </a:r>
            <a:r>
              <a:rPr b="1" lang="it-IT" sz="2800" spc="-1" strike="noStrike">
                <a:solidFill>
                  <a:srgbClr val="ffff00"/>
                </a:solidFill>
                <a:latin typeface="Calibri"/>
                <a:ea typeface="Calibri"/>
              </a:rPr>
              <a:t>singolo contratto pubblico </a:t>
            </a:r>
            <a:r>
              <a:rPr b="1" lang="it-IT" sz="2800" spc="-1" strike="noStrike">
                <a:solidFill>
                  <a:srgbClr val="ffffff"/>
                </a:solidFill>
                <a:latin typeface="Calibri"/>
                <a:ea typeface="Calibri"/>
              </a:rPr>
              <a:t>e, all’interno di questo, un DURC per </a:t>
            </a:r>
            <a:r>
              <a:rPr b="1" lang="it-IT" sz="2800" spc="-1" strike="noStrike">
                <a:solidFill>
                  <a:srgbClr val="ffff00"/>
                </a:solidFill>
                <a:latin typeface="Calibri"/>
                <a:ea typeface="Calibri"/>
              </a:rPr>
              <a:t>ciascuna</a:t>
            </a:r>
            <a:r>
              <a:rPr b="1" lang="it-IT" sz="2800" spc="-1" strike="noStrike">
                <a:solidFill>
                  <a:srgbClr val="ffffff"/>
                </a:solidFill>
                <a:latin typeface="Calibri"/>
                <a:ea typeface="Calibri"/>
              </a:rPr>
              <a:t> delle fasi sopra riportate - C.M. n. 35/2010.</a:t>
            </a:r>
            <a:endParaRPr b="0" lang="en-US" sz="2800" spc="-1" strike="noStrike">
              <a:solidFill>
                <a:srgbClr val="ffffff"/>
              </a:solidFill>
              <a:latin typeface="Arial Rounded MT Bold"/>
            </a:endParaRPr>
          </a:p>
          <a:p>
            <a:pPr marL="343080" indent="-341640" algn="just">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il DURC </a:t>
            </a:r>
            <a:r>
              <a:rPr b="1" lang="it-IT" sz="2800" spc="-1" strike="noStrike">
                <a:solidFill>
                  <a:srgbClr val="ffff00"/>
                </a:solidFill>
                <a:latin typeface="Calibri"/>
                <a:ea typeface="Calibri"/>
              </a:rPr>
              <a:t>deve</a:t>
            </a:r>
            <a:r>
              <a:rPr b="1" lang="it-IT" sz="2800" spc="-1" strike="noStrike">
                <a:solidFill>
                  <a:srgbClr val="ffffff"/>
                </a:solidFill>
                <a:latin typeface="Calibri"/>
                <a:ea typeface="Calibri"/>
              </a:rPr>
              <a:t> sempre essere richiesto dalla </a:t>
            </a:r>
            <a:r>
              <a:rPr b="1" lang="it-IT" sz="2800" spc="-1" strike="noStrike">
                <a:solidFill>
                  <a:srgbClr val="ffff00"/>
                </a:solidFill>
                <a:latin typeface="Calibri"/>
                <a:ea typeface="Calibri"/>
              </a:rPr>
              <a:t>stazione appaltante pubblica</a:t>
            </a:r>
            <a:r>
              <a:rPr b="1" lang="it-IT" sz="2800" spc="-1" strike="noStrike">
                <a:solidFill>
                  <a:srgbClr val="ffffff"/>
                </a:solidFill>
                <a:latin typeface="Calibri"/>
                <a:ea typeface="Calibri"/>
              </a:rPr>
              <a:t>, nelle ipotesi  a) e b), selezionando l’apposita tipologia “verifica di autodichiarazione” e indicando, quale data alla quale effettuare la verifica di regolarità, quella della dichiarazione sostitutiva prodotta dal concorrente in fase di selezion</a:t>
            </a:r>
            <a:r>
              <a:rPr b="1" lang="it-IT" sz="2400" spc="-1" strike="noStrike">
                <a:solidFill>
                  <a:srgbClr val="ffffff"/>
                </a:solidFill>
                <a:latin typeface="Calibri"/>
                <a:ea typeface="Calibri"/>
              </a:rPr>
              <a:t>e.</a:t>
            </a:r>
            <a:endParaRPr b="0" lang="en-US" sz="2400" spc="-1" strike="noStrike">
              <a:solidFill>
                <a:srgbClr val="ffffff"/>
              </a:solidFill>
              <a:latin typeface="Arial Rounded MT Bold"/>
            </a:endParaRPr>
          </a:p>
          <a:p>
            <a:pPr marL="343080" indent="-341640" algn="just">
              <a:lnSpc>
                <a:spcPct val="115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Rounded MT Bold"/>
            </a:endParaRPr>
          </a:p>
        </p:txBody>
      </p:sp>
      <p:sp>
        <p:nvSpPr>
          <p:cNvPr id="163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8F5CA2-74EF-4FB7-A0D9-F2EAFD96994B}"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38" name="Text Box 3"/>
          <p:cNvSpPr/>
          <p:nvPr/>
        </p:nvSpPr>
        <p:spPr>
          <a:xfrm>
            <a:off x="685800" y="0"/>
            <a:ext cx="7772400" cy="836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Text Box 1"/>
          <p:cNvSpPr/>
          <p:nvPr/>
        </p:nvSpPr>
        <p:spPr>
          <a:xfrm>
            <a:off x="216000" y="941400"/>
            <a:ext cx="8748720" cy="58532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per :</a:t>
            </a:r>
            <a:endParaRPr b="0" lang="en-US" sz="20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Il DURC ulteriore</a:t>
            </a:r>
            <a:r>
              <a:rPr b="1" lang="it-IT" sz="2800" spc="-1" strike="noStrike">
                <a:solidFill>
                  <a:srgbClr val="ffff00"/>
                </a:solidFill>
                <a:latin typeface="Calibri"/>
                <a:ea typeface="Calibri"/>
              </a:rPr>
              <a:t> deve </a:t>
            </a:r>
            <a:r>
              <a:rPr b="1" lang="it-IT" sz="2800" spc="-1" strike="noStrike">
                <a:solidFill>
                  <a:srgbClr val="ffffff"/>
                </a:solidFill>
                <a:latin typeface="Calibri"/>
                <a:ea typeface="Calibri"/>
              </a:rPr>
              <a:t>essere richiesto  </a:t>
            </a:r>
            <a:r>
              <a:rPr b="1" lang="it-IT" sz="2800" spc="-1" strike="noStrike">
                <a:solidFill>
                  <a:srgbClr val="ffff00"/>
                </a:solidFill>
                <a:latin typeface="Calibri"/>
                <a:ea typeface="Calibri"/>
              </a:rPr>
              <a:t>solo</a:t>
            </a:r>
            <a:r>
              <a:rPr b="1" lang="it-IT" sz="2800" spc="-1" strike="noStrike">
                <a:solidFill>
                  <a:srgbClr val="ffffff"/>
                </a:solidFill>
                <a:latin typeface="Calibri"/>
                <a:ea typeface="Calibri"/>
              </a:rPr>
              <a:t> nell’ipotesi  in cui siano trascorsi </a:t>
            </a:r>
            <a:r>
              <a:rPr b="1" lang="it-IT" sz="2800" spc="-1" strike="noStrike">
                <a:solidFill>
                  <a:srgbClr val="ffff00"/>
                </a:solidFill>
                <a:latin typeface="Calibri"/>
                <a:ea typeface="Calibri"/>
              </a:rPr>
              <a:t>più di tre </a:t>
            </a:r>
            <a:r>
              <a:rPr b="1" lang="it-IT" sz="2800" spc="-1" strike="noStrike">
                <a:solidFill>
                  <a:srgbClr val="ffffff"/>
                </a:solidFill>
                <a:latin typeface="Calibri"/>
                <a:ea typeface="Calibri"/>
              </a:rPr>
              <a:t>mesi dal DURC emesso precedentemente per “verifica dell’autodichiarazione” poiché il DURC precedentemente emesso ha cessato il suo periodo di validità.</a:t>
            </a:r>
            <a:endParaRPr b="0" lang="en-US" sz="2800" spc="-1" strike="noStrike">
              <a:solidFill>
                <a:srgbClr val="ffffff"/>
              </a:solidFill>
              <a:latin typeface="Arial Rounded MT Bold"/>
            </a:endParaRPr>
          </a:p>
          <a:p>
            <a:pPr marL="343080" indent="-341640" algn="just">
              <a:lnSpc>
                <a:spcPct val="115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ea typeface="Calibri"/>
              </a:rPr>
              <a:t>- La regolarità </a:t>
            </a:r>
            <a:r>
              <a:rPr b="1" lang="it-IT" sz="2800" spc="-1" strike="noStrike">
                <a:solidFill>
                  <a:srgbClr val="ffff00"/>
                </a:solidFill>
                <a:latin typeface="Calibri"/>
                <a:ea typeface="Calibri"/>
              </a:rPr>
              <a:t>deve </a:t>
            </a:r>
            <a:r>
              <a:rPr b="1" lang="it-IT" sz="2800" spc="-1" strike="noStrike">
                <a:solidFill>
                  <a:srgbClr val="ffffff"/>
                </a:solidFill>
                <a:latin typeface="Calibri"/>
                <a:ea typeface="Calibri"/>
              </a:rPr>
              <a:t>essere accertata nel DURC  alla </a:t>
            </a:r>
            <a:r>
              <a:rPr b="1" lang="it-IT" sz="2800" spc="-1" strike="noStrike">
                <a:solidFill>
                  <a:srgbClr val="ffff00"/>
                </a:solidFill>
                <a:latin typeface="Calibri"/>
                <a:ea typeface="Calibri"/>
              </a:rPr>
              <a:t>data di conclusione</a:t>
            </a:r>
            <a:r>
              <a:rPr b="1" lang="it-IT" sz="2800" spc="-1" strike="noStrike">
                <a:solidFill>
                  <a:srgbClr val="ffffff"/>
                </a:solidFill>
                <a:latin typeface="Calibri"/>
                <a:ea typeface="Calibri"/>
              </a:rPr>
              <a:t> dell’istruttoria divenendo irrilevante la data eventualmente indicata nella richiesta.</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4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7D74D8-1F47-4D45-8714-D500C32E6CF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txBox="1"/>
          <p:nvPr/>
        </p:nvSpPr>
        <p:spPr>
          <a:xfrm>
            <a:off x="108000" y="549000"/>
            <a:ext cx="8928000" cy="6048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Calibri"/>
              </a:rPr>
              <a:t>  </a:t>
            </a:r>
            <a:r>
              <a:rPr b="1" lang="it-IT" sz="3200" spc="-1" strike="noStrike">
                <a:solidFill>
                  <a:srgbClr val="ffffff"/>
                </a:solidFill>
                <a:latin typeface="Calibri"/>
              </a:rPr>
              <a:t>Legge 12 luglio 2011, n. 106</a:t>
            </a:r>
            <a:endParaRPr b="0" lang="en-US" sz="32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Conversione in legge, con modificazioni, del decreto legge 13 maggio 2011, n. 70 Semestre Europeo </a:t>
            </a:r>
            <a:endParaRPr b="0" lang="en-US" sz="16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rPr>
              <a:t>-Prime disposizioni urgenti per l'economia - (G.U. n. 160 del 12 luglio 2011)</a:t>
            </a:r>
            <a:endParaRPr b="0" lang="en-US" sz="1600" spc="-1" strike="noStrike">
              <a:solidFill>
                <a:srgbClr val="ffffff"/>
              </a:solidFill>
              <a:latin typeface="Times New Roman"/>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art.4, c. 14-bis. </a:t>
            </a:r>
            <a:endParaRPr b="0" lang="en-US" sz="2400" spc="-1" strike="noStrike">
              <a:solidFill>
                <a:srgbClr val="ffffff"/>
              </a:solidFill>
              <a:latin typeface="Times New Roman"/>
            </a:endParaRPr>
          </a:p>
          <a:p>
            <a:pPr marL="343080" indent="-343080" algn="just">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Per i contratti di forniture e servizi fino a </a:t>
            </a:r>
            <a:r>
              <a:rPr b="1" lang="it-IT" sz="2400" spc="-1" strike="noStrike">
                <a:solidFill>
                  <a:srgbClr val="ffff00"/>
                </a:solidFill>
                <a:latin typeface="Calibri"/>
                <a:ea typeface="Calibri"/>
              </a:rPr>
              <a:t>ventimila euro </a:t>
            </a:r>
            <a:r>
              <a:rPr b="1" lang="it-IT" sz="2400" spc="-1" strike="noStrike">
                <a:solidFill>
                  <a:srgbClr val="ffffff"/>
                </a:solidFill>
                <a:latin typeface="Calibri"/>
                <a:ea typeface="Calibri"/>
              </a:rPr>
              <a:t>stipulati con la pubblica amministrazione e le società in house, i soggetti contraenti possono produrre una </a:t>
            </a:r>
            <a:r>
              <a:rPr b="1" lang="it-IT" sz="2400" spc="-1" strike="noStrike">
                <a:solidFill>
                  <a:srgbClr val="ffff00"/>
                </a:solidFill>
                <a:latin typeface="Calibri"/>
                <a:ea typeface="Calibri"/>
              </a:rPr>
              <a:t>dichiarazione sostitutiva</a:t>
            </a:r>
            <a:r>
              <a:rPr b="1" lang="it-IT" sz="2400" spc="-1" strike="noStrike">
                <a:solidFill>
                  <a:srgbClr val="ffffff"/>
                </a:solidFill>
                <a:latin typeface="Calibri"/>
                <a:ea typeface="Calibri"/>
              </a:rPr>
              <a:t> ai sensi dell'articolo 46, comma 1, lettera p), del testo unico di cui al D.P.R. 28 dicembre 2000, n. 445, </a:t>
            </a:r>
            <a:r>
              <a:rPr b="1" lang="it-IT" sz="2400" spc="-1" strike="noStrike">
                <a:solidFill>
                  <a:srgbClr val="ffff00"/>
                </a:solidFill>
                <a:latin typeface="Calibri"/>
                <a:ea typeface="Calibri"/>
              </a:rPr>
              <a:t>in luogo del documento di regolarità contributiva</a:t>
            </a:r>
            <a:r>
              <a:rPr b="1" lang="it-IT" sz="2400" spc="-1" strike="noStrike">
                <a:solidFill>
                  <a:srgbClr val="ffffff"/>
                </a:solidFill>
                <a:latin typeface="Calibri"/>
                <a:ea typeface="Calibri"/>
              </a:rPr>
              <a:t>. Le amministrazioni procedenti sono </a:t>
            </a:r>
            <a:r>
              <a:rPr b="1" lang="it-IT" sz="2400" spc="-1" strike="noStrike">
                <a:solidFill>
                  <a:srgbClr val="ffff00"/>
                </a:solidFill>
                <a:latin typeface="Calibri"/>
                <a:ea typeface="Calibri"/>
              </a:rPr>
              <a:t>tenute</a:t>
            </a:r>
            <a:r>
              <a:rPr b="1" lang="it-IT" sz="2400" spc="-1" strike="noStrike">
                <a:solidFill>
                  <a:srgbClr val="ffffff"/>
                </a:solidFill>
                <a:latin typeface="Calibri"/>
                <a:ea typeface="Calibri"/>
              </a:rPr>
              <a:t> ad effettuare </a:t>
            </a:r>
            <a:r>
              <a:rPr b="1" lang="it-IT" sz="2400" spc="-1" strike="noStrike">
                <a:solidFill>
                  <a:srgbClr val="ffff00"/>
                </a:solidFill>
                <a:latin typeface="Calibri"/>
                <a:ea typeface="Calibri"/>
              </a:rPr>
              <a:t>controlli periodici </a:t>
            </a:r>
            <a:r>
              <a:rPr b="1" lang="it-IT" sz="2400" spc="-1" strike="noStrike">
                <a:solidFill>
                  <a:srgbClr val="ffffff"/>
                </a:solidFill>
                <a:latin typeface="Calibri"/>
                <a:ea typeface="Calibri"/>
              </a:rPr>
              <a:t>sulla veridicità delle dichiarazioni sostitutive, ai sensi dell'articolo 71 del medesimo testo unico di cui al D.P.R. n. 445 del 2000.</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4650CD-00D1-478D-BA0C-3CA2709017D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4" name="PlaceHolder 1"/>
          <p:cNvSpPr>
            <a:spLocks noGrp="1"/>
          </p:cNvSpPr>
          <p:nvPr>
            <p:ph type="title"/>
          </p:nvPr>
        </p:nvSpPr>
        <p:spPr>
          <a:xfrm>
            <a:off x="685800" y="0"/>
            <a:ext cx="7772400" cy="5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
          <p:cNvSpPr txBox="1"/>
          <p:nvPr/>
        </p:nvSpPr>
        <p:spPr>
          <a:xfrm>
            <a:off x="468000" y="981000"/>
            <a:ext cx="835164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Le scuole, </a:t>
            </a:r>
            <a:r>
              <a:rPr b="1" lang="it-IT" sz="2400" spc="-1" strike="noStrike">
                <a:solidFill>
                  <a:srgbClr val="ffffff"/>
                </a:solidFill>
                <a:latin typeface="Calibri"/>
                <a:ea typeface="Calibri"/>
              </a:rPr>
              <a:t>dunque, quali Stazioni Appaltanti pubbliche </a:t>
            </a:r>
            <a:r>
              <a:rPr b="1" lang="it-IT" sz="2400" spc="-1" strike="noStrike">
                <a:solidFill>
                  <a:srgbClr val="ffff00"/>
                </a:solidFill>
                <a:latin typeface="Calibri"/>
                <a:ea typeface="Calibri"/>
              </a:rPr>
              <a:t>possono</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accettare, dalle ditte individuate quali destinatarie di contratti</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i forniture e servizi fino a </a:t>
            </a:r>
            <a:r>
              <a:rPr b="1" lang="it-IT" sz="2400" spc="-1" strike="noStrike">
                <a:solidFill>
                  <a:srgbClr val="ffff00"/>
                </a:solidFill>
                <a:latin typeface="Calibri"/>
                <a:ea typeface="Calibri"/>
              </a:rPr>
              <a:t>€. 20.000, dichiarazione </a:t>
            </a:r>
            <a:r>
              <a:rPr b="1" lang="it-IT" sz="2400" spc="-1" strike="noStrike">
                <a:solidFill>
                  <a:srgbClr val="ffffff"/>
                </a:solidFill>
                <a:latin typeface="Calibri"/>
                <a:ea typeface="Calibri"/>
              </a:rPr>
              <a:t>sostitutiva</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i atto di notorietà sottoscritta, ai sensi art. 46, c. 1, lett. p,</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D.P.R. n. 445 del 28 dicembre 2000, dal legale rappresentant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che ne assume così tutte le responsabilità rilevanti ai fini civili</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e penali in caso di falsità o mendacia, attestante la </a:t>
            </a:r>
            <a:r>
              <a:rPr b="1" lang="it-IT" sz="2400" spc="-1" strike="noStrike">
                <a:solidFill>
                  <a:srgbClr val="ffff00"/>
                </a:solidFill>
                <a:latin typeface="Calibri"/>
                <a:ea typeface="Calibri"/>
              </a:rPr>
              <a:t>regolarità</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contributiva</a:t>
            </a:r>
            <a:r>
              <a:rPr b="1" lang="it-IT" sz="2400" spc="-1" strike="noStrike">
                <a:solidFill>
                  <a:srgbClr val="ffffff"/>
                </a:solidFill>
                <a:latin typeface="Calibri"/>
                <a:ea typeface="Calibri"/>
              </a:rPr>
              <a:t>, senza dover necessariamente attendere </a:t>
            </a:r>
            <a:r>
              <a:rPr b="1" lang="it-IT" sz="2400" spc="-1" strike="noStrike">
                <a:solidFill>
                  <a:srgbClr val="ffff00"/>
                </a:solidFill>
                <a:latin typeface="Calibri"/>
                <a:ea typeface="Calibri"/>
              </a:rPr>
              <a:t>il DURC</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per procedere al pagamento.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Le Scuole hanno comunque l’</a:t>
            </a:r>
            <a:r>
              <a:rPr b="1" lang="it-IT" sz="2400" spc="-1" strike="noStrike">
                <a:solidFill>
                  <a:srgbClr val="ffff00"/>
                </a:solidFill>
                <a:latin typeface="Calibri"/>
                <a:ea typeface="Calibri"/>
              </a:rPr>
              <a:t>obbligo</a:t>
            </a:r>
            <a:r>
              <a:rPr b="1" lang="it-IT" sz="2400" spc="-1" strike="noStrike">
                <a:solidFill>
                  <a:srgbClr val="ffffff"/>
                </a:solidFill>
                <a:latin typeface="Calibri"/>
                <a:ea typeface="Calibri"/>
              </a:rPr>
              <a:t> di procedere a effettuar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alibri"/>
                <a:ea typeface="Calibri"/>
              </a:rPr>
              <a:t>controlli periodici </a:t>
            </a:r>
            <a:r>
              <a:rPr b="1" lang="it-IT" sz="2400" spc="-1" strike="noStrike">
                <a:solidFill>
                  <a:srgbClr val="ffffff"/>
                </a:solidFill>
                <a:latin typeface="Calibri"/>
                <a:ea typeface="Calibri"/>
              </a:rPr>
              <a:t>sulla veridicità delle dichiarazioni sostitutive,</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alibri"/>
                <a:ea typeface="Calibri"/>
              </a:rPr>
              <a:t>ai sensi art. 71 D.P.R. n. 445 del 2000.</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8125776-092A-4A1C-9D2A-CF53CDD6B54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47" name="PlaceHolder 1"/>
          <p:cNvSpPr>
            <a:spLocks noGrp="1"/>
          </p:cNvSpPr>
          <p:nvPr>
            <p:ph type="title"/>
          </p:nvPr>
        </p:nvSpPr>
        <p:spPr>
          <a:xfrm>
            <a:off x="685800" y="-360"/>
            <a:ext cx="77724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DURC…Istruzioni per l’uso…</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Text Box 1"/>
          <p:cNvSpPr/>
          <p:nvPr/>
        </p:nvSpPr>
        <p:spPr>
          <a:xfrm>
            <a:off x="108000" y="692280"/>
            <a:ext cx="8928000" cy="60404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  </a:t>
            </a:r>
            <a:r>
              <a:rPr b="1" lang="it-IT" sz="3600" spc="-1" strike="noStrike">
                <a:solidFill>
                  <a:srgbClr val="ffff00"/>
                </a:solidFill>
                <a:latin typeface="Calibri"/>
              </a:rPr>
              <a:t>il DURC è obbligatorio per le II.SS.AA. per:</a:t>
            </a:r>
            <a:endParaRPr b="0" lang="en-US" sz="3600" spc="-1" strike="noStrike">
              <a:solidFill>
                <a:srgbClr val="ffffff"/>
              </a:solidFill>
              <a:latin typeface="Arial Rounded MT Bold"/>
            </a:endParaRPr>
          </a:p>
          <a:p>
            <a:pPr marL="343080" indent="-341640" algn="ctr">
              <a:lnSpc>
                <a:spcPct val="11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00"/>
                </a:solidFill>
                <a:latin typeface="Calibri"/>
                <a:ea typeface="Calibri"/>
              </a:rPr>
              <a:t>Articolo 6, comma 3,  Regolamento - obbligo di acquisizione DURC :</a:t>
            </a:r>
            <a:endParaRPr b="0" lang="en-US" sz="2000" spc="-1" strike="noStrike">
              <a:solidFill>
                <a:srgbClr val="ffffff"/>
              </a:solidFill>
              <a:latin typeface="Arial Rounded MT Bold"/>
            </a:endParaRPr>
          </a:p>
          <a:p>
            <a:pPr marL="343080" indent="-341640" algn="just">
              <a:lnSpc>
                <a:spcPct val="115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inadempienze contributive accertate in fase istruttoria, </a:t>
            </a:r>
            <a:r>
              <a:rPr b="1" lang="it-IT" sz="2200" spc="-1" strike="noStrike">
                <a:solidFill>
                  <a:srgbClr val="ffff00"/>
                </a:solidFill>
                <a:latin typeface="Calibri"/>
                <a:ea typeface="Calibri"/>
              </a:rPr>
              <a:t>si deve </a:t>
            </a:r>
            <a:r>
              <a:rPr b="1" lang="it-IT" sz="2200" spc="-1" strike="noStrike">
                <a:solidFill>
                  <a:srgbClr val="ffffff"/>
                </a:solidFill>
                <a:latin typeface="Calibri"/>
                <a:ea typeface="Calibri"/>
              </a:rPr>
              <a:t>invitare il soggetto a </a:t>
            </a:r>
            <a:r>
              <a:rPr b="1" lang="it-IT" sz="2200" spc="-1" strike="noStrike">
                <a:solidFill>
                  <a:srgbClr val="ffff00"/>
                </a:solidFill>
                <a:latin typeface="Calibri"/>
                <a:ea typeface="Calibri"/>
              </a:rPr>
              <a:t>regolarizzare</a:t>
            </a:r>
            <a:r>
              <a:rPr b="1" lang="it-IT" sz="2200" spc="-1" strike="noStrike">
                <a:solidFill>
                  <a:srgbClr val="ffffff"/>
                </a:solidFill>
                <a:latin typeface="Calibri"/>
                <a:ea typeface="Calibri"/>
              </a:rPr>
              <a:t> la propria posizione contributiva  qualunque sia l’entità dell’irregolarità, per non escludere un concorrente per irregolarità “lievi”.</a:t>
            </a:r>
            <a:endParaRPr b="0" lang="en-US" sz="2200" spc="-1" strike="noStrike">
              <a:solidFill>
                <a:srgbClr val="ffffff"/>
              </a:solidFill>
              <a:latin typeface="Arial Rounded MT Bold"/>
            </a:endParaRPr>
          </a:p>
          <a:p>
            <a:pPr marL="343080" indent="-341640" algn="just">
              <a:lnSpc>
                <a:spcPct val="115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DURC richiesto precedentemente alla presentazione delle offerte, non essendo presente una dichiarazione sostitutiva, il </a:t>
            </a:r>
            <a:r>
              <a:rPr b="1" lang="it-IT" sz="2200" spc="-1" strike="noStrike">
                <a:solidFill>
                  <a:srgbClr val="ffff00"/>
                </a:solidFill>
                <a:latin typeface="Calibri"/>
                <a:ea typeface="Calibri"/>
              </a:rPr>
              <a:t>soggetto può</a:t>
            </a:r>
            <a:r>
              <a:rPr b="1" lang="it-IT" sz="2200" spc="-1" strike="noStrike">
                <a:solidFill>
                  <a:srgbClr val="ffffff"/>
                </a:solidFill>
                <a:latin typeface="Calibri"/>
                <a:ea typeface="Calibri"/>
              </a:rPr>
              <a:t> sempre regolarizzare la propria posizione prima dell’emissione del certificato.</a:t>
            </a:r>
            <a:endParaRPr b="0" lang="en-US" sz="2200" spc="-1" strike="noStrike">
              <a:solidFill>
                <a:srgbClr val="ffffff"/>
              </a:solidFill>
              <a:latin typeface="Arial Rounded MT Bold"/>
            </a:endParaRPr>
          </a:p>
          <a:p>
            <a:pPr marL="343080" indent="-341640" algn="just">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200" spc="-1" strike="noStrike">
                <a:solidFill>
                  <a:srgbClr val="ffffff"/>
                </a:solidFill>
                <a:latin typeface="Calibri"/>
                <a:ea typeface="Calibri"/>
              </a:rPr>
              <a:t>- Per quanto riguarda l’INAIL,  il controllo della corrispondenza tra i rischi assicurati e l’attività oggetto dell’appalto presuppone che le lavorazioni, oggetto della classificazione del rischio, siano esercitate e, quindi, che il </a:t>
            </a:r>
            <a:r>
              <a:rPr b="1" lang="it-IT" sz="2200" spc="-1" strike="noStrike">
                <a:solidFill>
                  <a:srgbClr val="ffff00"/>
                </a:solidFill>
                <a:latin typeface="Calibri"/>
                <a:ea typeface="Calibri"/>
              </a:rPr>
              <a:t>contratto sia in fase di esecuzione</a:t>
            </a:r>
            <a:r>
              <a:rPr b="1" lang="it-IT" sz="2200" spc="-1" strike="noStrike">
                <a:solidFill>
                  <a:srgbClr val="ffffff"/>
                </a:solidFill>
                <a:latin typeface="Calibri"/>
                <a:ea typeface="Calibri"/>
              </a:rPr>
              <a:t>. Tale verifica dunque  va effettuata solo per i DURC richiesti per SAL o fatture relative a forniture e servizi.</a:t>
            </a:r>
            <a:endParaRPr b="0" lang="en-US" sz="2200" spc="-1" strike="noStrike">
              <a:solidFill>
                <a:srgbClr val="ffffff"/>
              </a:solidFill>
              <a:latin typeface="Arial Rounded MT Bold"/>
            </a:endParaRPr>
          </a:p>
          <a:p>
            <a:pPr marL="343080" indent="-341640">
              <a:lnSpc>
                <a:spcPct val="100000"/>
              </a:lnSpc>
              <a:spcBef>
                <a:spcPts val="55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200" spc="-1" strike="noStrike">
              <a:solidFill>
                <a:srgbClr val="ffffff"/>
              </a:solidFill>
              <a:latin typeface="Arial Rounded MT Bold"/>
            </a:endParaRPr>
          </a:p>
        </p:txBody>
      </p:sp>
      <p:sp>
        <p:nvSpPr>
          <p:cNvPr id="1649" name="Text Box 2"/>
          <p:cNvSpPr/>
          <p:nvPr/>
        </p:nvSpPr>
        <p:spPr>
          <a:xfrm>
            <a:off x="6372360" y="6237360"/>
            <a:ext cx="190476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6F9F9B-7CA3-4B81-9E16-2DE53B3AA91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0"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36FD6F-DC75-4EC3-936D-328523B156A5}"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5"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6" name="Text Box 3"/>
          <p:cNvSpPr/>
          <p:nvPr/>
        </p:nvSpPr>
        <p:spPr>
          <a:xfrm>
            <a:off x="0" y="836640"/>
            <a:ext cx="9036000" cy="586908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VALORI DELLA SOGLIA INDIVIDUATI DALL’ U.E</a:t>
            </a:r>
            <a:r>
              <a:rPr b="1" lang="it-IT" sz="2800" spc="-1" strike="noStrike">
                <a:solidFill>
                  <a:srgbClr val="ffff00"/>
                </a:solidFill>
                <a:latin typeface="Calibri"/>
              </a:rPr>
              <a:t>.</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In vigore dal 1°gennaio 2010 al 31 dicembre 2011</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buClr>
                <a:srgbClr val="ff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Unione Europea ogni </a:t>
            </a:r>
            <a:r>
              <a:rPr b="1" lang="it-IT" sz="2000" spc="-1" strike="noStrike">
                <a:solidFill>
                  <a:srgbClr val="00cc99"/>
                </a:solidFill>
                <a:latin typeface="Calibri"/>
              </a:rPr>
              <a:t>due anni </a:t>
            </a:r>
            <a:r>
              <a:rPr b="1" lang="it-IT" sz="2000" spc="-1" strike="noStrike">
                <a:solidFill>
                  <a:srgbClr val="ffffff"/>
                </a:solidFill>
                <a:latin typeface="Calibri"/>
              </a:rPr>
              <a:t>indica  con proprio  </a:t>
            </a:r>
            <a:r>
              <a:rPr b="1" lang="it-IT" sz="2000" spc="-1" strike="noStrike">
                <a:solidFill>
                  <a:srgbClr val="ffffff"/>
                </a:solidFill>
                <a:latin typeface="Calibri"/>
              </a:rPr>
              <a:t>Regolamento</a:t>
            </a:r>
            <a:r>
              <a:rPr b="1" lang="it-IT" sz="2000" spc="-1" strike="noStrike">
                <a:solidFill>
                  <a:srgbClr val="66ffff"/>
                </a:solidFill>
                <a:latin typeface="Calibri"/>
              </a:rPr>
              <a:t> </a:t>
            </a:r>
            <a:r>
              <a:rPr b="1" lang="it-IT" sz="2000" spc="-1" strike="noStrike">
                <a:solidFill>
                  <a:srgbClr val="ffffff"/>
                </a:solidFill>
                <a:latin typeface="Calibri"/>
              </a:rPr>
              <a:t>la nuova sogli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del valore, il </a:t>
            </a:r>
            <a:r>
              <a:rPr b="1" lang="it-IT" sz="2000" spc="-1" strike="noStrike">
                <a:solidFill>
                  <a:srgbClr val="00cc99"/>
                </a:solidFill>
                <a:latin typeface="Calibri"/>
              </a:rPr>
              <a:t>Regolamento della Commissione Europea n. 1177 </a:t>
            </a:r>
            <a:r>
              <a:rPr b="1" lang="it-IT" sz="2000" spc="-1" strike="noStrike">
                <a:solidFill>
                  <a:srgbClr val="ffffff"/>
                </a:solidFill>
                <a:latin typeface="Calibri"/>
              </a:rPr>
              <a:t>del 30.11.2009 ha Indicato, a valere dal </a:t>
            </a:r>
            <a:r>
              <a:rPr b="1" lang="it-IT" sz="2000" spc="-1" strike="noStrike">
                <a:solidFill>
                  <a:srgbClr val="ffff00"/>
                </a:solidFill>
                <a:latin typeface="Calibri"/>
              </a:rPr>
              <a:t>1° GENNAIO 2010</a:t>
            </a:r>
            <a:r>
              <a:rPr b="1" lang="it-IT" sz="2000" spc="-1" strike="noStrike">
                <a:solidFill>
                  <a:srgbClr val="ffcc66"/>
                </a:solidFill>
                <a:latin typeface="Calibri"/>
              </a:rPr>
              <a:t>, </a:t>
            </a:r>
            <a:r>
              <a:rPr b="1" lang="it-IT" sz="2000" spc="-1" strike="noStrike">
                <a:solidFill>
                  <a:srgbClr val="ffffff"/>
                </a:solidFill>
                <a:latin typeface="Calibri"/>
              </a:rPr>
              <a:t>le seguenti soglie al netto dell’iva per i contratti pubblici nei settori ordinari :</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1)</a:t>
            </a:r>
            <a:r>
              <a:rPr b="1" lang="it-IT" sz="2000" spc="-1" strike="noStrike">
                <a:solidFill>
                  <a:srgbClr val="ffffff"/>
                </a:solidFill>
                <a:latin typeface="Calibri"/>
              </a:rPr>
              <a:t>	</a:t>
            </a:r>
            <a:r>
              <a:rPr b="1" lang="it-IT" sz="2000" spc="-1" strike="noStrike">
                <a:solidFill>
                  <a:srgbClr val="ffff00"/>
                </a:solidFill>
                <a:latin typeface="Calibri"/>
              </a:rPr>
              <a:t>€.125.000 </a:t>
            </a:r>
            <a:r>
              <a:rPr b="1" lang="it-IT" sz="2000" spc="-1" strike="noStrike">
                <a:solidFill>
                  <a:srgbClr val="ffffff"/>
                </a:solidFill>
                <a:latin typeface="Calibri"/>
              </a:rPr>
              <a:t>per gli appalti di forniture e servizi aggiudicati dalle amministrazioni centrali dello Stat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2)</a:t>
            </a:r>
            <a:r>
              <a:rPr b="1" lang="it-IT" sz="2000" spc="-1" strike="noStrike">
                <a:solidFill>
                  <a:srgbClr val="ffffff"/>
                </a:solidFill>
                <a:latin typeface="Calibri"/>
              </a:rPr>
              <a:t>	</a:t>
            </a:r>
            <a:r>
              <a:rPr b="1" lang="it-IT" sz="2000" spc="-1" strike="noStrike">
                <a:solidFill>
                  <a:srgbClr val="ffff00"/>
                </a:solidFill>
                <a:latin typeface="Calibri"/>
              </a:rPr>
              <a:t>€.193.000 </a:t>
            </a:r>
            <a:r>
              <a:rPr b="1" lang="it-IT" sz="2000" spc="-1" strike="noStrike">
                <a:solidFill>
                  <a:srgbClr val="ffffff"/>
                </a:solidFill>
                <a:latin typeface="Calibri"/>
              </a:rPr>
              <a:t>per gli appalti di forniture e di servizi aggiudicati da altre stazioni appaltanti </a:t>
            </a:r>
            <a:r>
              <a:rPr b="1" lang="it-IT" sz="2000" spc="-1" strike="noStrike">
                <a:solidFill>
                  <a:srgbClr val="ffff00"/>
                </a:solidFill>
                <a:latin typeface="Calibri"/>
              </a:rPr>
              <a:t>(vi rientrano le II.SS.A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3)  </a:t>
            </a:r>
            <a:r>
              <a:rPr b="1" lang="it-IT" sz="2000" spc="-1" strike="noStrike">
                <a:solidFill>
                  <a:srgbClr val="ffff00"/>
                </a:solidFill>
                <a:latin typeface="Calibri"/>
              </a:rPr>
              <a:t>€.4.845.000 </a:t>
            </a:r>
            <a:r>
              <a:rPr b="1" lang="it-IT" sz="2000" spc="-1" strike="noStrike">
                <a:solidFill>
                  <a:srgbClr val="ffffff"/>
                </a:solidFill>
                <a:latin typeface="Calibri"/>
              </a:rPr>
              <a:t>per gli appalti e per le concessioni di lavori pubblic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a:p>
            <a:pPr marL="343080" indent="-341640" algn="ctr">
              <a:lnSpc>
                <a:spcPct val="100000"/>
              </a:lnSpc>
              <a:spcBef>
                <a:spcPts val="499"/>
              </a:spcBef>
              <a:buClr>
                <a:srgbClr val="66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Per il biennio 2010/2011 la soglia di riferimento da tener presente in fase di</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appalto di servizi e forniture dalle II.SS.AA. è pari a </a:t>
            </a:r>
            <a:r>
              <a:rPr b="1" lang="it-IT" sz="2000" spc="-1" strike="noStrike" u="sng">
                <a:solidFill>
                  <a:srgbClr val="ffff00"/>
                </a:solidFill>
                <a:uFillTx/>
                <a:latin typeface="Calibri"/>
              </a:rPr>
              <a:t>€.193.000</a:t>
            </a:r>
            <a:endParaRPr b="0" lang="en-US" sz="2000" spc="-1" strike="noStrike">
              <a:solidFill>
                <a:srgbClr val="ffffff"/>
              </a:solidFill>
              <a:latin typeface="Arial Rounded MT Bol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Text Box 1"/>
          <p:cNvSpPr/>
          <p:nvPr/>
        </p:nvSpPr>
        <p:spPr>
          <a:xfrm>
            <a:off x="684360" y="981000"/>
            <a:ext cx="7920000" cy="631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ff"/>
                </a:solidFill>
                <a:latin typeface="Calibri"/>
              </a:rPr>
              <a:t>Per le forniture </a:t>
            </a:r>
            <a:r>
              <a:rPr b="1" lang="it-IT" sz="4000" spc="-1" strike="noStrike">
                <a:solidFill>
                  <a:srgbClr val="ffff00"/>
                </a:solidFill>
                <a:latin typeface="Calibri"/>
              </a:rPr>
              <a:t>CONSIP</a:t>
            </a:r>
            <a:r>
              <a:rPr b="1" lang="it-IT" sz="4000" spc="-1" strike="noStrike">
                <a:solidFill>
                  <a:srgbClr val="ffffff"/>
                </a:solidFill>
                <a:latin typeface="Calibri"/>
              </a:rPr>
              <a:t>, le II.SS.AA. </a:t>
            </a:r>
            <a:r>
              <a:rPr b="1" lang="it-IT" sz="4000" spc="-1" strike="noStrike">
                <a:solidFill>
                  <a:srgbClr val="66ffff"/>
                </a:solidFill>
                <a:latin typeface="Calibri"/>
              </a:rPr>
              <a:t>non  acquisiscono il DURC </a:t>
            </a:r>
            <a:r>
              <a:rPr b="1" lang="it-IT" sz="4000" spc="-1" strike="noStrike">
                <a:solidFill>
                  <a:srgbClr val="ffffff"/>
                </a:solidFill>
                <a:latin typeface="Calibri"/>
              </a:rPr>
              <a:t> all’atto dell’adesione alle convenzioni, ma </a:t>
            </a:r>
            <a:r>
              <a:rPr b="1" lang="it-IT" sz="4000" spc="-1" strike="noStrike">
                <a:solidFill>
                  <a:srgbClr val="66ffff"/>
                </a:solidFill>
                <a:latin typeface="Calibri"/>
              </a:rPr>
              <a:t>devono</a:t>
            </a:r>
            <a:r>
              <a:rPr b="1" lang="it-IT" sz="4000" spc="-1" strike="noStrike">
                <a:solidFill>
                  <a:srgbClr val="ffffff"/>
                </a:solidFill>
                <a:latin typeface="Calibri"/>
              </a:rPr>
              <a:t> provvedere alla </a:t>
            </a:r>
            <a:r>
              <a:rPr b="1" lang="it-IT" sz="4000" spc="-1" strike="noStrike">
                <a:solidFill>
                  <a:srgbClr val="66ffff"/>
                </a:solidFill>
                <a:latin typeface="Calibri"/>
              </a:rPr>
              <a:t>richiesta </a:t>
            </a:r>
            <a:r>
              <a:rPr b="1" lang="it-IT" sz="4000" spc="-1" strike="noStrike">
                <a:solidFill>
                  <a:srgbClr val="ffffff"/>
                </a:solidFill>
                <a:latin typeface="Calibri"/>
              </a:rPr>
              <a:t>all’ atto del </a:t>
            </a:r>
            <a:r>
              <a:rPr b="1" lang="it-IT" sz="4000" spc="-1" strike="noStrike">
                <a:solidFill>
                  <a:srgbClr val="66ffff"/>
                </a:solidFill>
                <a:latin typeface="Calibri"/>
              </a:rPr>
              <a:t>pagamento</a:t>
            </a:r>
            <a:r>
              <a:rPr b="1" lang="it-IT" sz="4000" spc="-1" strike="noStrike">
                <a:solidFill>
                  <a:srgbClr val="ffffff"/>
                </a:solidFill>
                <a:latin typeface="Calibri"/>
              </a:rPr>
              <a:t> della fattura emessa dall’ aggiudicatario della gara bandita dalla CONSIP; analogamente si procederà in caso di utilizzo del mercato elettronico.</a:t>
            </a:r>
            <a:endParaRPr b="0" lang="en-US" sz="4000" spc="-1" strike="noStrike">
              <a:solidFill>
                <a:srgbClr val="ffffff"/>
              </a:solidFill>
              <a:latin typeface="Arial Rounded MT Bold"/>
            </a:endParaRPr>
          </a:p>
          <a:p>
            <a:pPr>
              <a:lnSpc>
                <a:spcPct val="100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4000" spc="-1" strike="noStrike">
              <a:solidFill>
                <a:srgbClr val="ffffff"/>
              </a:solidFill>
              <a:latin typeface="Arial Rounded MT Bold"/>
            </a:endParaRPr>
          </a:p>
        </p:txBody>
      </p:sp>
      <p:sp>
        <p:nvSpPr>
          <p:cNvPr id="165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F98CC-7B28-4DB4-A4F2-8DB4085BA67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3"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Text Box 1"/>
          <p:cNvSpPr/>
          <p:nvPr/>
        </p:nvSpPr>
        <p:spPr>
          <a:xfrm>
            <a:off x="395280" y="1125360"/>
            <a:ext cx="8353440" cy="59328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rPr>
              <a:t>Il DURC per i </a:t>
            </a:r>
            <a:r>
              <a:rPr b="1" lang="it-IT" sz="3200" spc="-1" strike="noStrike">
                <a:solidFill>
                  <a:srgbClr val="ffff00"/>
                </a:solidFill>
                <a:latin typeface="Calibri"/>
              </a:rPr>
              <a:t>LIBERI PROFESSIONISTI</a:t>
            </a:r>
            <a:r>
              <a:rPr b="1" lang="it-IT" sz="3200" spc="-1" strike="noStrike">
                <a:solidFill>
                  <a:srgbClr val="ffffff"/>
                </a:solidFill>
                <a:latin typeface="Calibri"/>
              </a:rPr>
              <a:t>, che non sono soggetti alla gestione previdenziale dell’INPS e dell’ INAIL ma alle rispettive casse di previdenza, non potrà essere acquisito tramite lo sportello unico previdenziale. Pertanto, all’atto della stipula del contratto e all’atto del pagamento del relativo compenso, le II.SS.AA. potranno richiedere un certificato di regolarità contributiva direttamente tramite procedure e modulistiche specifiche predisposte nei siti delle singole casse previdenziali</a:t>
            </a:r>
            <a:r>
              <a:rPr b="1" lang="it-IT" sz="2600" spc="-1" strike="noStrike">
                <a:solidFill>
                  <a:srgbClr val="ffffff"/>
                </a:solidFill>
                <a:latin typeface="Calibri"/>
              </a:rPr>
              <a:t>. </a:t>
            </a:r>
            <a:endParaRPr b="0" lang="en-US" sz="2600" spc="-1" strike="noStrike">
              <a:solidFill>
                <a:srgbClr val="ffffff"/>
              </a:solidFill>
              <a:latin typeface="Arial Rounded MT Bold"/>
            </a:endParaRPr>
          </a:p>
          <a:p>
            <a:pPr>
              <a:lnSpc>
                <a:spcPct val="100000"/>
              </a:lnSpc>
              <a:spcBef>
                <a:spcPts val="6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600" spc="-1" strike="noStrike">
              <a:solidFill>
                <a:srgbClr val="ffffff"/>
              </a:solidFill>
              <a:latin typeface="Arial Rounded MT Bold"/>
            </a:endParaRPr>
          </a:p>
        </p:txBody>
      </p:sp>
      <p:sp>
        <p:nvSpPr>
          <p:cNvPr id="165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9BF281-C957-4BDF-8B30-AB99B9E52D3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6" name="Text Box 3"/>
          <p:cNvSpPr/>
          <p:nvPr/>
        </p:nvSpPr>
        <p:spPr>
          <a:xfrm>
            <a:off x="685800" y="0"/>
            <a:ext cx="7772400" cy="1125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Text Box 1"/>
          <p:cNvSpPr/>
          <p:nvPr/>
        </p:nvSpPr>
        <p:spPr>
          <a:xfrm>
            <a:off x="179280" y="907920"/>
            <a:ext cx="8713800" cy="636120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NON È NECESSARIO ACQUISIRE IL DURC :</a:t>
            </a:r>
            <a:endParaRPr b="0" lang="en-US" sz="4400" spc="-1" strike="noStrike">
              <a:solidFill>
                <a:srgbClr val="ffffff"/>
              </a:solidFill>
              <a:latin typeface="Arial Rounded MT Bold"/>
            </a:endParaRPr>
          </a:p>
          <a:p>
            <a:pPr marL="343080" indent="-341640" algn="ctr">
              <a:lnSpc>
                <a:spcPct val="10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pagamenti di fatture relative ad </a:t>
            </a:r>
            <a:r>
              <a:rPr b="1" lang="it-IT" sz="2800" spc="-1" strike="noStrike">
                <a:solidFill>
                  <a:srgbClr val="ffff00"/>
                </a:solidFill>
                <a:latin typeface="Calibri"/>
              </a:rPr>
              <a:t>UTENZE </a:t>
            </a:r>
            <a:r>
              <a:rPr b="1" lang="it-IT" sz="2800" spc="-1" strike="noStrike">
                <a:solidFill>
                  <a:srgbClr val="ffffff"/>
                </a:solidFill>
                <a:latin typeface="Calibri"/>
              </a:rPr>
              <a:t>(Energia Elettrica, Telefono , Gas ecc.);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acquisti effettuati direttamente presso esercizi commerciali facendo ricorso alla gestione delle </a:t>
            </a:r>
            <a:r>
              <a:rPr b="1" lang="it-IT" sz="2800" spc="-1" strike="noStrike">
                <a:solidFill>
                  <a:srgbClr val="ffff00"/>
                </a:solidFill>
                <a:latin typeface="Calibri"/>
              </a:rPr>
              <a:t>MINUTE SPESE del D.S.G.A.</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per pagamenti di abbonamenti a riviste, periodici, pubblicazioni ecc. </a:t>
            </a:r>
            <a:endParaRPr b="0" lang="en-US" sz="2800" spc="-1" strike="noStrike">
              <a:solidFill>
                <a:srgbClr val="ffffff"/>
              </a:solidFill>
              <a:latin typeface="Arial Rounded MT Bold"/>
            </a:endParaRPr>
          </a:p>
          <a:p>
            <a:pPr marL="343080" indent="-341640" algn="just">
              <a:lnSpc>
                <a:spcPct val="100000"/>
              </a:lnSpc>
              <a:spcBef>
                <a:spcPts val="700"/>
              </a:spcBef>
              <a:buClr>
                <a:srgbClr val="3366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ff"/>
                </a:solidFill>
                <a:latin typeface="Calibri"/>
              </a:rPr>
              <a:t>quando la controparte contraente sia un </a:t>
            </a:r>
            <a:r>
              <a:rPr b="1" lang="it-IT" sz="2800" spc="-1" strike="noStrike">
                <a:solidFill>
                  <a:srgbClr val="ffff00"/>
                </a:solidFill>
                <a:latin typeface="Calibri"/>
              </a:rPr>
              <a:t>ALTRO ENTE PUBBLICO.</a:t>
            </a:r>
            <a:endParaRPr b="0" lang="en-US" sz="2800" spc="-1" strike="noStrike">
              <a:solidFill>
                <a:srgbClr val="ffffff"/>
              </a:solidFill>
              <a:latin typeface="Arial Rounded MT Bold"/>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Rounded MT Bold"/>
            </a:endParaRPr>
          </a:p>
        </p:txBody>
      </p:sp>
      <p:sp>
        <p:nvSpPr>
          <p:cNvPr id="165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7CA472-5B7C-4D4D-A214-76CC9B5B98B1}"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59"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Text Box 1"/>
          <p:cNvSpPr/>
          <p:nvPr/>
        </p:nvSpPr>
        <p:spPr>
          <a:xfrm>
            <a:off x="250920" y="765000"/>
            <a:ext cx="8281800" cy="583272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LA VALIDITÀ</a:t>
            </a:r>
            <a:r>
              <a:rPr b="0" lang="it-IT" sz="3200" spc="-1" strike="noStrike">
                <a:solidFill>
                  <a:srgbClr val="ffffff"/>
                </a:solidFill>
                <a:latin typeface="Calibri"/>
              </a:rPr>
              <a:t> </a:t>
            </a:r>
            <a:r>
              <a:rPr b="1" lang="it-IT" sz="3200" spc="-1" strike="noStrike">
                <a:solidFill>
                  <a:srgbClr val="ffff00"/>
                </a:solidFill>
                <a:latin typeface="Calibri"/>
              </a:rPr>
              <a:t>DEL DURC</a:t>
            </a:r>
            <a:endParaRPr b="0" lang="en-US" sz="3200" spc="-1" strike="noStrike">
              <a:solidFill>
                <a:srgbClr val="ffffff"/>
              </a:solidFill>
              <a:latin typeface="Arial Rounded MT Bold"/>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ff"/>
                </a:solidFill>
                <a:latin typeface="Calibri"/>
              </a:rPr>
              <a:t>    </a:t>
            </a:r>
            <a:r>
              <a:rPr b="1" lang="it-IT" sz="3200" spc="-1" strike="noStrike">
                <a:solidFill>
                  <a:srgbClr val="ffffff"/>
                </a:solidFill>
                <a:latin typeface="Calibri"/>
              </a:rPr>
              <a:t>Il DURC, ha </a:t>
            </a:r>
            <a:r>
              <a:rPr b="1" lang="it-IT" sz="3200" spc="-1" strike="noStrike">
                <a:solidFill>
                  <a:srgbClr val="ffff00"/>
                </a:solidFill>
                <a:latin typeface="Calibri"/>
              </a:rPr>
              <a:t>validità trimestrale</a:t>
            </a:r>
            <a:r>
              <a:rPr b="1" lang="it-IT" sz="3200" spc="-1" strike="noStrike">
                <a:solidFill>
                  <a:srgbClr val="ffffff"/>
                </a:solidFill>
                <a:latin typeface="Calibri"/>
              </a:rPr>
              <a:t>, per le PP.AA. e quindi anche per le II.SS.AA. come affermato dal TAR Puglia - Lecce III^ Sezione - con sentenza n. 2304 del 16.10.2009, come determinato dall’Autorità di Vigilanza sui Contratti Pubblici in data 12.01.2010 e ribadito dal Ministero del Lavoro e delle Politiche Sociali con la circolare n. 35 dell’8.10.2010 e dall’ INPS con  la circolare n. 145 del 17.11.2010.</a:t>
            </a:r>
            <a:r>
              <a:rPr b="1" lang="it-IT" sz="3200" spc="-1" strike="noStrike">
                <a:solidFill>
                  <a:srgbClr val="ffffff"/>
                </a:solidFill>
                <a:latin typeface="Calibri"/>
              </a:rPr>
              <a:t> </a:t>
            </a:r>
            <a:endParaRPr b="0" lang="en-US" sz="3200" spc="-1" strike="noStrike">
              <a:solidFill>
                <a:srgbClr val="ffffff"/>
              </a:solidFill>
              <a:latin typeface="Arial Rounded MT Bold"/>
            </a:endParaRPr>
          </a:p>
          <a:p>
            <a:pPr marL="343080" indent="-341640">
              <a:lnSpc>
                <a:spcPct val="100000"/>
              </a:lnSpc>
              <a:spcBef>
                <a:spcPts val="6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Rounded MT Bold"/>
            </a:endParaRPr>
          </a:p>
        </p:txBody>
      </p:sp>
      <p:sp>
        <p:nvSpPr>
          <p:cNvPr id="166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1DC38-C29E-42CF-B37D-687E09E744B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2"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Text Box 1"/>
          <p:cNvSpPr/>
          <p:nvPr/>
        </p:nvSpPr>
        <p:spPr>
          <a:xfrm>
            <a:off x="179280" y="692280"/>
            <a:ext cx="8785440" cy="5905440"/>
          </a:xfrm>
          <a:prstGeom prst="rect">
            <a:avLst/>
          </a:prstGeom>
          <a:noFill/>
          <a:ln w="0">
            <a:noFill/>
          </a:ln>
        </p:spPr>
        <p:style>
          <a:lnRef idx="0"/>
          <a:fillRef idx="0"/>
          <a:effectRef idx="0"/>
          <a:fontRef idx="minor"/>
        </p:style>
        <p:txBody>
          <a:bodyPr lIns="90000" rIns="90000" tIns="46800" bIns="46800" anchor="t">
            <a:noAutofit/>
          </a:bodyPr>
          <a:p>
            <a:pPr marL="343080" indent="-34164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4400" spc="-1" strike="noStrike">
                <a:solidFill>
                  <a:srgbClr val="ffff00"/>
                </a:solidFill>
                <a:latin typeface="Calibri"/>
              </a:rPr>
              <a:t>LA VALIDITÀ</a:t>
            </a:r>
            <a:r>
              <a:rPr b="0" lang="it-IT" sz="4400" spc="-1" strike="noStrike">
                <a:solidFill>
                  <a:srgbClr val="ffffff"/>
                </a:solidFill>
                <a:latin typeface="Calibri"/>
              </a:rPr>
              <a:t> </a:t>
            </a:r>
            <a:r>
              <a:rPr b="1" lang="it-IT" sz="4400" spc="-1" strike="noStrike">
                <a:solidFill>
                  <a:srgbClr val="ffff00"/>
                </a:solidFill>
                <a:latin typeface="Calibri"/>
              </a:rPr>
              <a:t>DEL DURC</a:t>
            </a:r>
            <a:endParaRPr b="0" lang="en-US" sz="4400" spc="-1" strike="noStrike">
              <a:solidFill>
                <a:srgbClr val="ffffff"/>
              </a:solidFill>
              <a:latin typeface="Arial Rounded MT Bold"/>
            </a:endParaRPr>
          </a:p>
          <a:p>
            <a:pPr marL="343080" indent="-341640" algn="ctr">
              <a:lnSpc>
                <a:spcPct val="10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La validità trimestrale è confermata </a:t>
            </a:r>
            <a:r>
              <a:rPr b="1" lang="it-IT" sz="3600" spc="-1" strike="noStrike">
                <a:solidFill>
                  <a:srgbClr val="ffffff"/>
                </a:solidFill>
                <a:latin typeface="Calibri"/>
              </a:rPr>
              <a:t>anche in</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resenza di acquisti di beni, servizi e lavori</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effettuati in economia </a:t>
            </a:r>
            <a:r>
              <a:rPr b="1" lang="it-IT" sz="3600" spc="-1" strike="noStrike">
                <a:solidFill>
                  <a:srgbClr val="ffffff"/>
                </a:solidFill>
                <a:latin typeface="Calibri"/>
              </a:rPr>
              <a:t>(D.Lgs. n. 163/2006 –</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Codice Appalti Pubblici - art. 1215, c.1, lett.b)</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e, nella sola ipotesi di </a:t>
            </a:r>
            <a:r>
              <a:rPr b="1" lang="it-IT" sz="3600" spc="-1" strike="noStrike">
                <a:solidFill>
                  <a:srgbClr val="ffff00"/>
                </a:solidFill>
                <a:latin typeface="Calibri"/>
              </a:rPr>
              <a:t>affidamento diretto </a:t>
            </a:r>
            <a:r>
              <a:rPr b="1" lang="it-IT" sz="3600" spc="-1" strike="noStrike">
                <a:solidFill>
                  <a:srgbClr val="ffffff"/>
                </a:solidFill>
                <a:latin typeface="Calibri"/>
              </a:rPr>
              <a:t>da</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arte del “Responsabile del Procedimento”</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per importi inferiori a </a:t>
            </a:r>
            <a:r>
              <a:rPr b="1" lang="it-IT" sz="3600" spc="-1" strike="noStrike">
                <a:solidFill>
                  <a:srgbClr val="ffff00"/>
                </a:solidFill>
                <a:latin typeface="Calibri"/>
              </a:rPr>
              <a:t>€.40.000</a:t>
            </a:r>
            <a:r>
              <a:rPr b="1" lang="it-IT" sz="3600" spc="-1" strike="noStrike">
                <a:solidFill>
                  <a:srgbClr val="ffffff"/>
                </a:solidFill>
                <a:latin typeface="Calibri"/>
              </a:rPr>
              <a:t>, la predetta</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ff"/>
                </a:solidFill>
                <a:latin typeface="Calibri"/>
              </a:rPr>
              <a:t>validità sarà riferita </a:t>
            </a:r>
            <a:r>
              <a:rPr b="1" lang="it-IT" sz="3600" spc="-1" strike="noStrike">
                <a:solidFill>
                  <a:srgbClr val="ffff00"/>
                </a:solidFill>
                <a:latin typeface="Calibri"/>
              </a:rPr>
              <a:t>all’ ”oggetto” e non allo</a:t>
            </a:r>
            <a:endParaRPr b="0" lang="en-US" sz="3600" spc="-1" strike="noStrike">
              <a:solidFill>
                <a:srgbClr val="ffffff"/>
              </a:solidFill>
              <a:latin typeface="Arial Rounded MT Bold"/>
            </a:endParaRPr>
          </a:p>
          <a:p>
            <a:pPr marL="343080" indent="-341640" algn="just">
              <a:lnSpc>
                <a:spcPct val="10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600" spc="-1" strike="noStrike">
                <a:solidFill>
                  <a:srgbClr val="ffff00"/>
                </a:solidFill>
                <a:latin typeface="Calibri"/>
              </a:rPr>
              <a:t>“</a:t>
            </a:r>
            <a:r>
              <a:rPr b="1" lang="it-IT" sz="3600" spc="-1" strike="noStrike">
                <a:solidFill>
                  <a:srgbClr val="ffff00"/>
                </a:solidFill>
                <a:latin typeface="Calibri"/>
              </a:rPr>
              <a:t>specifico contratto</a:t>
            </a:r>
            <a:r>
              <a:rPr b="1" lang="it-IT" sz="3600" spc="-1" strike="noStrike">
                <a:solidFill>
                  <a:srgbClr val="ffff00"/>
                </a:solidFill>
                <a:latin typeface="Times New Roman"/>
              </a:rPr>
              <a:t>".</a:t>
            </a:r>
            <a:endParaRPr b="0" lang="en-US" sz="3600" spc="-1" strike="noStrike">
              <a:solidFill>
                <a:srgbClr val="ffffff"/>
              </a:solidFill>
              <a:latin typeface="Arial Rounded MT Bold"/>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Rounded MT Bold"/>
            </a:endParaRPr>
          </a:p>
        </p:txBody>
      </p:sp>
      <p:sp>
        <p:nvSpPr>
          <p:cNvPr id="166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604E60-266D-4D41-BD68-BE25E35C327D}"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5" name="Text Box 3"/>
          <p:cNvSpPr/>
          <p:nvPr/>
        </p:nvSpPr>
        <p:spPr>
          <a:xfrm>
            <a:off x="685800" y="0"/>
            <a:ext cx="7772400" cy="692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Text Box 1"/>
          <p:cNvSpPr/>
          <p:nvPr/>
        </p:nvSpPr>
        <p:spPr>
          <a:xfrm>
            <a:off x="324000" y="836640"/>
            <a:ext cx="8496000" cy="60912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ea typeface="Calibri"/>
              </a:rPr>
              <a:t>Pertanto, a seguito della determinazione dell’AVCP n. 1/2010 e della circolare ministeriale n. 35/2010, ha validità trimestrale il DURC rilasciato ai fini:</a:t>
            </a:r>
            <a:endParaRPr b="0" lang="en-US" sz="22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1. della verifica della dichiarazione sostitutiva</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2. dell’aggiudicazione</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3. della stipula del contratto</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4. dei pagamenti degli stati di avanzamento lavori (SAL) e delle prestazioni relative a servizi e forniture (fatture)</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5. dell’acquisizione in economia di soli beni e servizi con il sistema dell’affidamento diretto </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6. dell’attestazione SOA</a:t>
            </a:r>
            <a:endParaRPr b="0" lang="en-US" sz="2000" spc="-1" strike="noStrike">
              <a:solidFill>
                <a:srgbClr val="ffffff"/>
              </a:solidFill>
              <a:latin typeface="Arial Rounded MT Bold"/>
            </a:endParaRPr>
          </a:p>
          <a:p>
            <a:pPr>
              <a:lnSpc>
                <a:spcPct val="115000"/>
              </a:lnSpc>
              <a:spcBef>
                <a:spcPts val="499"/>
              </a:spcBef>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000" spc="-1" strike="noStrike">
                <a:solidFill>
                  <a:srgbClr val="ffffff"/>
                </a:solidFill>
                <a:latin typeface="Calibri"/>
                <a:ea typeface="Calibri"/>
              </a:rPr>
              <a:t>7. dell’iscrizione all’albo fornitori.</a:t>
            </a:r>
            <a:endParaRPr b="0" lang="en-US" sz="2000" spc="-1" strike="noStrike">
              <a:solidFill>
                <a:srgbClr val="ffffff"/>
              </a:solidFill>
              <a:latin typeface="Arial Rounded MT Bold"/>
            </a:endParaRPr>
          </a:p>
          <a:p>
            <a:pPr>
              <a:lnSpc>
                <a:spcPct val="115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200" spc="-1" strike="noStrike">
                <a:solidFill>
                  <a:srgbClr val="ffff00"/>
                </a:solidFill>
                <a:latin typeface="Calibri"/>
                <a:ea typeface="Calibri"/>
              </a:rPr>
              <a:t>Il periodo di validità trimestrale del DURC decorre sempre dalla data di emissione del certificato.</a:t>
            </a:r>
            <a:endParaRPr b="0" lang="en-US" sz="2200" spc="-1" strike="noStrike">
              <a:solidFill>
                <a:srgbClr val="ffffff"/>
              </a:solidFill>
              <a:latin typeface="Arial Rounded MT Bold"/>
            </a:endParaRPr>
          </a:p>
          <a:p>
            <a:pPr>
              <a:lnSpc>
                <a:spcPct val="100000"/>
              </a:lnSpc>
              <a:spcBef>
                <a:spcPts val="55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200" spc="-1" strike="noStrike">
              <a:solidFill>
                <a:srgbClr val="ffffff"/>
              </a:solidFill>
              <a:latin typeface="Arial Rounded MT Bold"/>
            </a:endParaRPr>
          </a:p>
        </p:txBody>
      </p:sp>
      <p:sp>
        <p:nvSpPr>
          <p:cNvPr id="166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272C8B-A7CE-4D2D-98CC-2860F51B19F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6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Text Box 1"/>
          <p:cNvSpPr/>
          <p:nvPr/>
        </p:nvSpPr>
        <p:spPr>
          <a:xfrm>
            <a:off x="395280" y="836640"/>
            <a:ext cx="8353440" cy="60897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ea typeface="Calibri"/>
              </a:rPr>
              <a:t>-</a:t>
            </a:r>
            <a:r>
              <a:rPr b="1" lang="it-IT" sz="2800" spc="-1" strike="noStrike">
                <a:solidFill>
                  <a:srgbClr val="ffffff"/>
                </a:solidFill>
                <a:latin typeface="Calibri"/>
                <a:ea typeface="Calibri"/>
              </a:rPr>
              <a:t> I DURC emessi  nei casi ai punti 1 e 2, </a:t>
            </a:r>
            <a:r>
              <a:rPr b="1" lang="it-IT" sz="2800" spc="-1" strike="noStrike">
                <a:solidFill>
                  <a:srgbClr val="ffff00"/>
                </a:solidFill>
                <a:latin typeface="Calibri"/>
                <a:ea typeface="Calibri"/>
              </a:rPr>
              <a:t>possono</a:t>
            </a:r>
            <a:r>
              <a:rPr b="1" lang="it-IT" sz="2800" spc="-1" strike="noStrike">
                <a:solidFill>
                  <a:srgbClr val="ffffff"/>
                </a:solidFill>
                <a:latin typeface="Calibri"/>
                <a:ea typeface="Calibri"/>
              </a:rPr>
              <a:t> essere utilizzati anche per la stipula del contratto, se  ancora in corso di validità. Nel caso di cui al punto 5, </a:t>
            </a:r>
            <a:r>
              <a:rPr b="1" lang="it-IT" sz="2800" spc="-1" strike="noStrike">
                <a:solidFill>
                  <a:srgbClr val="ffff00"/>
                </a:solidFill>
                <a:latin typeface="Calibri"/>
                <a:ea typeface="Calibri"/>
              </a:rPr>
              <a:t>è possibile utilizzare </a:t>
            </a:r>
            <a:r>
              <a:rPr b="1" lang="it-IT" sz="2800" spc="-1" strike="noStrike">
                <a:solidFill>
                  <a:srgbClr val="ffffff"/>
                </a:solidFill>
                <a:latin typeface="Calibri"/>
                <a:ea typeface="Calibri"/>
              </a:rPr>
              <a:t>un DURC in corso di validità emesso per un precedente contratto riguardante una diversa stazione appaltante.</a:t>
            </a:r>
            <a:endParaRPr b="0" lang="en-US" sz="2800" spc="-1" strike="noStrike">
              <a:solidFill>
                <a:srgbClr val="ffffff"/>
              </a:solidFill>
              <a:latin typeface="Arial Rounded MT Bold"/>
            </a:endParaRPr>
          </a:p>
          <a:p>
            <a:pPr algn="just">
              <a:lnSpc>
                <a:spcPct val="115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ea typeface="Calibri"/>
              </a:rPr>
              <a:t>-</a:t>
            </a:r>
            <a:r>
              <a:rPr b="1" lang="it-IT" sz="2800" spc="-1" strike="noStrike">
                <a:solidFill>
                  <a:srgbClr val="ffffff"/>
                </a:solidFill>
                <a:latin typeface="Calibri"/>
                <a:ea typeface="Calibri"/>
              </a:rPr>
              <a:t> C.M. n. 35/2010 </a:t>
            </a:r>
            <a:r>
              <a:rPr b="1" i="1" lang="it-IT" sz="2800" spc="-1" strike="noStrike">
                <a:solidFill>
                  <a:srgbClr val="ffff00"/>
                </a:solidFill>
                <a:latin typeface="Calibri"/>
                <a:ea typeface="Calibri"/>
              </a:rPr>
              <a:t>“nella sola ipotesi di acquisizioni in</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economia di beni e servizi per i quali è consentito l’affidamento diretto da parte del responsabile</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del procedimento, il DURC ha validità trimestrale in relazione all’oggetto e non allo specifico</a:t>
            </a:r>
            <a:r>
              <a:rPr b="1" lang="it-IT" sz="2800" spc="-1" strike="noStrike">
                <a:solidFill>
                  <a:srgbClr val="ffff00"/>
                </a:solidFill>
                <a:latin typeface="Calibri"/>
                <a:ea typeface="Calibri"/>
              </a:rPr>
              <a:t> </a:t>
            </a:r>
            <a:r>
              <a:rPr b="1" i="1" lang="it-IT" sz="2800" spc="-1" strike="noStrike">
                <a:solidFill>
                  <a:srgbClr val="ffff00"/>
                </a:solidFill>
                <a:latin typeface="Calibri"/>
                <a:ea typeface="Calibri"/>
              </a:rPr>
              <a:t>contratto”</a:t>
            </a:r>
            <a:r>
              <a:rPr b="1" lang="it-IT" sz="2800" spc="-1" strike="noStrike">
                <a:solidFill>
                  <a:srgbClr val="ffff00"/>
                </a:solidFill>
                <a:latin typeface="Calibri"/>
                <a:ea typeface="Calibri"/>
              </a:rPr>
              <a:t>. </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7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EE7704-C453-4CD5-933F-8527B5059A9A}"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1" name="Text Box 3"/>
          <p:cNvSpPr/>
          <p:nvPr/>
        </p:nvSpPr>
        <p:spPr>
          <a:xfrm>
            <a:off x="685800" y="115920"/>
            <a:ext cx="7772400" cy="64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Text Box 1"/>
          <p:cNvSpPr/>
          <p:nvPr/>
        </p:nvSpPr>
        <p:spPr>
          <a:xfrm>
            <a:off x="324000" y="836640"/>
            <a:ext cx="8496000" cy="61516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Non è</a:t>
            </a:r>
            <a:r>
              <a:rPr b="1" lang="it-IT" sz="2400" spc="-1" strike="noStrike">
                <a:solidFill>
                  <a:srgbClr val="ffffff"/>
                </a:solidFill>
                <a:latin typeface="Calibri"/>
              </a:rPr>
              <a:t> richiesto dunque il legame ad uno specifico contratto, ma solo alla tipologia della prestazione resa dall’operatore economico, anche nei confronti di più stazioni appaltanti, </a:t>
            </a:r>
            <a:r>
              <a:rPr b="1" lang="it-IT" sz="2400" spc="-1" strike="noStrike">
                <a:solidFill>
                  <a:srgbClr val="ffff00"/>
                </a:solidFill>
                <a:latin typeface="Calibri"/>
              </a:rPr>
              <a:t>per semplificare </a:t>
            </a:r>
            <a:r>
              <a:rPr b="1" lang="it-IT" sz="2400" spc="-1" strike="noStrike">
                <a:solidFill>
                  <a:srgbClr val="ffffff"/>
                </a:solidFill>
                <a:latin typeface="Calibri"/>
              </a:rPr>
              <a:t>le operazioni di affidamento e pagamento di contratti pubblici con complessità tecnica e rilevanza economica minori.</a:t>
            </a:r>
            <a:endParaRPr b="0" lang="en-US" sz="2400" spc="-1" strike="noStrike">
              <a:solidFill>
                <a:srgbClr val="ffffff"/>
              </a:solidFill>
              <a:latin typeface="Arial Rounded MT Bold"/>
            </a:endParaRPr>
          </a:p>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a:t>
            </a:r>
            <a:r>
              <a:rPr b="1" lang="it-IT" sz="2400" spc="-1" strike="noStrike">
                <a:solidFill>
                  <a:srgbClr val="ffffff"/>
                </a:solidFill>
                <a:latin typeface="Calibri"/>
              </a:rPr>
              <a:t> Negli altri casi </a:t>
            </a:r>
            <a:r>
              <a:rPr b="1" lang="it-IT" sz="2400" spc="-1" strike="noStrike">
                <a:solidFill>
                  <a:srgbClr val="ffff00"/>
                </a:solidFill>
                <a:latin typeface="Calibri"/>
              </a:rPr>
              <a:t>resta fermo </a:t>
            </a:r>
            <a:r>
              <a:rPr b="1" lang="it-IT" sz="2400" spc="-1" strike="noStrike">
                <a:solidFill>
                  <a:srgbClr val="ffffff"/>
                </a:solidFill>
                <a:latin typeface="Calibri"/>
              </a:rPr>
              <a:t>il principio per cui un DURC richiesto per un finalità, indicata sullo stesso certificato, </a:t>
            </a:r>
            <a:r>
              <a:rPr b="1" lang="it-IT" sz="2400" spc="-1" strike="noStrike">
                <a:solidFill>
                  <a:srgbClr val="ffff00"/>
                </a:solidFill>
                <a:latin typeface="Calibri"/>
              </a:rPr>
              <a:t>non può </a:t>
            </a:r>
            <a:r>
              <a:rPr b="1" lang="it-IT" sz="2400" spc="-1" strike="noStrike">
                <a:solidFill>
                  <a:srgbClr val="ffffff"/>
                </a:solidFill>
                <a:latin typeface="Calibri"/>
              </a:rPr>
              <a:t>essere utilizzato in un ambito applicativo diverso da quello per cui è stato emesso.</a:t>
            </a:r>
            <a:endParaRPr b="0" lang="en-US" sz="2400" spc="-1" strike="noStrike">
              <a:solidFill>
                <a:srgbClr val="ffffff"/>
              </a:solidFill>
              <a:latin typeface="Arial Rounded MT Bold"/>
            </a:endParaRPr>
          </a:p>
          <a:p>
            <a:pPr algn="just">
              <a:lnSpc>
                <a:spcPct val="115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400" spc="-1" strike="noStrike">
                <a:solidFill>
                  <a:srgbClr val="ffff00"/>
                </a:solidFill>
                <a:latin typeface="Calibri"/>
              </a:rPr>
              <a:t>- </a:t>
            </a:r>
            <a:r>
              <a:rPr b="1" lang="it-IT" sz="2400" spc="-1" strike="noStrike">
                <a:solidFill>
                  <a:srgbClr val="ffffff"/>
                </a:solidFill>
                <a:latin typeface="Calibri"/>
              </a:rPr>
              <a:t>Pertanto </a:t>
            </a:r>
            <a:r>
              <a:rPr b="1" lang="it-IT" sz="2400" spc="-1" strike="noStrike">
                <a:solidFill>
                  <a:srgbClr val="ffff00"/>
                </a:solidFill>
                <a:latin typeface="Calibri"/>
              </a:rPr>
              <a:t>è illegittimo </a:t>
            </a:r>
            <a:r>
              <a:rPr b="1" lang="it-IT" sz="2400" spc="-1" strike="noStrike">
                <a:solidFill>
                  <a:srgbClr val="ffffff"/>
                </a:solidFill>
                <a:latin typeface="Calibri"/>
              </a:rPr>
              <a:t>l’uso, nei contratti pubblici, di un DURC rilasciato per altre tipologie (es. lavori privati in edilizia, finanziamenti, sovvenzioni e autorizzazioni).</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73"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0EC35-C933-41FA-B57B-F74FA8EE7297}"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4" name="Text Box 3"/>
          <p:cNvSpPr/>
          <p:nvPr/>
        </p:nvSpPr>
        <p:spPr>
          <a:xfrm>
            <a:off x="685800" y="115920"/>
            <a:ext cx="7772400" cy="72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Text Box 1"/>
          <p:cNvSpPr/>
          <p:nvPr/>
        </p:nvSpPr>
        <p:spPr>
          <a:xfrm>
            <a:off x="179280" y="907920"/>
            <a:ext cx="8785440" cy="615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l DURC ha </a:t>
            </a:r>
            <a:r>
              <a:rPr b="1" lang="it-IT" sz="2800" spc="-1" strike="noStrike">
                <a:solidFill>
                  <a:srgbClr val="ffff00"/>
                </a:solidFill>
                <a:latin typeface="Calibri"/>
              </a:rPr>
              <a:t>validità mensile</a:t>
            </a:r>
            <a:r>
              <a:rPr b="1" lang="it-IT" sz="2800" spc="-1" strike="noStrike">
                <a:solidFill>
                  <a:srgbClr val="ffffff"/>
                </a:solidFill>
                <a:latin typeface="Calibri"/>
              </a:rPr>
              <a:t>, ai sensi dell'art. 7, comma 1, del D.M. 24/10/2007, ai soli fini della fruizione delle agevolazioni normative e contributive, in materia di lavoro e di legislazione sociale previsti dall'ordinamento, nonché ai fini della fruizione di benefici e sovvenzioni previsti dalla disciplina comunitaria, </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la validità del DURC </a:t>
            </a:r>
            <a:r>
              <a:rPr b="1" lang="it-IT" sz="2800" spc="-1" strike="noStrike">
                <a:solidFill>
                  <a:srgbClr val="ffff00"/>
                </a:solidFill>
                <a:latin typeface="Calibri"/>
              </a:rPr>
              <a:t>è limitata</a:t>
            </a:r>
            <a:r>
              <a:rPr b="1" lang="it-IT" sz="2800" spc="-1" strike="noStrike">
                <a:solidFill>
                  <a:srgbClr val="ffffff"/>
                </a:solidFill>
                <a:latin typeface="Calibri"/>
              </a:rPr>
              <a:t>, nell'ambito degli appalti pubblici, alla </a:t>
            </a:r>
            <a:r>
              <a:rPr b="1" lang="it-IT" sz="2800" spc="-1" strike="noStrike">
                <a:solidFill>
                  <a:srgbClr val="ffff00"/>
                </a:solidFill>
                <a:latin typeface="Calibri"/>
              </a:rPr>
              <a:t>fase per la quale il certificato è stato richiesto</a:t>
            </a:r>
            <a:r>
              <a:rPr b="1" lang="it-IT" sz="2800" spc="-1" strike="noStrike">
                <a:solidFill>
                  <a:srgbClr val="ffffff"/>
                </a:solidFill>
                <a:latin typeface="Calibri"/>
              </a:rPr>
              <a:t>, ad esempio per la stipula del contratto, il pagamento di uno stato di avanzamento dei lavori, ecc.,  perciò legata allo specifico appalto, per cui il documento emesso per un appalto pubblico non può essere utilizzato per fini diversi da quello della richiesta.</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676"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A7241-AFFC-42D8-9EEF-64287764EBF2}"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77"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Text Box 1"/>
          <p:cNvSpPr/>
          <p:nvPr/>
        </p:nvSpPr>
        <p:spPr>
          <a:xfrm>
            <a:off x="250920" y="765000"/>
            <a:ext cx="8642160" cy="6107400"/>
          </a:xfrm>
          <a:prstGeom prst="rect">
            <a:avLst/>
          </a:prstGeom>
          <a:noFill/>
          <a:ln w="0">
            <a:noFill/>
          </a:ln>
        </p:spPr>
        <p:style>
          <a:lnRef idx="0"/>
          <a:fillRef idx="0"/>
          <a:effectRef idx="0"/>
          <a:fontRef idx="minor"/>
        </p:style>
        <p:txBody>
          <a:bodyPr lIns="90000" rIns="90000" tIns="46800" bIns="46800" anchor="t">
            <a:noAutofit/>
          </a:bodyPr>
          <a:p>
            <a:pPr algn="ctr">
              <a:lnSpc>
                <a:spcPct val="115000"/>
              </a:lnSpc>
              <a:spcBef>
                <a:spcPts val="10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4000" spc="-1" strike="noStrike">
                <a:solidFill>
                  <a:srgbClr val="ffff00"/>
                </a:solidFill>
                <a:latin typeface="Calibri"/>
                <a:ea typeface="Calibri"/>
              </a:rPr>
              <a:t>Aggiornamento del servizio on-line richiesta/rilascio DURC</a:t>
            </a:r>
            <a:endParaRPr b="0" lang="en-US" sz="40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a:t>
            </a:r>
            <a:r>
              <a:rPr b="1" lang="it-IT" sz="3200" spc="-1" strike="noStrike" u="sng">
                <a:solidFill>
                  <a:srgbClr val="ccffff"/>
                </a:solidFill>
                <a:uFillTx/>
                <a:latin typeface="Calibri"/>
                <a:ea typeface="Calibri"/>
              </a:rPr>
              <a:t>L’INPS con la circolare n.59 del 28 marzo 2011</a:t>
            </a:r>
            <a:r>
              <a:rPr b="1" lang="it-IT" sz="3200" spc="-1" strike="noStrike">
                <a:solidFill>
                  <a:srgbClr val="ccffff"/>
                </a:solidFill>
                <a:latin typeface="Calibri"/>
                <a:ea typeface="Calibri"/>
              </a:rPr>
              <a:t> </a:t>
            </a:r>
            <a:r>
              <a:rPr b="1" lang="it-IT" sz="3200" spc="-1" strike="noStrike">
                <a:solidFill>
                  <a:srgbClr val="ffffff"/>
                </a:solidFill>
                <a:latin typeface="Calibri"/>
                <a:ea typeface="Calibri"/>
              </a:rPr>
              <a:t>ha completamente modificato la procedura per la richiesta ed al rilascio del DURC , informando che  </a:t>
            </a:r>
            <a:r>
              <a:rPr b="1" lang="it-IT" sz="3200" spc="-1" strike="noStrike">
                <a:solidFill>
                  <a:srgbClr val="ffff00"/>
                </a:solidFill>
                <a:latin typeface="Calibri"/>
                <a:ea typeface="Calibri"/>
              </a:rPr>
              <a:t>dal 28 marzo 2011</a:t>
            </a:r>
            <a:r>
              <a:rPr b="1" lang="it-IT" sz="3200" spc="-1" strike="noStrike">
                <a:solidFill>
                  <a:srgbClr val="ffffff"/>
                </a:solidFill>
                <a:latin typeface="Calibri"/>
                <a:ea typeface="Calibri"/>
              </a:rPr>
              <a:t> è disponibile l’applicazione dedicata alla richiesta, con  la nuova versione 4.0 che sostitutiva della precedente 3.5, accedendo a   </a:t>
            </a:r>
            <a:r>
              <a:rPr b="1" lang="it-IT" sz="3200" spc="-1" strike="noStrike" u="sng">
                <a:solidFill>
                  <a:srgbClr val="ffff00"/>
                </a:solidFill>
                <a:uFillTx/>
                <a:latin typeface="Calibri"/>
                <a:ea typeface="Calibri"/>
              </a:rPr>
              <a:t>www.sportellounicoprevidenziale.it</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79"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93A31-80C9-4BE3-B88C-C69F4DAE6B7E}"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0"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Text Box 1"/>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E2B946-F9BF-4688-BF76-07B81A9CE1E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348" name="Text Box 2"/>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Codice dei contratti pubblici</a:t>
            </a:r>
            <a:endParaRPr b="0" lang="en-US" sz="3600" spc="-1" strike="noStrike">
              <a:solidFill>
                <a:srgbClr val="ffffff"/>
              </a:solidFill>
              <a:latin typeface="Arial Rounded MT Bold"/>
            </a:endParaRPr>
          </a:p>
        </p:txBody>
      </p:sp>
      <p:sp>
        <p:nvSpPr>
          <p:cNvPr id="1349" name="Text Box 3"/>
          <p:cNvSpPr/>
          <p:nvPr/>
        </p:nvSpPr>
        <p:spPr>
          <a:xfrm>
            <a:off x="108000" y="836640"/>
            <a:ext cx="9036000" cy="5640480"/>
          </a:xfrm>
          <a:prstGeom prst="rect">
            <a:avLst/>
          </a:prstGeom>
          <a:noFill/>
          <a:ln w="0">
            <a:noFill/>
          </a:ln>
        </p:spPr>
        <p:style>
          <a:lnRef idx="0"/>
          <a:fillRef idx="0"/>
          <a:effectRef idx="0"/>
          <a:fontRef idx="minor"/>
        </p:style>
        <p:txBody>
          <a:bodyPr lIns="90000" rIns="90000" tIns="46800" bIns="46800" anchor="ctr">
            <a:noAutofit/>
          </a:bodyPr>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3200" spc="-1" strike="noStrike">
                <a:solidFill>
                  <a:srgbClr val="ffff00"/>
                </a:solidFill>
                <a:latin typeface="Calibri"/>
              </a:rPr>
              <a:t>VALORI DELLA SOGLIA INDIVIDUATI DALL’ U.E</a:t>
            </a:r>
            <a:r>
              <a:rPr b="1" lang="it-IT" sz="2800" spc="-1" strike="noStrike">
                <a:solidFill>
                  <a:srgbClr val="ffff00"/>
                </a:solidFill>
                <a:latin typeface="Calibri"/>
              </a:rPr>
              <a:t>.</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800" spc="-1" strike="noStrike">
                <a:solidFill>
                  <a:srgbClr val="ffff00"/>
                </a:solidFill>
                <a:latin typeface="Calibri"/>
              </a:rPr>
              <a:t>In vigore dal 1°gennaio 2012 al 31 dicembre 2013</a:t>
            </a:r>
            <a:endParaRPr b="0" lang="en-US" sz="2800" spc="-1" strike="noStrike">
              <a:solidFill>
                <a:srgbClr val="ffffff"/>
              </a:solidFill>
              <a:latin typeface="Arial Rounded MT Bold"/>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Rounded MT Bold"/>
            </a:endParaRPr>
          </a:p>
          <a:p>
            <a:pPr marL="343080" indent="-341640" algn="just">
              <a:lnSpc>
                <a:spcPct val="100000"/>
              </a:lnSpc>
              <a:spcBef>
                <a:spcPts val="499"/>
              </a:spcBef>
              <a:buClr>
                <a:srgbClr val="ff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L’Unione Europea ogni </a:t>
            </a:r>
            <a:r>
              <a:rPr b="1" lang="it-IT" sz="2000" spc="-1" strike="noStrike">
                <a:solidFill>
                  <a:srgbClr val="00cc99"/>
                </a:solidFill>
                <a:latin typeface="Calibri"/>
              </a:rPr>
              <a:t>due anni </a:t>
            </a:r>
            <a:r>
              <a:rPr b="1" lang="it-IT" sz="2000" spc="-1" strike="noStrike">
                <a:solidFill>
                  <a:srgbClr val="ffffff"/>
                </a:solidFill>
                <a:latin typeface="Calibri"/>
              </a:rPr>
              <a:t>indica  con proprio  </a:t>
            </a:r>
            <a:r>
              <a:rPr b="1" lang="it-IT" sz="2000" spc="-1" strike="noStrike">
                <a:solidFill>
                  <a:srgbClr val="ffffff"/>
                </a:solidFill>
                <a:latin typeface="Calibri"/>
              </a:rPr>
              <a:t>Regolamento</a:t>
            </a:r>
            <a:r>
              <a:rPr b="1" lang="it-IT" sz="2000" spc="-1" strike="noStrike">
                <a:solidFill>
                  <a:srgbClr val="66ffff"/>
                </a:solidFill>
                <a:latin typeface="Calibri"/>
              </a:rPr>
              <a:t> </a:t>
            </a:r>
            <a:r>
              <a:rPr b="1" lang="it-IT" sz="2000" spc="-1" strike="noStrike">
                <a:solidFill>
                  <a:srgbClr val="ffffff"/>
                </a:solidFill>
                <a:latin typeface="Calibri"/>
              </a:rPr>
              <a:t>la nuova sogli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del valore, il </a:t>
            </a:r>
            <a:r>
              <a:rPr b="1" lang="it-IT" sz="2000" spc="-1" strike="noStrike">
                <a:solidFill>
                  <a:srgbClr val="00cc99"/>
                </a:solidFill>
                <a:latin typeface="Calibri"/>
              </a:rPr>
              <a:t>Regolamento della Commissione Europea n. 1251/2011 del 30.11.2011</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ha indicato  a valere dal </a:t>
            </a:r>
            <a:r>
              <a:rPr b="1" lang="it-IT" sz="2000" spc="-1" strike="noStrike">
                <a:solidFill>
                  <a:srgbClr val="ffff00"/>
                </a:solidFill>
                <a:latin typeface="Calibri"/>
              </a:rPr>
              <a:t>1° GENNAIO 2012</a:t>
            </a:r>
            <a:r>
              <a:rPr b="1" lang="it-IT" sz="2000" spc="-1" strike="noStrike">
                <a:solidFill>
                  <a:srgbClr val="ffcc66"/>
                </a:solidFill>
                <a:latin typeface="Calibri"/>
              </a:rPr>
              <a:t>, </a:t>
            </a:r>
            <a:r>
              <a:rPr b="1" lang="it-IT" sz="2000" spc="-1" strike="noStrike">
                <a:solidFill>
                  <a:srgbClr val="ffffff"/>
                </a:solidFill>
                <a:latin typeface="Calibri"/>
              </a:rPr>
              <a:t>le seguenti soglie al netto  dell’iva per 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contratti  pubblici nei settori ordinari :</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4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1)</a:t>
            </a:r>
            <a:r>
              <a:rPr b="1" lang="it-IT" sz="2000" spc="-1" strike="noStrike">
                <a:solidFill>
                  <a:srgbClr val="ffffff"/>
                </a:solidFill>
                <a:latin typeface="Calibri"/>
              </a:rPr>
              <a:t>	</a:t>
            </a:r>
            <a:r>
              <a:rPr b="1" lang="it-IT" sz="2000" spc="-1" strike="noStrike">
                <a:solidFill>
                  <a:srgbClr val="ffff00"/>
                </a:solidFill>
                <a:latin typeface="Calibri"/>
              </a:rPr>
              <a:t>€.130.000 </a:t>
            </a:r>
            <a:r>
              <a:rPr b="1" lang="it-IT" sz="2000" spc="-1" strike="noStrike">
                <a:solidFill>
                  <a:srgbClr val="ffffff"/>
                </a:solidFill>
                <a:latin typeface="Calibri"/>
              </a:rPr>
              <a:t>per gli appalti di forniture e servizi aggiudicati dalle amministrazioni centrali dello Stato;</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2)</a:t>
            </a:r>
            <a:r>
              <a:rPr b="1" lang="it-IT" sz="2000" spc="-1" strike="noStrike">
                <a:solidFill>
                  <a:srgbClr val="ffffff"/>
                </a:solidFill>
                <a:latin typeface="Calibri"/>
              </a:rPr>
              <a:t>	</a:t>
            </a:r>
            <a:r>
              <a:rPr b="1" lang="it-IT" sz="2000" spc="-1" strike="noStrike">
                <a:solidFill>
                  <a:srgbClr val="ffff00"/>
                </a:solidFill>
                <a:latin typeface="Calibri"/>
              </a:rPr>
              <a:t>€.200.000 </a:t>
            </a:r>
            <a:r>
              <a:rPr b="1" lang="it-IT" sz="2000" spc="-1" strike="noStrike">
                <a:solidFill>
                  <a:srgbClr val="ffffff"/>
                </a:solidFill>
                <a:latin typeface="Calibri"/>
              </a:rPr>
              <a:t>per gli appalti di forniture e di servizi aggiudicati da altre stazioni appaltanti </a:t>
            </a:r>
            <a:r>
              <a:rPr b="1" lang="it-IT" sz="2000" spc="-1" strike="noStrike">
                <a:solidFill>
                  <a:srgbClr val="ffff00"/>
                </a:solidFill>
                <a:latin typeface="Calibri"/>
              </a:rPr>
              <a:t>(vi rientrano le II.SS.AA.);</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ffffff"/>
                </a:solidFill>
                <a:latin typeface="Calibri"/>
              </a:rPr>
              <a:t>3)  </a:t>
            </a:r>
            <a:r>
              <a:rPr b="1" lang="it-IT" sz="2000" spc="-1" strike="noStrike">
                <a:solidFill>
                  <a:srgbClr val="ffff00"/>
                </a:solidFill>
                <a:latin typeface="Calibri"/>
              </a:rPr>
              <a:t>€.5.000.000 </a:t>
            </a:r>
            <a:r>
              <a:rPr b="1" lang="it-IT" sz="2000" spc="-1" strike="noStrike">
                <a:solidFill>
                  <a:srgbClr val="ffffff"/>
                </a:solidFill>
                <a:latin typeface="Calibri"/>
              </a:rPr>
              <a:t>per gli appalti e per le concessioni di lavori pubblici.</a:t>
            </a:r>
            <a:endParaRPr b="0" lang="en-US" sz="2000" spc="-1" strike="noStrike">
              <a:solidFill>
                <a:srgbClr val="ffffff"/>
              </a:solidFill>
              <a:latin typeface="Arial Rounded MT Bold"/>
            </a:endParaRPr>
          </a:p>
          <a:p>
            <a:pPr marL="343080" indent="-341640" algn="just">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Rounded MT Bold"/>
            </a:endParaRPr>
          </a:p>
          <a:p>
            <a:pPr marL="343080" indent="-341640" algn="ctr">
              <a:lnSpc>
                <a:spcPct val="100000"/>
              </a:lnSpc>
              <a:spcBef>
                <a:spcPts val="499"/>
              </a:spcBef>
              <a:buClr>
                <a:srgbClr val="66ffff"/>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Per il biennio 2012/2013 la soglia di riferimento da tener presente in fase di </a:t>
            </a:r>
            <a:endParaRPr b="0" lang="en-US" sz="2000" spc="-1" strike="noStrike">
              <a:solidFill>
                <a:srgbClr val="ffffff"/>
              </a:solidFill>
              <a:latin typeface="Arial Rounded MT Bold"/>
            </a:endParaRPr>
          </a:p>
          <a:p>
            <a:pPr marL="343080" indent="-341640" algn="ctr">
              <a:lnSpc>
                <a:spcPct val="10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2000" spc="-1" strike="noStrike">
                <a:solidFill>
                  <a:srgbClr val="66ffff"/>
                </a:solidFill>
                <a:latin typeface="Calibri"/>
              </a:rPr>
              <a:t>appalto di servizi e forniture dalle II.SS.AA. è pari a </a:t>
            </a:r>
            <a:r>
              <a:rPr b="1" lang="it-IT" sz="2000" spc="-1" strike="noStrike" u="sng">
                <a:solidFill>
                  <a:srgbClr val="ffff00"/>
                </a:solidFill>
                <a:uFillTx/>
                <a:latin typeface="Calibri"/>
              </a:rPr>
              <a:t>€.200.000</a:t>
            </a:r>
            <a:endParaRPr b="0" lang="en-US" sz="2000" spc="-1" strike="noStrike">
              <a:solidFill>
                <a:srgbClr val="ffffff"/>
              </a:solidFill>
              <a:latin typeface="Arial Rounded MT Bol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Text Box 1"/>
          <p:cNvSpPr/>
          <p:nvPr/>
        </p:nvSpPr>
        <p:spPr>
          <a:xfrm>
            <a:off x="108000" y="692280"/>
            <a:ext cx="8856720" cy="6640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 </a:t>
            </a: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La nuova utenza stazione appaltante, infatti, consente al titolare (dirigente/responsabile) di rilasciare </a:t>
            </a:r>
            <a:r>
              <a:rPr b="1" lang="it-IT" sz="2800" spc="-1" strike="noStrike">
                <a:solidFill>
                  <a:srgbClr val="ffff00"/>
                </a:solidFill>
                <a:latin typeface="Calibri"/>
                <a:ea typeface="Times New Roman"/>
              </a:rPr>
              <a:t>“utenze delegate” </a:t>
            </a:r>
            <a:r>
              <a:rPr b="1" lang="it-IT" sz="2800" spc="-1" strike="noStrike">
                <a:solidFill>
                  <a:srgbClr val="ffffff"/>
                </a:solidFill>
                <a:latin typeface="Calibri"/>
                <a:ea typeface="Times New Roman"/>
              </a:rPr>
              <a:t>al personale, incardinato presso la struttura di cui è responsabile, che avrà il compito di effettuare le richieste di DURC in nome e per conto della struttura stessa.</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Il dirigente/responsabile della stazione appaltante rilascia le </a:t>
            </a:r>
            <a:r>
              <a:rPr b="1" lang="it-IT" sz="2800" spc="-1" strike="noStrike">
                <a:solidFill>
                  <a:srgbClr val="ffff00"/>
                </a:solidFill>
                <a:latin typeface="Calibri"/>
                <a:ea typeface="Times New Roman"/>
              </a:rPr>
              <a:t>“utenze delegate” </a:t>
            </a:r>
            <a:r>
              <a:rPr b="1" lang="it-IT" sz="2800" spc="-1" strike="noStrike">
                <a:solidFill>
                  <a:srgbClr val="ffffff"/>
                </a:solidFill>
                <a:latin typeface="Calibri"/>
                <a:ea typeface="Times New Roman"/>
              </a:rPr>
              <a:t>sotto la propria </a:t>
            </a:r>
            <a:r>
              <a:rPr b="1" lang="it-IT" sz="2800" spc="-1" strike="noStrike">
                <a:solidFill>
                  <a:srgbClr val="ffff00"/>
                </a:solidFill>
                <a:latin typeface="Calibri"/>
                <a:ea typeface="Times New Roman"/>
              </a:rPr>
              <a:t>personale, completa ed esclusiva responsabilit</a:t>
            </a:r>
            <a:r>
              <a:rPr b="1" lang="it-IT" sz="2800" spc="-1" strike="noStrike">
                <a:solidFill>
                  <a:srgbClr val="ffffff"/>
                </a:solidFill>
                <a:latin typeface="Calibri"/>
                <a:ea typeface="Times New Roman"/>
              </a:rPr>
              <a:t>à e deve provvedere all’aggiornamento dei dati dei propri “delegati” ed alla eventuale revoca dell’utenza rilasciata a questi ultimi.</a:t>
            </a:r>
            <a:endParaRPr b="0" lang="en-US" sz="2800" spc="-1" strike="noStrike">
              <a:solidFill>
                <a:srgbClr val="ffffff"/>
              </a:solidFill>
              <a:latin typeface="Arial Rounded MT Bold"/>
            </a:endParaRPr>
          </a:p>
          <a:p>
            <a:pPr algn="just">
              <a:lnSpc>
                <a:spcPct val="115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682"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992EF-16FC-4145-B9BB-E25BA2DCAF9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3" name="Text Box 3"/>
          <p:cNvSpPr/>
          <p:nvPr/>
        </p:nvSpPr>
        <p:spPr>
          <a:xfrm>
            <a:off x="685800" y="-9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Text Box 1"/>
          <p:cNvSpPr/>
          <p:nvPr/>
        </p:nvSpPr>
        <p:spPr>
          <a:xfrm>
            <a:off x="179280" y="404640"/>
            <a:ext cx="8856720" cy="706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 </a:t>
            </a: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Il nuovo sistema prevede che l’utenza stazione appaltante pubblica può </a:t>
            </a:r>
            <a:r>
              <a:rPr b="1" lang="it-IT" sz="2800" spc="-1" strike="noStrike">
                <a:solidFill>
                  <a:srgbClr val="ffff00"/>
                </a:solidFill>
                <a:latin typeface="Calibri"/>
                <a:ea typeface="Times New Roman"/>
              </a:rPr>
              <a:t>essere rilasciata esclusivamente al Dirigente/Responsabile della Struttura che opera come stazione appaltante pubblica o pubblica amministrazione procedente.</a:t>
            </a:r>
            <a:endParaRPr b="0" lang="en-US" sz="2800" spc="-1" strike="noStrike">
              <a:solidFill>
                <a:srgbClr val="ffffff"/>
              </a:solidFill>
              <a:latin typeface="Arial Rounded MT Bold"/>
            </a:endParaRPr>
          </a:p>
          <a:p>
            <a:pPr algn="just">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ea typeface="Times New Roman"/>
              </a:rPr>
              <a:t>Al momento del rilascio dell’utenza, il sistema produce una ricevuta contenente, oltre al codice utente del richiedente (codice fiscale alfanumerico) ed alla password provvisoria (da aggiornare al primo accesso), le istruzioni per completare l’accreditamento e quelle per la creazione/gestione delle utenze in capo ai singoli operatori della struttura.</a:t>
            </a:r>
            <a:endParaRPr b="0" lang="en-US" sz="2800" spc="-1" strike="noStrike">
              <a:solidFill>
                <a:srgbClr val="ffffff"/>
              </a:solidFill>
              <a:latin typeface="Arial Rounded MT Bold"/>
            </a:endParaRPr>
          </a:p>
          <a:p>
            <a:pPr algn="just">
              <a:lnSpc>
                <a:spcPct val="115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a:p>
            <a:pPr>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ffffff"/>
              </a:solidFill>
              <a:latin typeface="Arial Rounded MT Bold"/>
            </a:endParaRPr>
          </a:p>
        </p:txBody>
      </p:sp>
      <p:sp>
        <p:nvSpPr>
          <p:cNvPr id="1685"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A107D5-6E23-490C-9C82-9D1B4DA659A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6" name="Text Box 3"/>
          <p:cNvSpPr/>
          <p:nvPr/>
        </p:nvSpPr>
        <p:spPr>
          <a:xfrm>
            <a:off x="685800" y="-11736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Text Box 1"/>
          <p:cNvSpPr/>
          <p:nvPr/>
        </p:nvSpPr>
        <p:spPr>
          <a:xfrm>
            <a:off x="179280" y="404640"/>
            <a:ext cx="8785440" cy="690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Aggiornamento del servizio on-line </a:t>
            </a:r>
            <a:endParaRPr b="0" lang="en-US" sz="3200" spc="-1" strike="noStrike">
              <a:solidFill>
                <a:srgbClr val="ffffff"/>
              </a:solidFill>
              <a:latin typeface="Arial Rounded MT Bold"/>
            </a:endParaRPr>
          </a:p>
          <a:p>
            <a:pPr algn="ct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ea typeface="Calibri"/>
              </a:rPr>
              <a:t>richiesta/rilascio DURC</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Al primo accesso, il sistema chiede all’utenza di verificare i dati personali, di </a:t>
            </a:r>
            <a:r>
              <a:rPr b="1" lang="it-IT" sz="3200" spc="-1" strike="noStrike">
                <a:solidFill>
                  <a:srgbClr val="ffff00"/>
                </a:solidFill>
                <a:latin typeface="Calibri"/>
                <a:ea typeface="Calibri"/>
              </a:rPr>
              <a:t>cambiare la password</a:t>
            </a:r>
            <a:r>
              <a:rPr b="1" lang="it-IT" sz="3200" spc="-1" strike="noStrike">
                <a:solidFill>
                  <a:srgbClr val="ffffff"/>
                </a:solidFill>
                <a:latin typeface="Calibri"/>
                <a:ea typeface="Calibri"/>
              </a:rPr>
              <a:t> e ,quindi, procedere al nuovo accesso, seguendo il percorso predisposto.</a:t>
            </a:r>
            <a:endParaRPr b="0" lang="en-US" sz="3200" spc="-1" strike="noStrike">
              <a:solidFill>
                <a:srgbClr val="ffffff"/>
              </a:solidFill>
              <a:latin typeface="Arial Rounded MT Bold"/>
            </a:endParaRPr>
          </a:p>
          <a:p>
            <a:pPr algn="just">
              <a:lnSpc>
                <a:spcPct val="115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ff"/>
                </a:solidFill>
                <a:latin typeface="Calibri"/>
                <a:ea typeface="Calibri"/>
              </a:rPr>
              <a:t>- Per agevolare gli utenti, sul sito sono disponibili (percorso: “Info” “Informazioni sulla procedura”) i </a:t>
            </a:r>
            <a:r>
              <a:rPr b="1" lang="it-IT" sz="3200" spc="-1" strike="noStrike">
                <a:solidFill>
                  <a:srgbClr val="ffff00"/>
                </a:solidFill>
                <a:latin typeface="Calibri"/>
                <a:ea typeface="Calibri"/>
              </a:rPr>
              <a:t>nuovi modelli </a:t>
            </a:r>
            <a:r>
              <a:rPr b="1" lang="it-IT" sz="3200" spc="-1" strike="noStrike">
                <a:solidFill>
                  <a:srgbClr val="ffffff"/>
                </a:solidFill>
                <a:latin typeface="Calibri"/>
                <a:ea typeface="Calibri"/>
              </a:rPr>
              <a:t>che indicano i dati necessari per effettuare la richiesta telematica (allegato 3, modello quadri A, B e C e relative “istruzioni”).</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88"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B6968A-CC85-4122-9279-D5E6241A196C}"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89" name="Text Box 3"/>
          <p:cNvSpPr/>
          <p:nvPr/>
        </p:nvSpPr>
        <p:spPr>
          <a:xfrm>
            <a:off x="685800" y="-82440"/>
            <a:ext cx="7772400" cy="641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600" spc="-1" strike="noStrike">
                <a:solidFill>
                  <a:srgbClr val="ffc000"/>
                </a:solidFill>
                <a:latin typeface="Arial"/>
              </a:rPr>
              <a:t>DURC…Istruzioni per l’uso…</a:t>
            </a:r>
            <a:endParaRPr b="0" lang="en-US" sz="3600" spc="-1" strike="noStrike">
              <a:solidFill>
                <a:srgbClr val="ffffff"/>
              </a:solidFill>
              <a:latin typeface="Arial Rounded MT Bol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Text Box 1"/>
          <p:cNvSpPr/>
          <p:nvPr/>
        </p:nvSpPr>
        <p:spPr>
          <a:xfrm>
            <a:off x="108000" y="692280"/>
            <a:ext cx="8856720" cy="6529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3200" spc="-1" strike="noStrike">
                <a:solidFill>
                  <a:srgbClr val="ffff00"/>
                </a:solidFill>
                <a:latin typeface="Calibri"/>
              </a:rPr>
              <a:t>L’AVCP</a:t>
            </a:r>
            <a:r>
              <a:rPr b="1" lang="it-IT" sz="3200" spc="-1" strike="noStrike">
                <a:solidFill>
                  <a:srgbClr val="ffffff"/>
                </a:solidFill>
                <a:latin typeface="Calibri"/>
              </a:rPr>
              <a:t> ha fornito istruzioni sulla tracciabilità dei flussi finanziari, pubblicando la </a:t>
            </a:r>
            <a:r>
              <a:rPr b="1" lang="it-IT" sz="3200" spc="-1" strike="noStrike">
                <a:solidFill>
                  <a:srgbClr val="ffff00"/>
                </a:solidFill>
                <a:latin typeface="Calibri"/>
              </a:rPr>
              <a:t>Determinazione n. 8 del 18 novembre 2010</a:t>
            </a:r>
            <a:r>
              <a:rPr b="1" lang="it-IT" sz="3200" spc="-1" strike="noStrike">
                <a:solidFill>
                  <a:srgbClr val="ffffff"/>
                </a:solidFill>
                <a:latin typeface="Calibri"/>
              </a:rPr>
              <a:t> </a:t>
            </a:r>
            <a:r>
              <a:rPr b="1" lang="it-IT" sz="3200" spc="-1" strike="noStrike">
                <a:solidFill>
                  <a:srgbClr val="ffff00"/>
                </a:solidFill>
                <a:latin typeface="Calibri"/>
              </a:rPr>
              <a:t>“</a:t>
            </a:r>
            <a:r>
              <a:rPr b="1" lang="it-IT" sz="3200" spc="-1" strike="noStrike" u="sng">
                <a:solidFill>
                  <a:srgbClr val="ffff00"/>
                </a:solidFill>
                <a:uFillTx/>
                <a:latin typeface="Calibri"/>
              </a:rPr>
              <a:t>Prime indicazioni sulla tracciabilità finanziaria</a:t>
            </a:r>
            <a:r>
              <a:rPr b="1" lang="it-IT" sz="3200" spc="-1" strike="noStrike">
                <a:solidFill>
                  <a:srgbClr val="ffff00"/>
                </a:solidFill>
                <a:latin typeface="Calibri"/>
              </a:rPr>
              <a:t>” </a:t>
            </a:r>
            <a:r>
              <a:rPr b="1" lang="it-IT" sz="3200" spc="-1" strike="noStrike">
                <a:solidFill>
                  <a:srgbClr val="ffffff"/>
                </a:solidFill>
                <a:latin typeface="Calibri"/>
              </a:rPr>
              <a:t>ex art. 3, legge 13 agosto 2010 n. 136, come modificata dal D.L. n. 187 del 12 novembre 2010. Successivamente </a:t>
            </a:r>
            <a:r>
              <a:rPr b="1" lang="it-IT" sz="3200" spc="-1" strike="noStrike">
                <a:solidFill>
                  <a:srgbClr val="ffff00"/>
                </a:solidFill>
                <a:latin typeface="Calibri"/>
              </a:rPr>
              <a:t>L’AVCP </a:t>
            </a:r>
            <a:r>
              <a:rPr b="1" lang="it-IT" sz="3200" spc="-1" strike="noStrike">
                <a:solidFill>
                  <a:srgbClr val="ffffff"/>
                </a:solidFill>
                <a:latin typeface="Calibri"/>
              </a:rPr>
              <a:t>ha adottato la </a:t>
            </a:r>
            <a:r>
              <a:rPr b="1" lang="it-IT" sz="3200" spc="-1" strike="noStrike">
                <a:solidFill>
                  <a:srgbClr val="ffff00"/>
                </a:solidFill>
                <a:latin typeface="Calibri"/>
              </a:rPr>
              <a:t>Determinazione</a:t>
            </a:r>
            <a:r>
              <a:rPr b="1" lang="it-IT" sz="3200" spc="-1" strike="noStrike">
                <a:solidFill>
                  <a:srgbClr val="ffffff"/>
                </a:solidFill>
                <a:latin typeface="Calibri"/>
              </a:rPr>
              <a:t> </a:t>
            </a:r>
            <a:r>
              <a:rPr b="1" lang="it-IT" sz="3200" spc="-1" strike="noStrike">
                <a:solidFill>
                  <a:srgbClr val="ffff00"/>
                </a:solidFill>
                <a:latin typeface="Calibri"/>
              </a:rPr>
              <a:t>n. 10 del 22 dicembre 2010</a:t>
            </a:r>
            <a:r>
              <a:rPr b="1" lang="it-IT" sz="3200" spc="-1" strike="noStrike">
                <a:solidFill>
                  <a:srgbClr val="ffffff"/>
                </a:solidFill>
                <a:latin typeface="Calibri"/>
              </a:rPr>
              <a:t> </a:t>
            </a:r>
            <a:r>
              <a:rPr b="1" lang="it-IT" sz="3200" spc="-1" strike="noStrike">
                <a:solidFill>
                  <a:srgbClr val="ffff00"/>
                </a:solidFill>
                <a:latin typeface="Calibri"/>
              </a:rPr>
              <a:t>“</a:t>
            </a:r>
            <a:r>
              <a:rPr b="1" lang="it-IT" sz="3200" spc="-1" strike="noStrike" u="sng">
                <a:solidFill>
                  <a:srgbClr val="ffff00"/>
                </a:solidFill>
                <a:uFillTx/>
                <a:latin typeface="Calibri"/>
              </a:rPr>
              <a:t>Ulteriori indicazioni sulla tracciabilità dei flussi finanziari</a:t>
            </a:r>
            <a:r>
              <a:rPr b="1" lang="it-IT" sz="3200" spc="-1" strike="noStrike">
                <a:solidFill>
                  <a:srgbClr val="ffff00"/>
                </a:solidFill>
                <a:latin typeface="Calibri"/>
              </a:rPr>
              <a:t>” </a:t>
            </a:r>
            <a:r>
              <a:rPr b="1" lang="it-IT" sz="3200" spc="-1" strike="noStrike">
                <a:solidFill>
                  <a:srgbClr val="ffffff"/>
                </a:solidFill>
                <a:latin typeface="Calibri"/>
              </a:rPr>
              <a:t>ex</a:t>
            </a:r>
            <a:r>
              <a:rPr b="1" lang="it-IT" sz="3200" spc="-1" strike="noStrike">
                <a:solidFill>
                  <a:srgbClr val="ffff00"/>
                </a:solidFill>
                <a:latin typeface="Calibri"/>
              </a:rPr>
              <a:t> </a:t>
            </a:r>
            <a:r>
              <a:rPr b="1" lang="it-IT" sz="3200" spc="-1" strike="noStrike">
                <a:solidFill>
                  <a:srgbClr val="ffffff"/>
                </a:solidFill>
                <a:latin typeface="Calibri"/>
              </a:rPr>
              <a:t>art. 3, legge 13 agosto 2010 n.136, come modificata dal D.L. n. 187 del 12 novembre 2010 convertito in legge, con modificazioni, dalla legge n. 217 del 17/12/ 2010.</a:t>
            </a:r>
            <a:endParaRPr b="0" lang="en-US" sz="3200" spc="-1" strike="noStrike">
              <a:solidFill>
                <a:srgbClr val="ffffff"/>
              </a:solidFill>
              <a:latin typeface="Arial Rounded MT Bold"/>
            </a:endParaRPr>
          </a:p>
          <a:p>
            <a:pPr>
              <a:lnSpc>
                <a:spcPct val="100000"/>
              </a:lnSpc>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3200" spc="-1" strike="noStrike">
              <a:solidFill>
                <a:srgbClr val="ffffff"/>
              </a:solidFill>
              <a:latin typeface="Arial Rounded MT Bold"/>
            </a:endParaRPr>
          </a:p>
        </p:txBody>
      </p:sp>
      <p:sp>
        <p:nvSpPr>
          <p:cNvPr id="1691"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F83009-65BD-4430-8D8F-76D47F10C4BF}"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2" name="Text Box 3"/>
          <p:cNvSpPr/>
          <p:nvPr/>
        </p:nvSpPr>
        <p:spPr>
          <a:xfrm>
            <a:off x="685800" y="0"/>
            <a:ext cx="777240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Text Box 1"/>
          <p:cNvSpPr/>
          <p:nvPr/>
        </p:nvSpPr>
        <p:spPr>
          <a:xfrm>
            <a:off x="250920" y="907920"/>
            <a:ext cx="8642160" cy="607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Ai sensi di tali normative sussiste la previsione, </a:t>
            </a:r>
            <a:r>
              <a:rPr b="1" lang="it-IT" sz="2800" spc="-1" strike="noStrike">
                <a:solidFill>
                  <a:srgbClr val="ffff00"/>
                </a:solidFill>
                <a:latin typeface="Calibri"/>
              </a:rPr>
              <a:t>in relazione a ciascuna transazione, di un codice identificativo di gara CIG </a:t>
            </a:r>
            <a:r>
              <a:rPr b="1" lang="it-IT" sz="2800" spc="-1" strike="noStrike">
                <a:solidFill>
                  <a:srgbClr val="ffffff"/>
                </a:solidFill>
                <a:latin typeface="Calibri"/>
              </a:rPr>
              <a:t>e, ove obbligatorio ai sensi della legge 16 gennaio 2003 n. 3, </a:t>
            </a:r>
            <a:r>
              <a:rPr b="1" lang="it-IT" sz="2800" spc="-1" strike="noStrike">
                <a:solidFill>
                  <a:srgbClr val="ffff00"/>
                </a:solidFill>
                <a:latin typeface="Calibri"/>
              </a:rPr>
              <a:t>di un codice unico di progetto CUP</a:t>
            </a:r>
            <a:r>
              <a:rPr b="1" lang="it-IT" sz="2800" spc="-1" strike="noStrike">
                <a:solidFill>
                  <a:srgbClr val="ffffff"/>
                </a:solidFill>
                <a:latin typeface="Calibri"/>
              </a:rPr>
              <a:t> da riportare all’interno del bonifico bancario o postale.</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l CIG  -CODICE IDENTIFICATIVO DI GARA- </a:t>
            </a:r>
            <a:r>
              <a:rPr b="1" lang="it-IT" sz="2800" spc="-1" strike="noStrike">
                <a:solidFill>
                  <a:srgbClr val="ffffff"/>
                </a:solidFill>
                <a:latin typeface="Calibri"/>
              </a:rPr>
              <a:t>  rappresenta il codice che identifica il singolo affidamento nell’ambito del progetto, a fronte del quale si esegue il pagamento;</a:t>
            </a:r>
            <a:endParaRPr b="0" lang="en-US" sz="2800" spc="-1" strike="noStrike">
              <a:solidFill>
                <a:srgbClr val="ffffff"/>
              </a:solidFill>
              <a:latin typeface="Arial Rounded MT Bold"/>
            </a:endParaRPr>
          </a:p>
          <a:p>
            <a:pPr algn="just">
              <a:lnSpc>
                <a:spcPct val="100000"/>
              </a:lnSpc>
              <a:buClr>
                <a:srgbClr val="3366ff"/>
              </a:buClr>
              <a:buFont typeface="Wingdings" charset="2"/>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00"/>
                </a:solidFill>
                <a:latin typeface="Calibri"/>
              </a:rPr>
              <a:t>il CUP -CODICE UNICO DI PROGETTO-</a:t>
            </a:r>
            <a:r>
              <a:rPr b="1" lang="it-IT" sz="2800" spc="-1" strike="noStrike">
                <a:solidFill>
                  <a:srgbClr val="ffffff"/>
                </a:solidFill>
                <a:latin typeface="Calibri"/>
              </a:rPr>
              <a:t>  è necessario per assicurare la funzionalità della rete di monitoraggio degli investimenti pubblici, in riferimento ad ogni nuovo progetto di investimento pubblico</a:t>
            </a:r>
            <a:r>
              <a:rPr b="0" lang="it-IT" sz="2400" spc="-1" strike="noStrike">
                <a:solidFill>
                  <a:srgbClr val="ffffff"/>
                </a:solidFill>
                <a:latin typeface="Times New Roman"/>
              </a:rPr>
              <a:t>. </a:t>
            </a:r>
            <a:endParaRPr b="0" lang="en-US" sz="2400" spc="-1" strike="noStrike">
              <a:solidFill>
                <a:srgbClr val="ffffff"/>
              </a:solidFill>
              <a:latin typeface="Arial Rounded MT Bold"/>
            </a:endParaRPr>
          </a:p>
          <a:p>
            <a:pPr>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ffffff"/>
              </a:solidFill>
              <a:latin typeface="Arial Rounded MT Bold"/>
            </a:endParaRPr>
          </a:p>
        </p:txBody>
      </p:sp>
      <p:sp>
        <p:nvSpPr>
          <p:cNvPr id="1694"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38DAC-5F52-4698-876E-3488B6DC22F0}"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5" name="Text Box 3"/>
          <p:cNvSpPr/>
          <p:nvPr/>
        </p:nvSpPr>
        <p:spPr>
          <a:xfrm>
            <a:off x="685800" y="0"/>
            <a:ext cx="7772400" cy="981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Text Box 1"/>
          <p:cNvSpPr/>
          <p:nvPr/>
        </p:nvSpPr>
        <p:spPr>
          <a:xfrm>
            <a:off x="324000" y="836640"/>
            <a:ext cx="8208720" cy="617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ff"/>
                </a:solidFill>
                <a:latin typeface="Calibri"/>
              </a:rPr>
              <a:t>La </a:t>
            </a:r>
            <a:r>
              <a:rPr b="1" lang="it-IT" sz="2500" spc="-1" strike="noStrike">
                <a:solidFill>
                  <a:srgbClr val="ffff00"/>
                </a:solidFill>
                <a:latin typeface="Calibri"/>
              </a:rPr>
              <a:t>richiesta del CUP è obbligatoria</a:t>
            </a:r>
            <a:r>
              <a:rPr b="1" lang="it-IT" sz="2500" spc="-1" strike="noStrike">
                <a:solidFill>
                  <a:srgbClr val="ffffff"/>
                </a:solidFill>
                <a:latin typeface="Calibri"/>
              </a:rPr>
              <a:t>, a prescindere dall’importo e dalla natura della spesa (corrente o in conto capitale), per un </a:t>
            </a:r>
            <a:r>
              <a:rPr b="1" lang="it-IT" sz="2500" spc="-1" strike="noStrike">
                <a:solidFill>
                  <a:srgbClr val="ffff00"/>
                </a:solidFill>
                <a:latin typeface="Calibri"/>
              </a:rPr>
              <a:t>“Progetto di investimento pubblico” </a:t>
            </a:r>
            <a:r>
              <a:rPr b="1" lang="it-IT" sz="2500" spc="-1" strike="noStrike">
                <a:solidFill>
                  <a:srgbClr val="ffffff"/>
                </a:solidFill>
                <a:latin typeface="Calibri"/>
              </a:rPr>
              <a:t>(articolo 11, legge n. 3/2003), cioè quando si sia in presenza di un </a:t>
            </a:r>
            <a:r>
              <a:rPr b="1" lang="it-IT" sz="2500" spc="-1" strike="noStrike">
                <a:solidFill>
                  <a:srgbClr val="ffff00"/>
                </a:solidFill>
                <a:latin typeface="Calibri"/>
              </a:rPr>
              <a:t>complesso di azioni e/o strumenti </a:t>
            </a:r>
            <a:r>
              <a:rPr b="1" lang="it-IT" sz="2500" spc="-1" strike="noStrike">
                <a:solidFill>
                  <a:srgbClr val="ffffff"/>
                </a:solidFill>
                <a:latin typeface="Calibri"/>
              </a:rPr>
              <a:t>di sostegno, relativi ad un </a:t>
            </a:r>
            <a:r>
              <a:rPr b="1" lang="it-IT" sz="2500" spc="-1" strike="noStrike">
                <a:solidFill>
                  <a:srgbClr val="ffff00"/>
                </a:solidFill>
                <a:latin typeface="Calibri"/>
              </a:rPr>
              <a:t>medesimo quadro economico di spesa</a:t>
            </a:r>
            <a:r>
              <a:rPr b="1" lang="it-IT" sz="2500" spc="-1" strike="noStrike">
                <a:solidFill>
                  <a:srgbClr val="ffffff"/>
                </a:solidFill>
                <a:latin typeface="Calibri"/>
              </a:rPr>
              <a:t>, tra di loro</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collegati da 4 elementi </a:t>
            </a:r>
            <a:r>
              <a:rPr b="1" lang="it-IT" sz="2500" spc="-1" strike="noStrike">
                <a:solidFill>
                  <a:srgbClr val="ffffff"/>
                </a:solidFill>
                <a:latin typeface="Calibri"/>
              </a:rPr>
              <a:t>imprescindibili:</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1) </a:t>
            </a:r>
            <a:r>
              <a:rPr b="1" lang="it-IT" sz="2500" spc="-1" strike="noStrike">
                <a:solidFill>
                  <a:srgbClr val="00ffff"/>
                </a:solidFill>
                <a:latin typeface="Calibri"/>
              </a:rPr>
              <a:t>la presenza di un decisore pubblico;</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2) </a:t>
            </a:r>
            <a:r>
              <a:rPr b="1" lang="it-IT" sz="2500" spc="-1" strike="noStrike">
                <a:solidFill>
                  <a:srgbClr val="00ffff"/>
                </a:solidFill>
                <a:latin typeface="Calibri"/>
              </a:rPr>
              <a:t>la previsione di un finanziamento, anche non prevalent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diretto o indiretto, tramite risorse pubblich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ffff00"/>
                </a:solidFill>
                <a:latin typeface="Calibri"/>
              </a:rPr>
              <a:t>3) </a:t>
            </a:r>
            <a:r>
              <a:rPr b="1" lang="it-IT" sz="2500" spc="-1" strike="noStrike">
                <a:solidFill>
                  <a:srgbClr val="00ffff"/>
                </a:solidFill>
                <a:latin typeface="Calibri"/>
              </a:rPr>
              <a:t>la presenza di un obiettivo di sviluppo economico e</a:t>
            </a:r>
            <a:endParaRPr b="0" lang="en-US" sz="25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sociale comune alle azioni e/o agli strumenti di sostegno</a:t>
            </a:r>
            <a:endParaRPr b="0" lang="en-US" sz="25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predetti;</a:t>
            </a:r>
            <a:br>
              <a:rPr sz="2500"/>
            </a:br>
            <a:r>
              <a:rPr b="1" lang="it-IT" sz="2500" spc="-1" strike="noStrike">
                <a:solidFill>
                  <a:srgbClr val="ffff00"/>
                </a:solidFill>
                <a:latin typeface="Calibri"/>
              </a:rPr>
              <a:t>4) </a:t>
            </a:r>
            <a:r>
              <a:rPr b="1" lang="it-IT" sz="2500" spc="-1" strike="noStrike">
                <a:solidFill>
                  <a:srgbClr val="00ffff"/>
                </a:solidFill>
                <a:latin typeface="Calibri"/>
              </a:rPr>
              <a:t>la previsione di un termine entro il quale debba essere</a:t>
            </a:r>
            <a:endParaRPr b="0" lang="en-US" sz="25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500" spc="-1" strike="noStrike">
                <a:solidFill>
                  <a:srgbClr val="00ffff"/>
                </a:solidFill>
                <a:latin typeface="Calibri"/>
              </a:rPr>
              <a:t>    </a:t>
            </a:r>
            <a:r>
              <a:rPr b="1" lang="it-IT" sz="2500" spc="-1" strike="noStrike">
                <a:solidFill>
                  <a:srgbClr val="00ffff"/>
                </a:solidFill>
                <a:latin typeface="Calibri"/>
              </a:rPr>
              <a:t>raggiunto l’obiettivo.</a:t>
            </a:r>
            <a:br>
              <a:rPr sz="2400"/>
            </a:br>
            <a:endParaRPr b="0" lang="en-US" sz="2500" spc="-1" strike="noStrike">
              <a:solidFill>
                <a:srgbClr val="ffffff"/>
              </a:solidFill>
              <a:latin typeface="Arial Rounded MT Bold"/>
            </a:endParaRPr>
          </a:p>
        </p:txBody>
      </p:sp>
      <p:sp>
        <p:nvSpPr>
          <p:cNvPr id="1697"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04F3A-88A0-4A4F-89E0-770D568231B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698"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1"/>
          <p:cNvSpPr/>
          <p:nvPr/>
        </p:nvSpPr>
        <p:spPr>
          <a:xfrm>
            <a:off x="250920" y="836640"/>
            <a:ext cx="8642160" cy="6213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Prima della legge </a:t>
            </a:r>
            <a:r>
              <a:rPr b="1" lang="it-IT" sz="2800" spc="-1" strike="noStrike">
                <a:solidFill>
                  <a:srgbClr val="ffff00"/>
                </a:solidFill>
                <a:latin typeface="Calibri"/>
              </a:rPr>
              <a:t>n. 136/ 2010</a:t>
            </a:r>
            <a:r>
              <a:rPr b="1" lang="it-IT" sz="2800" spc="-1" strike="noStrike">
                <a:solidFill>
                  <a:srgbClr val="ffffff"/>
                </a:solidFill>
                <a:latin typeface="Calibri"/>
              </a:rPr>
              <a:t>, il </a:t>
            </a:r>
            <a:r>
              <a:rPr b="1" lang="it-IT" sz="2800" spc="-1" strike="noStrike">
                <a:solidFill>
                  <a:srgbClr val="ffff00"/>
                </a:solidFill>
                <a:latin typeface="Calibri"/>
              </a:rPr>
              <a:t>CIG</a:t>
            </a:r>
            <a:r>
              <a:rPr b="1" lang="it-IT" sz="2800" spc="-1" strike="noStrike">
                <a:solidFill>
                  <a:srgbClr val="ffffff"/>
                </a:solidFill>
                <a:latin typeface="Calibri"/>
              </a:rPr>
              <a:t> veniva utilizzato al fine di vigilare sulla regolarità delle procedure di affidamento dei contratti pubblici sottoposti alla vigilanza dell’Autorità.</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br>
              <a:rPr sz="1600"/>
            </a:br>
            <a:r>
              <a:rPr b="1" lang="it-IT" sz="2800" spc="-1" strike="noStrike">
                <a:solidFill>
                  <a:srgbClr val="ffffff"/>
                </a:solidFill>
                <a:latin typeface="Calibri"/>
              </a:rPr>
              <a:t>Il </a:t>
            </a:r>
            <a:r>
              <a:rPr b="1" lang="it-IT" sz="2800" spc="-1" strike="noStrike">
                <a:solidFill>
                  <a:srgbClr val="ffff00"/>
                </a:solidFill>
                <a:latin typeface="Calibri"/>
              </a:rPr>
              <a:t>CIG</a:t>
            </a:r>
            <a:r>
              <a:rPr b="1" lang="it-IT" sz="2800" spc="-1" strike="noStrike">
                <a:solidFill>
                  <a:srgbClr val="ffffff"/>
                </a:solidFill>
                <a:latin typeface="Calibri"/>
              </a:rPr>
              <a:t> è divenuto ora lo strumento, insieme al </a:t>
            </a:r>
            <a:r>
              <a:rPr b="1" lang="it-IT" sz="2800" spc="-1" strike="noStrike">
                <a:solidFill>
                  <a:srgbClr val="ffff00"/>
                </a:solidFill>
                <a:latin typeface="Calibri"/>
              </a:rPr>
              <a:t>CUP</a:t>
            </a:r>
            <a:r>
              <a:rPr b="1" lang="it-IT" sz="2800" spc="-1" strike="noStrike">
                <a:solidFill>
                  <a:srgbClr val="ffffff"/>
                </a:solidFill>
                <a:latin typeface="Calibri"/>
              </a:rPr>
              <a:t>, su cui è imperniato il sistema della tracciabilità dei flussi di pagamento.</a:t>
            </a:r>
            <a:endParaRPr b="0" lang="en-US" sz="2800" spc="-1" strike="noStrike">
              <a:solidFill>
                <a:srgbClr val="ffffff"/>
              </a:solidFill>
              <a:latin typeface="Arial Rounded MT Bold"/>
            </a:endParaRPr>
          </a:p>
          <a:p>
            <a:pPr>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600" spc="-1" strike="noStrike">
              <a:solidFill>
                <a:srgbClr val="ffffff"/>
              </a:solidFill>
              <a:latin typeface="Arial Rounded MT Bold"/>
            </a:endParaRPr>
          </a:p>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it-IT" sz="2800" spc="-1" strike="noStrike">
                <a:solidFill>
                  <a:srgbClr val="ffffff"/>
                </a:solidFill>
                <a:latin typeface="Calibri"/>
              </a:rPr>
              <a:t>I </a:t>
            </a:r>
            <a:r>
              <a:rPr b="1" lang="it-IT" sz="2800" spc="-1" strike="noStrike">
                <a:solidFill>
                  <a:srgbClr val="ffff00"/>
                </a:solidFill>
                <a:latin typeface="Calibri"/>
              </a:rPr>
              <a:t>due codici </a:t>
            </a:r>
            <a:r>
              <a:rPr b="1" lang="it-IT" sz="2800" spc="-1" strike="noStrike">
                <a:solidFill>
                  <a:srgbClr val="ffffff"/>
                </a:solidFill>
                <a:latin typeface="Calibri"/>
              </a:rPr>
              <a:t>rispondono ad esigenze diverse, ma sono finalizzati allo stesso obiettivo che è quello della </a:t>
            </a:r>
            <a:r>
              <a:rPr b="1" lang="it-IT" sz="2800" spc="-1" strike="noStrike">
                <a:solidFill>
                  <a:srgbClr val="ffff00"/>
                </a:solidFill>
                <a:latin typeface="Calibri"/>
              </a:rPr>
              <a:t>tracciabilità</a:t>
            </a:r>
            <a:r>
              <a:rPr b="1" lang="it-IT" sz="2800" spc="-1" strike="noStrike">
                <a:solidFill>
                  <a:srgbClr val="ffffff"/>
                </a:solidFill>
                <a:latin typeface="Calibri"/>
              </a:rPr>
              <a:t> dei flussi finanziari negli appalti pubblici per combattere le possibili infiltrazioni criminali nella filiera dei soggetti partecipanti ai lavori</a:t>
            </a:r>
            <a:r>
              <a:rPr b="0" lang="it-IT" sz="2800" spc="-1" strike="noStrike">
                <a:solidFill>
                  <a:srgbClr val="ffffff"/>
                </a:solidFill>
                <a:latin typeface="Times New Roman"/>
              </a:rPr>
              <a:t>.</a:t>
            </a:r>
            <a:endParaRPr b="0" lang="en-US" sz="2800" spc="-1" strike="noStrike">
              <a:solidFill>
                <a:srgbClr val="ffffff"/>
              </a:solidFill>
              <a:latin typeface="Arial Rounded MT Bold"/>
            </a:endParaRPr>
          </a:p>
          <a:p>
            <a:pPr>
              <a:lnSpc>
                <a:spcPct val="100000"/>
              </a:lnSpc>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ffffff"/>
              </a:solidFill>
              <a:latin typeface="Arial Rounded MT Bold"/>
            </a:endParaRPr>
          </a:p>
        </p:txBody>
      </p:sp>
      <p:sp>
        <p:nvSpPr>
          <p:cNvPr id="1700" name="Text Box 2"/>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CE440-0F61-425C-A2A8-9FE189F7CDA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01" name="Text Box 3"/>
          <p:cNvSpPr/>
          <p:nvPr/>
        </p:nvSpPr>
        <p:spPr>
          <a:xfrm>
            <a:off x="685800" y="0"/>
            <a:ext cx="7772400" cy="907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
          <p:cNvSpPr txBox="1"/>
          <p:nvPr/>
        </p:nvSpPr>
        <p:spPr>
          <a:xfrm>
            <a:off x="0" y="836640"/>
            <a:ext cx="8964720" cy="5688000"/>
          </a:xfrm>
          <a:prstGeom prst="rect">
            <a:avLst/>
          </a:prstGeom>
          <a:noFill/>
          <a:ln w="0">
            <a:noFill/>
          </a:ln>
        </p:spPr>
        <p:txBody>
          <a:bodyPr lIns="90000" rIns="90000" tIns="46800" bIns="46800" anchor="t">
            <a:normAutofit fontScale="99000"/>
          </a:bodyPr>
          <a:p>
            <a:pPr marL="339480" indent="-3394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200" spc="-1" strike="noStrike">
                <a:solidFill>
                  <a:srgbClr val="ffff00"/>
                </a:solidFill>
                <a:latin typeface="Calibri"/>
              </a:rPr>
              <a:t>Entrata in vigore delle nuove norme</a:t>
            </a:r>
            <a:endParaRPr b="0" lang="en-US" sz="32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Le nuove norme valgono per tutti i contratti sottoscritti dopo </a:t>
            </a:r>
            <a:r>
              <a:rPr b="1" lang="it-IT" sz="2400" spc="-1" strike="noStrike">
                <a:solidFill>
                  <a:srgbClr val="ffff00"/>
                </a:solidFill>
                <a:latin typeface="Calibri"/>
              </a:rPr>
              <a:t>il 7 settembre 2010;</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Per quelli già esistenti prima di tale data, è stato necessario inserire </a:t>
            </a:r>
            <a:r>
              <a:rPr b="1" lang="it-IT" sz="2400" spc="-1" strike="noStrike">
                <a:solidFill>
                  <a:srgbClr val="ffff00"/>
                </a:solidFill>
                <a:latin typeface="Calibri"/>
              </a:rPr>
              <a:t>un’apposita clausola </a:t>
            </a:r>
            <a:r>
              <a:rPr b="1" lang="it-IT" sz="2400" spc="-1" strike="noStrike">
                <a:solidFill>
                  <a:srgbClr val="ffffff"/>
                </a:solidFill>
                <a:latin typeface="Calibri"/>
              </a:rPr>
              <a:t>con la quale l’appaltatore, il subappaltatore, il subcontraente si assunsero gli obblighi di tracciabilità dei flussi finanziari previsti dalla </a:t>
            </a:r>
            <a:r>
              <a:rPr b="1" lang="it-IT" sz="2400" spc="-1" strike="noStrike">
                <a:solidFill>
                  <a:srgbClr val="ffff00"/>
                </a:solidFill>
                <a:latin typeface="Calibri"/>
              </a:rPr>
              <a:t>L. n.136/2010. </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Calibri"/>
              </a:rPr>
              <a:t>La mancanza di questa clausola rendeva </a:t>
            </a:r>
            <a:r>
              <a:rPr b="1" lang="it-IT" sz="2400" spc="-1" strike="noStrike">
                <a:solidFill>
                  <a:srgbClr val="ffff00"/>
                </a:solidFill>
                <a:latin typeface="Calibri"/>
              </a:rPr>
              <a:t>nullo il contratto</a:t>
            </a:r>
            <a:r>
              <a:rPr b="1" lang="it-IT" sz="2400" spc="-1" strike="noStrike">
                <a:solidFill>
                  <a:srgbClr val="ffffff"/>
                </a:solidFill>
                <a:latin typeface="Calibri"/>
              </a:rPr>
              <a:t> e in caso di inadempimento si sarebbe avuta la </a:t>
            </a:r>
            <a:r>
              <a:rPr b="1" lang="it-IT" sz="2400" spc="-1" strike="noStrike">
                <a:solidFill>
                  <a:srgbClr val="ffff00"/>
                </a:solidFill>
                <a:latin typeface="Calibri"/>
              </a:rPr>
              <a:t>risoluzione automatica </a:t>
            </a:r>
            <a:r>
              <a:rPr b="1" lang="it-IT" sz="2400" spc="-1" strike="noStrike">
                <a:solidFill>
                  <a:srgbClr val="ffffff"/>
                </a:solidFill>
                <a:latin typeface="Calibri"/>
              </a:rPr>
              <a:t>del contratto.</a:t>
            </a:r>
            <a:endParaRPr b="0" lang="en-US" sz="2400" spc="-1" strike="noStrike">
              <a:solidFill>
                <a:srgbClr val="ffffff"/>
              </a:solidFill>
              <a:latin typeface="Times New Roman"/>
            </a:endParaRPr>
          </a:p>
          <a:p>
            <a:pPr marL="339480" indent="-339480" algn="just">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00"/>
                </a:solidFill>
                <a:latin typeface="Calibri"/>
              </a:rPr>
              <a:t>Il termine </a:t>
            </a:r>
            <a:r>
              <a:rPr b="1" lang="it-IT" sz="2400" spc="-1" strike="noStrike">
                <a:solidFill>
                  <a:srgbClr val="ffffff"/>
                </a:solidFill>
                <a:latin typeface="Calibri"/>
              </a:rPr>
              <a:t>per l’adeguamento dei vecchi contratti è scaduto il </a:t>
            </a:r>
            <a:r>
              <a:rPr b="1" lang="it-IT" sz="2400" spc="-1" strike="noStrike">
                <a:solidFill>
                  <a:srgbClr val="ffff00"/>
                </a:solidFill>
                <a:latin typeface="Calibri"/>
              </a:rPr>
              <a:t>18 giugno 2011</a:t>
            </a:r>
            <a:r>
              <a:rPr b="1" lang="it-IT" sz="2400" spc="-1" strike="noStrike">
                <a:solidFill>
                  <a:srgbClr val="ffffff"/>
                </a:solidFill>
                <a:latin typeface="Calibri"/>
              </a:rPr>
              <a:t> trascorsi, cioè, </a:t>
            </a:r>
            <a:r>
              <a:rPr b="1" lang="it-IT" sz="2400" spc="-1" strike="noStrike">
                <a:solidFill>
                  <a:srgbClr val="ffff00"/>
                </a:solidFill>
                <a:latin typeface="Calibri"/>
              </a:rPr>
              <a:t>180 giorni </a:t>
            </a:r>
            <a:r>
              <a:rPr b="1" lang="it-IT" sz="2400" spc="-1" strike="noStrike">
                <a:solidFill>
                  <a:srgbClr val="ffffff"/>
                </a:solidFill>
                <a:latin typeface="Calibri"/>
              </a:rPr>
              <a:t>dalla data di entrata in vigore della legge di conversione n.217 del 17/12/2010 del D.L. 187/2010. </a:t>
            </a:r>
            <a:endParaRPr b="0" lang="en-US" sz="2400" spc="-1" strike="noStrike">
              <a:solidFill>
                <a:srgbClr val="ffffff"/>
              </a:solidFill>
              <a:latin typeface="Times New Roman"/>
            </a:endParaRPr>
          </a:p>
          <a:p>
            <a:pPr marL="339480" indent="-3394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3" name="Segnaposto numero diapositiva 3"/>
          <p:cNvSpPr/>
          <p:nvPr/>
        </p:nvSpPr>
        <p:spPr>
          <a:xfrm>
            <a:off x="6553080" y="6181560"/>
            <a:ext cx="1903680" cy="590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4303C-E062-477D-A2C8-B0276535693B}" type="slidenum">
              <a:rPr b="0" lang="it-IT" sz="2800" spc="-1" strike="noStrike">
                <a:solidFill>
                  <a:srgbClr val="000000"/>
                </a:solidFill>
                <a:latin typeface="Arial Rounded MT Bold"/>
              </a:rPr>
              <a:t>&lt;number&gt;</a:t>
            </a:fld>
            <a:endParaRPr b="0" lang="en-US" sz="2800" spc="-1" strike="noStrike">
              <a:solidFill>
                <a:srgbClr val="ffffff"/>
              </a:solidFill>
              <a:latin typeface="Arial Rounded MT Bold"/>
            </a:endParaRPr>
          </a:p>
        </p:txBody>
      </p:sp>
      <p:sp>
        <p:nvSpPr>
          <p:cNvPr id="1704" name="PlaceHolder 1"/>
          <p:cNvSpPr>
            <a:spLocks noGrp="1"/>
          </p:cNvSpPr>
          <p:nvPr>
            <p:ph type="title"/>
          </p:nvPr>
        </p:nvSpPr>
        <p:spPr>
          <a:xfrm>
            <a:off x="685800" y="0"/>
            <a:ext cx="7772400" cy="9079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000" spc="-1" strike="noStrike">
                <a:solidFill>
                  <a:srgbClr val="ffcc66"/>
                </a:solidFill>
                <a:latin typeface="Arial"/>
              </a:rPr>
              <a:t>TRACCIABILITÀ - CIG  - CUP </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5" name="Group 1"/>
          <p:cNvGrpSpPr/>
          <p:nvPr/>
        </p:nvGrpSpPr>
        <p:grpSpPr>
          <a:xfrm>
            <a:off x="176040" y="719280"/>
            <a:ext cx="8790120" cy="5802120"/>
            <a:chOff x="176040" y="719280"/>
            <a:chExt cx="8790120" cy="5802120"/>
          </a:xfrm>
        </p:grpSpPr>
        <p:pic>
          <p:nvPicPr>
            <p:cNvPr id="1706" name="Picture 2" descr=""/>
            <p:cNvPicPr/>
            <p:nvPr/>
          </p:nvPicPr>
          <p:blipFill>
            <a:blip r:embed="rId1"/>
            <a:stretch/>
          </p:blipFill>
          <p:spPr>
            <a:xfrm>
              <a:off x="176040" y="719280"/>
              <a:ext cx="8790120" cy="5802120"/>
            </a:xfrm>
            <a:prstGeom prst="rect">
              <a:avLst/>
            </a:prstGeom>
            <a:ln w="0">
              <a:noFill/>
            </a:ln>
          </p:spPr>
        </p:pic>
        <p:sp>
          <p:nvSpPr>
            <p:cNvPr id="1707" name="Text Box 3"/>
            <p:cNvSpPr/>
            <p:nvPr/>
          </p:nvSpPr>
          <p:spPr>
            <a:xfrm>
              <a:off x="176040" y="719280"/>
              <a:ext cx="8790120" cy="580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08"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EDBB7-EA92-4634-85E6-B7F445EC32E8}"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09" name="Text Box 5"/>
          <p:cNvSpPr/>
          <p:nvPr/>
        </p:nvSpPr>
        <p:spPr>
          <a:xfrm>
            <a:off x="685800" y="0"/>
            <a:ext cx="791856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0" name="Group 1"/>
          <p:cNvGrpSpPr/>
          <p:nvPr/>
        </p:nvGrpSpPr>
        <p:grpSpPr>
          <a:xfrm>
            <a:off x="176040" y="762120"/>
            <a:ext cx="8790120" cy="5922720"/>
            <a:chOff x="176040" y="762120"/>
            <a:chExt cx="8790120" cy="5922720"/>
          </a:xfrm>
        </p:grpSpPr>
        <p:pic>
          <p:nvPicPr>
            <p:cNvPr id="1711" name="Picture 2" descr=""/>
            <p:cNvPicPr/>
            <p:nvPr/>
          </p:nvPicPr>
          <p:blipFill>
            <a:blip r:embed="rId1"/>
            <a:stretch/>
          </p:blipFill>
          <p:spPr>
            <a:xfrm>
              <a:off x="176040" y="762120"/>
              <a:ext cx="8790120" cy="5922720"/>
            </a:xfrm>
            <a:prstGeom prst="rect">
              <a:avLst/>
            </a:prstGeom>
            <a:ln w="0">
              <a:noFill/>
            </a:ln>
          </p:spPr>
        </p:pic>
        <p:sp>
          <p:nvSpPr>
            <p:cNvPr id="1712" name="Text Box 3"/>
            <p:cNvSpPr/>
            <p:nvPr/>
          </p:nvSpPr>
          <p:spPr>
            <a:xfrm>
              <a:off x="176040" y="762120"/>
              <a:ext cx="8790120" cy="5922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Rounded MT Bold"/>
              </a:endParaRPr>
            </a:p>
          </p:txBody>
        </p:sp>
      </p:grpSp>
      <p:sp>
        <p:nvSpPr>
          <p:cNvPr id="1713" name="Text Box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CD103-29AC-447C-B22D-CEE0C34FC4C4}" type="slidenum">
              <a:rPr b="0" lang="it-IT" sz="1400" spc="-1" strike="noStrike">
                <a:solidFill>
                  <a:srgbClr val="ffffff"/>
                </a:solidFill>
                <a:latin typeface="Times New Roman"/>
              </a:rPr>
              <a:t>&lt;number&gt;</a:t>
            </a:fld>
            <a:endParaRPr b="0" lang="en-US" sz="1400" spc="-1" strike="noStrike">
              <a:solidFill>
                <a:srgbClr val="ffffff"/>
              </a:solidFill>
              <a:latin typeface="Arial Rounded MT Bold"/>
            </a:endParaRPr>
          </a:p>
        </p:txBody>
      </p:sp>
      <p:sp>
        <p:nvSpPr>
          <p:cNvPr id="1714" name="Text Box 5"/>
          <p:cNvSpPr/>
          <p:nvPr/>
        </p:nvSpPr>
        <p:spPr>
          <a:xfrm>
            <a:off x="685800" y="0"/>
            <a:ext cx="7918560" cy="765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4000" spc="-1" strike="noStrike">
                <a:solidFill>
                  <a:srgbClr val="ffcc66"/>
                </a:solidFill>
                <a:latin typeface="Arial"/>
              </a:rPr>
              <a:t>TRACCIABILITÀ - CIG  - CUP </a:t>
            </a:r>
            <a:endParaRPr b="0" lang="en-US" sz="4000" spc="-1" strike="noStrike">
              <a:solidFill>
                <a:srgbClr val="ffffff"/>
              </a:solidFill>
              <a:latin typeface="Arial Rounded MT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6T13:18:20Z</dcterms:created>
  <dc:creator>Salvatore Gallo</dc:creator>
  <dc:description/>
  <dc:language>en-US</dc:language>
  <cp:lastModifiedBy>Satorlex</cp:lastModifiedBy>
  <dcterms:modified xsi:type="dcterms:W3CDTF">2011-12-29T18:12:49Z</dcterms:modified>
  <cp:revision>814</cp:revision>
  <dc:subject/>
  <dc:title>Codice contratti pubblici DURC-CIG-CUP </dc:title>
</cp:coreProperties>
</file>