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0B64-E1F6-4820-8962-5580E3A8BCA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609F-CF65-43B9-8DCA-27FD1D393C63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832-95BF-4EAC-AE8E-F5F8760C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0E5-531B-4D96-9C47-945AFC68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03E-A84C-488A-A648-43D7F3EE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214-BB07-41A5-89B1-31C10837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BFD-9EAF-44D5-B731-824CA130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F50-234E-482B-A538-4EBE0D46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787-B907-4193-A4E1-6929EB9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AFB-DC5B-4822-9669-22B0D99E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BCD-718D-49D1-AAF6-38C1A606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3BE-A73B-4ADC-86E6-D64BA995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D0A-9D15-440A-AFF1-560ED296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070-0C3D-498E-B444-E85987C4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F514-47D2-4DBC-AC51-0BC538EFC28E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AVCPASS: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Rivoluzione Informatica, gestione dei documenti e controllo dei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requisiti nelle gare di appal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lberto Barbie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Ripresa degli appalti pubbli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Milano – 25 ottobre 20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li documenti l’AVCPAss fornisce alla S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Mediante l’AVCPass la SA ottiene i documenti comprovanti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la maggior parte dei requisiti di ordine generale (visura Camera Commercio, casellario completo, ecc.)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i requisiti di capacità economica (bilanci, fatturati) e la maggior parte dei requisiti di capacità tecnica (numero dipendenti, ecc.)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00D0-CB37-4230-B244-E6171BD733DA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Criticità su alcuni document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Relativamente alle attestazioni bancarie (se richieste come requisito di capacità economica) la deliberazione AVCP n. 111/2012 non fornisce alcuna indicazione in ordine alle modalità di inserimento nell’AVCPass e risulta prevalente la previsione dell’art. 41 del Codice che ne richiede la presentazione in origina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146C-0EC0-4483-870A-EDABE43F5BD2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Come l’OE accede all’AVCPass/ 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OE deve registrarsi nel sistema AVCPass (profilazion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accesso al sistema è quindi consentito mediante l’indicazione del CIG relativo alla gara/lotto alla quale l’OE intende partecip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sistema guida l’OE nell’introduzione dei documenti (mediante semplice allegazion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B42E-B153-4259-B36D-9D52DFF177BC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Come l’OE accede all’AVCPass/ 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Una volta completate le operazioni di inserimento dei documenti comprovanti i requisiti richiesti, l’OE ottiene dal sistema AVCPass un documento di sintesi, il PASSO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PASSOE deve essere allegato alla documentazione amministrativa connessa all’istanza di partecipazione alla ga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8F8C-F395-4116-B091-5F151581D584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Criticità particolar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inserimento dei documenti da parte dell’OE può avvenire solo sino al termine di scadenza delle offer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a mancata allegazione del PASSOE non è individuata come causa di esclusione nella deliberazione AVCP 111/2012 e nei bandi-tipo dell’AVCP, quindi un’eventuale esclusione può essere oggetto di ricors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DFE2-BDBC-43E9-80CC-19D227989051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ndo la SA utilizza l’AVCPa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a stazione appaltante è tenuta ad utilizzare l’AVCPass per la verifica dei requisit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in corso di gara, per i controlli ex art. 48 e per i controlli (a campione) delle dichiarazioni ex art. 38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post aggiudicazione, in relazione all’efficacia della stessa e per la stipulazione del contrat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1539-F6E7-4D1A-AD48-02A6B1CF0183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Possibili problematiche transitori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e la SA necessita di elementi integrativi (ex art. 46, comma 1 Codice) rispetto ai  documenti presentati da OE, deve operare una richiesta che non può essere gestita mediante il sistema AVCPass, ma che sarà gestita mediante comunicazioni via PE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 caso di esclusioni in gara, è probabile che le comunicazioni di esclusione siano inoltrate via PEC (attenzione ad attestazione di ricevuta !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9280-0627-4FFB-8CE9-597004464A42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Problematiche relative all’accesso ai document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Qualora un OE concorrente alla gara intenda acquisire  mediante diritto di accesso “breve” (art. 79) documenti inerenti i requisiti, deve rivolgere l’istanza alla S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 documenti saranno forniti come documenti informatici (copia) o come copie analogiche di documenti informatic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FDCB-15B9-4338-9570-E2A82160EBFC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Problematiche AVCPAss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l sistema AVCPass non è attualmente utilizzabile per verificare i requisiti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delle procedure di affidamento diretto entro i 40.000 euro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delle procedure gestite mediante il MEP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 SA devono essere molto precise nella descrizione dei documenti da presentar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1FDB-34EF-4A77-BFC2-2BFBE6A01A1A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I riferimenti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Codice di contratti pubblici (art. 6-bis e art. 48) prevede ch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il controllo dei requisiti di ordine generale (riscontro dichiarazioni)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il controllo dei requisiti di capacità (economica e tecnica) degli operatori concorrenti alle gare sia effettuato mediante la Banca Dati Nazionale dei Contratti Pubblici (BDNCP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195D-9DF3-42E8-9E93-2752CEDE57EA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A cosa serve l’AVCP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AVCPass è il sistema (informatico) che consen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alle Stazioni Appaltanti (SA) di accedere alla BDNCP per verificare il possesso dei requisiti da parte degli operatori economici (OE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agli OE di inserire i documenti comprovanti il possesso dei requisiti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418B-1A72-4638-AF52-27FEE5EAC61C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Le regole dell’AVCP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L’AVCPass è disciplinato dalla deliberazione AVCP n. 111 del 20 dicembre 2012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La deliberazione prevede che inizialmente l’AVCPass sia utilizzato per tutti gli appalti, fatta eccezione per gli affidamenti entro i 40.000 euro e per le procedure mediante MEPA (prefigurando una regolamentazione successiva)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9726-0AD4-4725-B939-302EA654B801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I tempi di operatività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a BDNCP deve essere utilizzata per il controllo di tutti i requisiti a partire dal 23 novembre 2013 (art. 49-ter legge n. 98/2013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AVCP aveva previsto l’operatività effettiva del sistema AVCPASS dal 1° gennaio 2014 (Comunicato Pres. AVCP 12 giugno 2013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d oggi non risulta formalizzata un’interpretazione AVCP di coordinamento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A45F-8C08-4CE9-8853-5705D4EC2BBF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Per quali requisiti serve AVCPa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L’AVCPass non è utilizzabile (secondo quanto previsto dalla deliberazione AVCP 111/2012) per il controllo di tutte le tipologie di requisiti di ordine generale (alcuni documenti devono essere acquisiti autonomamente dalla SA)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Per i requisiti di capacità particolari la SA deve precisare quali documenti l’OE deve inserire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7014-267D-471B-B3AF-25C802B26DFC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Cosa serve all’OE per entrare nell’AVCPa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OE deve disporre di una casella di posta elettronica certificata (PEC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per l’amministratore/legale rappresentant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per un operatore delegat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OE deve disporre di una firma digitale, con la quale firmare i documenti da inserire nell’AVCPA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5477-A4DA-42E3-9B74-48C84E3967C7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li documenti inserire nell’AVCPass /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OE deve inserire nell’AVCPass i documenti relativi ai requisiti “ulteriori” di capacità economica o di capacità tecnico-professional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OE deve analizzare il bando/disciplinare di gara e verificare se questo specifica i documenti da inserire in relazione ai requisiti particolari (chiedendo eventuali chiarimenti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0846-8345-45AA-94E3-72D215014654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li documenti inserire nell’AVCPass / 2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OE deve inserire nell’AVCPass </a:t>
            </a:r>
            <a:r>
              <a:rPr b="0" lang="it-IT" sz="3000" spc="-1" strike="noStrike" u="sng">
                <a:solidFill>
                  <a:srgbClr val="000000"/>
                </a:solidFill>
                <a:uFillTx/>
                <a:latin typeface="Verdana"/>
              </a:rPr>
              <a:t>in via transitoria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 documenti relativi ai servizi o alle forniture precedentemente prestati: attestazioni, certificazioni o, in alternativa, contratto, CIG e fattur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’ opportuno che l’OE richieda chiarimenti sulle modalità di attestazione dei servizi o delle forniture prestati per soggetti privati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B2D9-5B4A-4006-8DB9-D4D779D3B10E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20:00:54Z</dcterms:created>
  <dc:creator>Alberto Barbiero</dc:creator>
  <dc:description/>
  <dc:language>en-US</dc:language>
  <cp:lastModifiedBy>santolini.l</cp:lastModifiedBy>
  <dcterms:modified xsi:type="dcterms:W3CDTF">2014-01-22T08:21:09Z</dcterms:modified>
  <cp:revision>14</cp:revision>
  <dc:subject/>
  <dc:title>AVCPASS: Rivoluzione Informatica, gestione dei documenti e controllo dei requisiti nelle gare di appalto.</dc:title>
</cp:coreProperties>
</file>