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BF8-6259-4C1F-BAA0-9834C8D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B15-E9C7-4738-AA8B-DA909F48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AB5-701D-472D-B433-11D38497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5DA-4C6E-4E10-BE0F-5958A245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D97-4EFF-49EA-BCCC-FCC4FC7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4E52-7E22-4C2E-BA32-9C9139C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8CDF-F779-4031-9728-7D80A24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F4C-4CA0-4566-91E4-646A9F83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A8AC-92AB-4A25-8308-733150C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086-F8C6-48D4-BBDB-181033C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3B25-98EA-41DB-A6D9-5515F3AF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D6B-E73F-4D63-823A-BCAA41FD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B442-0DCB-4CF0-95CE-330FAA24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22A-3DF7-4661-8375-B25622D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8361-D944-45BC-B893-0FE418F1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1D7A-BAAC-404B-91BE-4EBF265B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9A5-35F1-4B54-9A68-D855A0CB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C46-A66F-4DF9-AAF4-541DA6E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3A3-0D12-4642-A909-2ED2992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32F-82DB-47DA-A272-1D6779E2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4E1-C7CB-4B63-B587-DEB3E4A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F8D-3F4E-471B-9792-023CF9F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D40-23B7-4A7C-AA15-3CF5F89E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8B0-6FB1-43D1-BEB5-AA8B7C3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45A-D764-4AED-9259-CDA29A70A6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A3A-457B-4108-9518-BD2AC1BE3C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QUANDO I REQUISITI NON SONO SUFFICIENTI PER L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PARTECIPAZIONE ALLE GARE, SI PUO’ RICORRERE ALLE A.T.I. </a:t>
            </a: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   (art. 37) OPPURE ALL’AVVALIMENTO (art. 49 D.Lgs.n. 163/2006)</a:t>
            </a:r>
            <a:r>
              <a:rPr b="0" lang="it-IT" sz="2800" spc="-1" strike="noStrike">
                <a:solidFill>
                  <a:srgbClr val="330033"/>
                </a:solidFill>
                <a:latin typeface="Tahoma"/>
              </a:rPr>
              <a:t>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vv. Andrea Stefane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B761-C8A2-4FAE-AE30-797ED14CFC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1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III° decreto corret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OGG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) contiene oo./b./s. elevato contenuto tecnologico/complessiva tec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o./b./s. &gt; 15% tot. app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ubappalto (art. 118, c. 2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zione appaltante paga direttamente subappalt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500280"/>
            <a:ext cx="12254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5B9-E10B-4095-AD30-4481713F7A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tore economico invitato INDIVIDU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o presentare offe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sè o quale mandatario di operatori riuni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2D0-C87D-48C1-973F-F50466AB1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3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ESEGUIRE le PERCENTUALI corrispondenti alle QUOTE di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F22-2365-4472-9D68-CFDE24ED91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“MANCATE RIFORME” DEL CODIC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e00"/>
                </a:solidFill>
                <a:uFillTx/>
                <a:latin typeface="Tahoma"/>
              </a:rPr>
              <a:t>Mancanza corrispondenza fra requisiti - proporzionalità quota – 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Modificabilità composizione a.t.i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Principio di massima concorrenzialità ed anti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O previsione esplicita a.t.i. m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fideiussione a.t.i. costituende (Ad.Plen. CdS 4/10/2005 n. 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anomalia offerte a.t.i. costituende (CdS 29/11/2005, n. 677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soggettiv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possesso alcuni requisiti (vds. QUALITA’, iscrizione Albi reg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oggettive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43640" y="494172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5157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8FA-760D-47C2-B759-90FCF10EA6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4 = associati/ndi conferiscono MANDATO collettivo CON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5 =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ANDA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 scrittura privata aute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PROCU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capo al L.R.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DATO gratuito ed IRREVOCAB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e revoca NO effetti nei confronti Stazione Appal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6 = Rappresentanza processuale ESCLU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A. può far valere direttamente Responsabilità in capo singole Mand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8 = Fallimento Mandatario          S.A. prosegue altro mandante (diventa CAPOGRUPP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9 = Fallimento Mandante            Capogruppo indica sostituto mandante o subentra esecuz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F1B-F0C8-4344-8366-C52C48924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CODICE CIVIL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MAN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3 c.c</a:t>
            </a:r>
            <a:r>
              <a:rPr b="0" lang="it-IT" sz="14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atto con cui parte si obbliga a COMPIERE ATTI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per CO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 ALTR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4 c.c. (rappresentanza) 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tere di agire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IN NO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ltre che “per conto”) m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5 (SENZA rappresentanza) = il mandatario ag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nome proprio; I terzi non hanno alcun rapporto con il mand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C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7 c.c. (Procura) = Potere di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8 c.c.= contratto concluso dal Rappresentante (mandat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IN NOME E PER CO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appresentato (mandante) produ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irettam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ffetti nei confronti del Rappres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1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63280" y="5516640"/>
            <a:ext cx="352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6E4-3EDF-4A32-81A1-1DB2803F4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Direttiva 2004/18/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al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disporrà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2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tecniche e profession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per l’esecuzione del contra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rrà del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3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irewall"/>
          <p:cNvSpPr/>
          <p:nvPr/>
        </p:nvSpPr>
        <p:spPr>
          <a:xfrm>
            <a:off x="1979640" y="2060640"/>
            <a:ext cx="1152360" cy="7603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51280" y="2133720"/>
            <a:ext cx="1368000" cy="590400"/>
            <a:chOff x="3851280" y="2133720"/>
            <a:chExt cx="1368000" cy="590400"/>
          </a:xfrm>
        </p:grpSpPr>
        <p:sp>
          <p:nvSpPr>
            <p:cNvPr id="185" name="Gear"/>
            <p:cNvSpPr/>
            <p:nvPr/>
          </p:nvSpPr>
          <p:spPr>
            <a:xfrm>
              <a:off x="4609800" y="2133720"/>
              <a:ext cx="609480" cy="27072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2245320"/>
              <a:ext cx="729000" cy="323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3960" y="2364480"/>
              <a:ext cx="810360" cy="359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hoto"/>
          <p:cNvSpPr/>
          <p:nvPr/>
        </p:nvSpPr>
        <p:spPr>
          <a:xfrm>
            <a:off x="6443640" y="2205000"/>
            <a:ext cx="1152720" cy="64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A2C-A746-46EA-B507-539CB55937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----------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di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donee dichiarazioni bancari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comma 1° lett.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(a dimostrare)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----------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ilanci ed estratti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fatturato globale o di settor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tecniche e professionali” ----------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i lavori eseguiti (comma 2°, lett. a,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lle forniture/servizi (lett. a, ii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ecnici (comma 2° lett.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attrezzature (comma 2° lett.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itoli studio (comma 2° lett.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organico (comma 2° lett.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56000" y="2276640"/>
            <a:ext cx="649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637000"/>
            <a:ext cx="50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67280" y="4076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6728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465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4653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65300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653000"/>
            <a:ext cx="93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524-C131-43EB-8D3F-30F0DA025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n quale strumento giurid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ttera di patro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formance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Capacità economico/fina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dichiarazioni bancarie, bilanci, fatturati)                      Contratto autonomo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i 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prelimin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condizi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1916280"/>
            <a:ext cx="792360" cy="2952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53006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53737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C42-7B0F-41CC-A0B4-3A40524F65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ontinu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to di l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odato, ven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lo (a cal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pacità tecnico/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lenco lavori/forniture/servizi, indicazio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contratti a pro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cnici e titolo studio, elenco attrezza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co medio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subappalto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’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060640"/>
            <a:ext cx="1187280" cy="2879640"/>
          </a:xfrm>
          <a:custGeom>
            <a:avLst/>
            <a:gdLst>
              <a:gd name="textAreaLeft" fmla="*/ 758520 w 1187280"/>
              <a:gd name="textAreaRight" fmla="*/ 1187280 w 11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37F-8400-4CB4-B999-ED5A3917E1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ahoma"/>
              </a:rPr>
              <a:t>A.T.I. 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(art. 37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1341360"/>
            <a:ext cx="7704000" cy="4462560"/>
            <a:chOff x="900000" y="1341360"/>
            <a:chExt cx="7704000" cy="4462560"/>
          </a:xfrm>
        </p:grpSpPr>
        <p:cxnSp>
          <p:nvCxnSpPr>
            <p:cNvPr id="101" name="_s73216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4804560" y="3071160"/>
              <a:ext cx="893160" cy="1001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32166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5802480" y="2073240"/>
              <a:ext cx="893160" cy="2997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732167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805920" y="3073320"/>
              <a:ext cx="893160" cy="997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32168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808000" y="2075400"/>
              <a:ext cx="893160" cy="2993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32169"/>
            <p:cNvSpPr/>
            <p:nvPr/>
          </p:nvSpPr>
          <p:spPr>
            <a:xfrm>
              <a:off x="3894840" y="134136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rt. 3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Codice Contratti Pubbli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32170"/>
            <p:cNvSpPr/>
            <p:nvPr/>
          </p:nvSpPr>
          <p:spPr>
            <a:xfrm>
              <a:off x="90000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PERE PUBBL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Art. 13 L.n. 109/94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19, commi 3, 4 L.n. 55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93 e 95 d.P.R. n. 554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732171"/>
            <p:cNvSpPr/>
            <p:nvPr/>
          </p:nvSpPr>
          <p:spPr>
            <a:xfrm>
              <a:off x="289764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ffffe1"/>
                  </a:solidFill>
                  <a:uFillTx/>
                  <a:latin typeface="Arial"/>
                </a:rPr>
                <a:t>FORNITURE PUBBL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e1"/>
                  </a:solidFill>
                  <a:latin typeface="Arial"/>
                </a:rPr>
                <a:t>Art. 10 D.Lgs.n. 358/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32172"/>
            <p:cNvSpPr/>
            <p:nvPr/>
          </p:nvSpPr>
          <p:spPr>
            <a:xfrm>
              <a:off x="689148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TTORI ESCLU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23 D.Lgs. N. 158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732173"/>
            <p:cNvSpPr/>
            <p:nvPr/>
          </p:nvSpPr>
          <p:spPr>
            <a:xfrm>
              <a:off x="4895640" y="4019040"/>
              <a:ext cx="1710000" cy="1784880"/>
            </a:xfrm>
            <a:custGeom>
              <a:avLst/>
              <a:gdLst>
                <a:gd name="textAreaLeft" fmla="*/ 83160 w 1710000"/>
                <a:gd name="textAreaRight" fmla="*/ 1626840 w 1710000"/>
                <a:gd name="textAreaTop" fmla="*/ 83160 h 1784880"/>
                <a:gd name="textAreaBottom" fmla="*/ 1701720 h 1784880"/>
              </a:gdLst>
              <a:ahLst/>
              <a:rect l="textAreaLeft" t="textAreaTop" r="textAreaRight" b="textAreaBottom"/>
              <a:pathLst>
                <a:path w="21600" h="22546">
                  <a:moveTo>
                    <a:pt x="3600" y="0"/>
                  </a:moveTo>
                  <a:arcTo wR="3600" hR="3600" stAng="16200000" swAng="-5400000"/>
                  <a:lnTo>
                    <a:pt x="0" y="18946"/>
                  </a:lnTo>
                  <a:arcTo wR="3600" hR="3600" stAng="10800000" swAng="-5400000"/>
                  <a:lnTo>
                    <a:pt x="18000" y="22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RVIZI PUBBL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11 D.Lgs. N. 157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0DC-9FC6-43D1-8C07-C0477E773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 </a:t>
            </a:r>
            <a:r>
              <a:rPr b="0" lang="it-IT" sz="1900" spc="-1" strike="noStrike">
                <a:solidFill>
                  <a:srgbClr val="330033"/>
                </a:solidFill>
                <a:latin typeface="Tahoma"/>
              </a:rPr>
              <a:t>(artt. 49-50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con indicazione requisiti ed ausilia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possesso requisiti ordine generale (art. 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originale o copia autentic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contrat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nel caso di gruppo)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legame giurid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siliaria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per messa disposizione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inuncia partecipazione gara né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sponsabilità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 solid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corrente/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zioni Appalt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rt. 6 (comma 9, lett. a)  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Tahoma"/>
              </a:rPr>
              <a:t>Autorità Vigilanz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uò chiedere      Operatori Economic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ocumenti / Informazioni  (CONTRATTI AVVALI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20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141720"/>
            <a:ext cx="225720" cy="914400"/>
          </a:xfrm>
          <a:custGeom>
            <a:avLst/>
            <a:gdLst>
              <a:gd name="textAreaLeft" fmla="*/ 144360 w 225720"/>
              <a:gd name="textAreaRight" fmla="*/ 226080 w 225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213000"/>
            <a:ext cx="74880" cy="662040"/>
          </a:xfrm>
          <a:custGeom>
            <a:avLst/>
            <a:gdLst>
              <a:gd name="textAreaLeft" fmla="*/ 47880 w 74880"/>
              <a:gd name="textAreaRight" fmla="*/ 75240 w 74880"/>
              <a:gd name="textAreaTop" fmla="*/ 16920 h 662040"/>
              <a:gd name="textAreaBottom" fmla="*/ 64512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9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461-797A-40D8-9102-F725581D6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g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ammettere avvalimento + imprese (diversamente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ex leg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1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ma solo OO.PP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solo a requisiti tecnici o solo economici (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ora NO III° correttiv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prevedere possibile di mero completamento e non d’avvalimento tot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per particolari attrezzature)  fissare limite massimo d’avvalimento per ausiliari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corrente                              concorren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O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concorrente                     AUSILIARIA                   concorre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692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21300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364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563640" y="4724280"/>
            <a:ext cx="576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03640" y="472428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4D9-A579-4A04-A2C1-2409B17DB6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NOVITA’ DEL CODICE            </a:t>
            </a:r>
            <a:r>
              <a:rPr b="0" lang="en-US" sz="2200" spc="-1" strike="noStrike">
                <a:solidFill>
                  <a:srgbClr val="330033"/>
                </a:solidFill>
                <a:latin typeface="Tahoma"/>
              </a:rPr>
              <a:t>    </a:t>
            </a:r>
            <a:br>
              <a:rPr sz="2200"/>
            </a:b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er forniture/serviz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2°   definizione a.t.i. verticale ed orizzont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4°   indicazione quote d’esecuzione servizi/forn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5°   quota offerta = quota responsabilità S.A./subappal./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7°   divieto di “doppia” parteci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8°   facoltà di partecipazione successiva all’inv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9°   divieto modificazione componenti a.t.i. rispetto 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0°  annullamento aggiudicazione e nullità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1°  SI subappalto attività complesse valore &gt;15%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(3° 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2°  singolo partecipante può unirsi prima dell’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3°  corrispondenza fra quota partecipazione e 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DF4-BE5C-4420-97E3-D1F9AE1DF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prestazioni B/S indicate PRINCIPA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che in termini economic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prestazioni B/S indicate SECONDA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A. nel  BANDO quali prestazioni PRINCIPALI e quali SECONDAR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ZZON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stesse pres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0C3-2AAC-44BD-A78E-C0250656A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4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specificare PARTI servizio/fornitura che saranno ESEGUITE dai singoli assoc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BE9-FE59-408D-A7F7-54F1AAAC9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5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e00"/>
                </a:solidFill>
                <a:latin typeface="Arial"/>
              </a:rPr>
              <a:t>quota OFFER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6666ff"/>
                </a:solidFill>
                <a:latin typeface="Arial"/>
              </a:rPr>
              <a:t>quota RESPONSAB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del Subappalt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PRINCIPALI (=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MANDATAR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Responsabilit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IN SO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SECONDARIE (=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MANDA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  Responsabilita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IN LI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DELL’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504-1901-48C6-8261-3B7EA9F15D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7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si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in a.t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al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partecipazione                       a.t.i.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g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79640" y="2852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65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4149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65300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772-A307-4981-B79F-D4E1CB55C1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8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artecipazion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ttoscrizione Offerta da parte di TUTTI associ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TESSI dovranno costituire A.T.I.                  FIRMARE contr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59280" y="249228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924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5013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000" y="4149720"/>
            <a:ext cx="453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D0D-6F5C-4497-A993-4AD3CF00A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9-10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IET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ualsia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ODIFIC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MPOSI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’a.t.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h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IRM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OFF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viol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nullamento aggiudicazione                                           Nullita’ contra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2924280"/>
            <a:ext cx="485640" cy="723960"/>
          </a:xfrm>
          <a:prstGeom prst="downArrow">
            <a:avLst>
              <a:gd name="adj1" fmla="val 50000"/>
              <a:gd name="adj2" fmla="val 372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4724280"/>
            <a:ext cx="20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24280"/>
            <a:ext cx="18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9CA-FEB9-474E-B1E5-DBA87485E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31:12Z</dcterms:created>
  <dc:creator>Avv. Andrea Stefanelli</dc:creator>
  <dc:description/>
  <dc:language>en-US</dc:language>
  <cp:lastModifiedBy>Avv. Andrea Stefanelli</cp:lastModifiedBy>
  <dcterms:modified xsi:type="dcterms:W3CDTF">2009-06-29T08:40:53Z</dcterms:modified>
  <cp:revision>324</cp:revision>
  <dc:subject/>
  <dc:title>Congresso sugli appalti</dc:title>
</cp:coreProperties>
</file>